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7640" y="0"/>
            <a:ext cx="2874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960480" y="769680"/>
            <a:ext cx="4921200" cy="369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0a7cc"/>
                </a:solidFill>
                <a:latin typeface="Arial Unicode MS"/>
              </a:rPr>
              <a:t>Click to move the slide</a:t>
            </a: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3"/>
          </p:nvPr>
        </p:nvSpPr>
        <p:spPr>
          <a:xfrm>
            <a:off x="0" y="9459720"/>
            <a:ext cx="295416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4"/>
          </p:nvPr>
        </p:nvSpPr>
        <p:spPr>
          <a:xfrm>
            <a:off x="3887640" y="9459720"/>
            <a:ext cx="287496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258F4BE-5012-4B8D-8B8D-F422BBF7D18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body"/>
          </p:nvPr>
        </p:nvSpPr>
        <p:spPr>
          <a:xfrm>
            <a:off x="679680" y="4714200"/>
            <a:ext cx="54370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Segnaposto numero diapositiva 3"/>
          <p:cNvSpPr/>
          <p:nvPr/>
        </p:nvSpPr>
        <p:spPr>
          <a:xfrm>
            <a:off x="3887640" y="9460080"/>
            <a:ext cx="2874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C3D0D2-82DB-42C0-98D3-8E9C3B9C9A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E0C-B3A8-4E10-BEC2-74F7499A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9D2-12AA-42B4-B215-AEA5AC7D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36C-B71F-4DD9-B7DB-39C3AEEE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299-546E-40FA-A371-AA1CC8C1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D280-A1C0-4E04-82AC-4FA5C397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C4E5-F105-4E1D-93F2-A901A209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5099-C22F-4E9C-8684-1AA62C6F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E726-5B7A-4338-88A9-EA833579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2780-4DB8-4BA4-92CE-CD37089C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6DF7-E3A7-4B84-A0DB-CDBBB821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D5E7-68A8-4241-92FC-828C3AA1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8C2-F477-4C68-96B9-99B3586C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D6A0-1F18-433D-80A5-49C75F3A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E61A-76F0-4228-A033-E0FA1A24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7CA3-D3EF-4D67-9D12-E736A5A6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0BFC-3A32-4B79-91BD-F58D6232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37EB-7F44-4691-8691-274E1926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ABC-6D03-4DF1-A2E4-27F7DF44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535B68-EAD5-4D63-97CB-3495D814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C8F18C-CE5A-493A-8FBF-596B56B7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34CF4-6CE0-4E89-8F88-38BE9203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F16-75F6-4DF4-A050-5CC2EDAE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7EC87-34E7-4CD6-8836-B02177E1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6E0B5-0886-4D5A-8FD6-08CC8B91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459669-167A-48AC-BF9C-96A7F701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B4E1B-E0BE-4131-974A-2A5CFADC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B1D054-7269-408F-A4F5-6EEA1AB6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1B6852-D8BF-463E-BC14-E4506577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065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389EF-84C7-4616-9AC5-F265281F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DB176-C19A-4053-A0C8-9580C75A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916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065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5A8E0-CCF5-46DB-9D0C-19FB612A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3B4-0BB4-4CFF-86B1-084C3CBD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3BD-073B-4BBF-83F1-E7D78352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070-A149-444C-9848-D47FBF71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65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50F-895B-47CA-A0FE-804A2544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16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65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00B-DC5E-4BD4-AB0C-4240B406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0a7cc"/>
                </a:solidFill>
                <a:latin typeface="Arial Unicode MS"/>
              </a:rPr>
              <a:t>Click to edit the title text format</a:t>
            </a: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c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Accordo di Programma per lo Sviluppo Economico e la Competitività del Sistema Lombar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6B75-5821-4CFB-913E-31E2A34EE15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4" descr="unioncamere Logo x web e documenti"/>
          <p:cNvPicPr/>
          <p:nvPr/>
        </p:nvPicPr>
        <p:blipFill>
          <a:blip r:embed="rId2"/>
          <a:stretch/>
        </p:blipFill>
        <p:spPr>
          <a:xfrm>
            <a:off x="684360" y="6208560"/>
            <a:ext cx="14763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3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>
                <a:gd name="textAreaLeft" fmla="*/ 0 w 2903400"/>
                <a:gd name="textAreaRight" fmla="*/ 2903760 w 29034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4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5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>
                <a:gd name="textAreaLeft" fmla="*/ 0 w 2904840"/>
                <a:gd name="textAreaRight" fmla="*/ 2905200 w 2904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6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pic>
        <p:nvPicPr>
          <p:cNvPr id="47" name="Picture 13" descr=""/>
          <p:cNvPicPr/>
          <p:nvPr/>
        </p:nvPicPr>
        <p:blipFill>
          <a:blip r:embed="rId2"/>
          <a:stretch/>
        </p:blipFill>
        <p:spPr>
          <a:xfrm>
            <a:off x="7236000" y="476280"/>
            <a:ext cx="158400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14"/>
          <p:cNvGraphicFramePr/>
          <p:nvPr/>
        </p:nvGraphicFramePr>
        <p:xfrm>
          <a:off x="6789600" y="5734080"/>
          <a:ext cx="2030400" cy="9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9600" y="5734080"/>
                    <a:ext cx="20304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0a7cc"/>
                </a:solidFill>
                <a:latin typeface="Arial Unicode MS"/>
              </a:rPr>
              <a:t>Click to edit the title text format</a:t>
            </a: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c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Accordo di Programma per lo Sviluppo Economico e la Competitività del Sistema Lombar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2B83-60EC-4C64-8FD7-EBDACA8A242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4" descr="unioncamere Logo x web e documenti"/>
          <p:cNvPicPr/>
          <p:nvPr/>
        </p:nvPicPr>
        <p:blipFill>
          <a:blip r:embed="rId2"/>
          <a:stretch/>
        </p:blipFill>
        <p:spPr>
          <a:xfrm>
            <a:off x="684360" y="6208560"/>
            <a:ext cx="147636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0a7cc"/>
                </a:solidFill>
                <a:latin typeface="Arial Unicode MS"/>
              </a:rPr>
              <a:t>Click to edit the title text format</a:t>
            </a: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c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Accordo di Programma per lo Sviluppo Economico e la Competitività del Sistema Lombar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4" descr="unioncamere Logo x web e documenti"/>
          <p:cNvPicPr/>
          <p:nvPr/>
        </p:nvPicPr>
        <p:blipFill>
          <a:blip r:embed="rId2"/>
          <a:stretch/>
        </p:blipFill>
        <p:spPr>
          <a:xfrm>
            <a:off x="684360" y="6208560"/>
            <a:ext cx="1476360" cy="533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0a7cc"/>
                </a:solidFill>
                <a:latin typeface="Arial Unicode MS"/>
              </a:rPr>
              <a:t>Click to edit the title text format</a:t>
            </a:r>
            <a:endParaRPr b="0" i="1" lang="en-US" sz="4400" spc="-1" strike="noStrike">
              <a:solidFill>
                <a:srgbClr val="40a7cc"/>
              </a:solidFill>
              <a:latin typeface="Arial Unicode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0676-3E1A-46E1-9574-7FFB22A99DB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411280" y="6308640"/>
            <a:ext cx="58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71680" y="121428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539640" y="333360"/>
            <a:ext cx="8136000" cy="5335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Asse 1: Bando Voucher innovazione 2011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71680" y="1378800"/>
            <a:ext cx="81435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Stato avanzamen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bando voucher ricerca e innovazione e contributi per processi di brevettazion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” tot. 6.000.00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Verdana"/>
                <a:ea typeface="Calibri"/>
              </a:rPr>
              <a:t>Utilizzate l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’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Verdana"/>
                <a:ea typeface="Calibri"/>
              </a:rPr>
              <a:t>81%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(pari 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€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. 4.619.500) delle risorse stanziate (pari 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€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. 5.700.000) per le misur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A1: rilevazione della domanda di innovazione (11%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A2: sviluppo offerta di conoscenza (11%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B: analisi economico finanziaria per imprese neo costituite (1%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D: check up economico finanziari (44%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E1: capitale umano qualificat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 ricercatore ( 10%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E2: capitale umano qualificat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 Temporary Manager ( 19%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E2: capitale umano qualificato per micro impres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 T.M. ( 2%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Verdana"/>
                <a:ea typeface="Calibri"/>
              </a:rPr>
              <a:t>Utilizzate il 75%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Verdana"/>
                <a:ea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(pari 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€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. 224.000) delle risorse stanziate (pari 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€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.300.000) per la misura C - 7° PQ in capo a Regione Lombardia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C1:coordinamento progetti comunitari (54%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Calibri"/>
              </a:rPr>
              <a:t>C2: inserimento di aziende come partner di consorzi (46%)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Verdana"/>
                <a:ea typeface="Calibri"/>
              </a:rPr>
              <a:t>Totale voucher assegnati 1.008 per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€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Verdana"/>
                <a:ea typeface="Calibri"/>
              </a:rPr>
              <a:t>. 4.843.50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411280" y="6308640"/>
            <a:ext cx="58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260280"/>
            <a:ext cx="8136000" cy="5335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Unicode MS"/>
              </a:rPr>
              <a:t>Asse 1 – tabella riepilogativa dei c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CasellaDiTesto 5"/>
          <p:cNvSpPr/>
          <p:nvPr/>
        </p:nvSpPr>
        <p:spPr>
          <a:xfrm>
            <a:off x="642960" y="7142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8" name="Picture 63" descr=""/>
          <p:cNvPicPr/>
          <p:nvPr/>
        </p:nvPicPr>
        <p:blipFill>
          <a:blip r:embed="rId1"/>
          <a:stretch/>
        </p:blipFill>
        <p:spPr>
          <a:xfrm>
            <a:off x="142920" y="714240"/>
            <a:ext cx="87868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6T07:30:04Z</dcterms:created>
  <dc:creator>Zucchetti Roberto</dc:creator>
  <dc:description/>
  <dc:language>en-US</dc:language>
  <cp:lastModifiedBy>mottadelli</cp:lastModifiedBy>
  <cp:lastPrinted>2002-05-17T10:42:05Z</cp:lastPrinted>
  <dcterms:modified xsi:type="dcterms:W3CDTF">2011-12-05T08:18:49Z</dcterms:modified>
  <cp:revision>377</cp:revision>
  <dc:subject/>
  <dc:title>Nessun titolo diapositiva</dc:title>
</cp:coreProperties>
</file>