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818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5B9-3B67-405D-9DB4-601EB0DA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D40-DF53-4D97-B652-4FFBEC25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209-A075-425D-A87A-2C3B8396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45B-DBD1-44C4-BE89-40EA2FD9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173-68D5-4F9E-93C3-7D78D19B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0CB-A638-4478-8AE4-8606779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521-4D7D-40D2-9B45-5CAFABB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7E8-683C-479F-B00D-A815281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C0F-3049-4642-BFF8-6E974E9C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97C-DAD4-4260-9D8B-5378A93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3D0-AFF8-401B-92EC-80652244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FF7-AFC0-465D-86E5-FFEE3B1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1113-C991-4786-B43C-166C045F78F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3080" y="115560"/>
            <a:ext cx="8929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it-IT" sz="3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IL NUOVO CODICE DELL’AMMINISTRAZIONE DIGITALE – CAD E LE SUE APPLICAZIONI AI PROCESSI CAMER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d0d0d"/>
                </a:solidFill>
                <a:latin typeface="Calibri"/>
              </a:rPr>
              <a:t>28 giugno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d0d0d"/>
                </a:solidFill>
                <a:latin typeface="Calibri"/>
              </a:rPr>
              <a:t>Giornata di lavoro coordinata 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d0d0d"/>
                </a:solidFill>
                <a:latin typeface="Calibri"/>
              </a:rPr>
              <a:t>Gianluca Perondi e Carlo Alz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logo_centro_piccolo"/>
          <p:cNvPicPr/>
          <p:nvPr/>
        </p:nvPicPr>
        <p:blipFill>
          <a:blip r:embed="rId1"/>
          <a:stretch/>
        </p:blipFill>
        <p:spPr>
          <a:xfrm>
            <a:off x="228600" y="457200"/>
            <a:ext cx="3000240" cy="766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720880" cy="9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LA FUNZIONE ORGANIZZATIV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“</a:t>
            </a: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SERVIZIO DI GEST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DEL SISTEMA DOCUMENTALE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d0d0d"/>
                </a:solidFill>
                <a:latin typeface="Calibri"/>
              </a:rPr>
              <a:t>RILEVANZA NELLE FASI DI VITA DEI DOC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9280" y="1916280"/>
          <a:ext cx="8785440" cy="4752720"/>
        </p:xfrm>
        <a:graphic>
          <a:graphicData uri="http://schemas.openxmlformats.org/drawingml/2006/table">
            <a:tbl>
              <a:tblPr/>
              <a:tblGrid>
                <a:gridCol w="3021120"/>
                <a:gridCol w="2881440"/>
                <a:gridCol w="2882880"/>
              </a:tblGrid>
              <a:tr h="339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DI VITA DEI DOCUM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ANA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DIGI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fl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volta 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ttoscr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fl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253f"/>
                    </a:solidFill>
                  </a:tcPr>
                </a:tc>
              </a:tr>
              <a:tr h="67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smissione/ricezione certific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253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253f"/>
                    </a:solidFill>
                  </a:tcPr>
                </a:tc>
              </a:tr>
              <a:tr h="679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colazione (Assegnazi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denzialmente 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253f"/>
                    </a:solidFill>
                  </a:tcPr>
                </a:tc>
              </a:tr>
              <a:tr h="67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corrente (Fascicolazi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fl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denzialmente 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zione a medio ter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 supporto (Logisti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denzialmente 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679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zione a lungo ter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253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spensa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253f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757440" y="110160"/>
            <a:ext cx="9793080" cy="1894680"/>
          </a:xfrm>
          <a:prstGeom prst="rect">
            <a:avLst/>
          </a:prstGeom>
          <a:noFill/>
          <a:ln w="0">
            <a:noFill/>
          </a:ln>
        </p:spPr>
        <p:txBody>
          <a:bodyPr lIns="898200" tIns="12708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FUNZIONE ORGANIZZAT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IZIO DI GESTIONE DEL SISTEMA DOCUMENTAL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ILEVANZA NELLE FASI DI VITA DEI DOCUM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LA FUNZIONE ORGANIZZATIV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“</a:t>
            </a: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SERVIZIO DI GESTI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DEL SISTEMA DOCUMENTALE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d0d0d"/>
                </a:solidFill>
                <a:latin typeface="Calibri"/>
              </a:rPr>
              <a:t>RILEVANZA NELLE FASI DI VITA DEI DOC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d0d0d"/>
                </a:solidFill>
                <a:latin typeface="Calibri"/>
              </a:rPr>
              <a:t>APPORTO NELLA PIANIFICAZIONE STRATEGICA DELL’ORGANIZZ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757440" y="110160"/>
            <a:ext cx="10225080" cy="1894680"/>
          </a:xfrm>
          <a:prstGeom prst="rect">
            <a:avLst/>
          </a:prstGeom>
          <a:noFill/>
          <a:ln w="0">
            <a:noFill/>
          </a:ln>
        </p:spPr>
        <p:txBody>
          <a:bodyPr lIns="898200" tIns="12708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A FUNZIONE ORGANIZZAT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IZIO DI GESTIONE DEL SISTEMA DOCUMENTAL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PPORTO NELLA PIANIFICAZIONE STRATEGICA DELL’ORGANIZZAZI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916280"/>
          <a:ext cx="8280360" cy="4681440"/>
        </p:xfrm>
        <a:graphic>
          <a:graphicData uri="http://schemas.openxmlformats.org/drawingml/2006/table">
            <a:tbl>
              <a:tblPr/>
              <a:tblGrid>
                <a:gridCol w="2759040"/>
                <a:gridCol w="2760480"/>
                <a:gridCol w="2760840"/>
              </a:tblGrid>
              <a:tr h="55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ANA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DIGI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azione strategica del sist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26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zione di 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25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zione di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27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zione dell’ambiente di lavo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25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zione delle possibilità o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406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ORGANIZZAZIONE DEL SIST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7. Qualità dei servizi resi e soddisfazione dell’utenz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12. Norme generali per l’uso delle tecnologie dell’informazione e delle comunicazioni nell’azione amministrativ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15. Digitalizzazione e riorganizzaz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2. Dematerializzazione dei documenti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0. Disponibilità dei dati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ORGANIZZAZIONE DEL SIST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0-bis Continuità opera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1. Sicurezza dei dati, dei sistemi e delle infrastrutture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68. Analisi comparativa delle solu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69. Riuso dei programmi informat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PRODUZIONE DEL DOCUM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0. Formazione di documenti informat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35. Dispositivi sicuri e procedure per la generazione della fir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32. Obblighi del titolare (del certificato di fi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PRODUZIONE DEL DOCUM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riferimenti generali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0. Documento informatico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1. Documento informatico sottoscritto con firma elettronica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2. Copie informatiche di documenti analogici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3. Copie analogiche di documenti informatici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3-bis. Duplicati e copie informatiche di documenti informatici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3-ter. Documenti amministrativi informatici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3-quater. Riproduzioni informatich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4. Firma digital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25. Firma autenticata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32. Obblighi (…) del certificatore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Art. 34. Norme particolari per le pubbliche amministrazioni e per altri soggetti qualificati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TRASMISSIONE E RICE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3. Diritto all’uso delle tecnolog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. Partecipazione al procedimento amministrativo informatic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-bis. Comunicazioni tra imprese e amministrazioni pubblich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5. Valore giuridico della trasmissi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7. Trasmissione dei documenti attraverso la posta elettronica tra 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8. Posta elettronica certific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6. Utilizzo della posta elettronica certifica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TRASMISSIONE E RICE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65. Istanze e dichiarazioni presentate alle pubbliche amministrazioni per via telemat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. Effettuazione dei pagamenti con modalità informatich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10. Sportello unico per le attività produttiv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12. Norme generali per l’uso delle tecnologie dell’informazione e delle comunicazioni nell’azione amministrativ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63080" y="115560"/>
            <a:ext cx="8929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OBIETTIVI DI QUESTA GIORNAT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d0d0d"/>
                </a:solidFill>
                <a:latin typeface="Calibri"/>
              </a:rPr>
              <a:t>- FARE IL PUNTO SUL LIVELLO E LE PROSPETTIVE DI DIGITALIZZAZIONE DEI SISTEMI DOCUMENTALI DELLE CAMERE LOMBARD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d0d0d"/>
                </a:solidFill>
                <a:latin typeface="Calibri"/>
              </a:rPr>
              <a:t>- DEFINIRE LA RILEVANZA CHE IN QUESTO CONTESTO HANNO ASSUNTO O DEVONO ASSUMERE I SERVIZI DI GESTIONE DEL SISTEMA DOCUMENTA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63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d0d0d"/>
                </a:solidFill>
                <a:latin typeface="Calibri"/>
              </a:rPr>
              <a:t>- RILANCIARE L’ATTIVITÀ DI COORDINAMENTO SU QUESTI TEMI IN AMBITO LOMBAR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PROTOCOLL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0-bis. Protocollo informa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FASCICOL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eme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Cos’è un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</a:rPr>
              <a:t>fascicolo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?  Un insieme di unità documentarie che vengono aggregate in base all’individuazione di un elemento unifican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Nel contempo è l’unità elementare dell’archivio, l’entità rilevante ai fini dell’instaurarsi della rete di relazioni reciproche, che connota l’archivio non come somma, ma come complesso di documenti. (Bonfiglio Dosi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</a:rPr>
              <a:t>fascicolo elettronico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è la rappresentazione su base informatica di un fascicolo archivistico, ottenuta con l’ausilio di un software che agisce su un complesso di metadati registrati in un database e sul repository documentale e individua i documenti che compongono il fascicolo con il relativo patrimonio informativo. (Pigliapoc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FASCICOLA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1. Procedimento e fascicolo informa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ACCESSO E CONDIVIS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12. Norme generali per l’uso delle tecnologie dell’informazione e delle comunicazioni nell’azione amministrativ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. Partecipazione al procedimento amministrativo informatic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0. Disponibilità dei dati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2. Accesso telematico e riutilizzazione dei dati e documenti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4. Contenuto dei siti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7. Moduli e formula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8. Modalità della fruibilità del da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ACCESSO E CONDIVIS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60. Base di dati di interesse naz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63. Organizzazione e finalità dei servizi in re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64. Modalità di accesso ai servizi erogati in rete da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57-bis. Indice degli indirizzi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ACCESSO E CONDIVIS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73. Sistema pubblico di connettività (SP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74. Rete internazionale delle pubbliche amministrazio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75. Partecipazione al Sistema pubblico di connettiv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76. Scambio di documenti informatici nell’ambito del Sistema pubblico di connettiv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77. Finalità del Sistema pubblico di connettiv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78. Compiti delle pubbliche amministrazioni nel Sistema pubblico di connettività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LI ARTICOLI PRINCIPALI DEL CAD LUNGO LE FASI DI VITA DEI DOCUMENTI NEL SISTEMA DI GEST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CONSERVAZIONE ED ESIBIZI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4. Requisiti per la conservazione dei documenti informati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rt. 43. Conservazione dei documen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UN ELEMENTO DECISIVO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QUANTI AMBIENTI DI LAVO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POMERIGGI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PROBLEMI TECNICHE SOLUZION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CASI SPECIFICI ESPERIENZ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CONFRO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LA GESTIONE DOCUMENTA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IN UN SISTEMA MISTO CARTACEO-DIGIT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d0d0d"/>
                </a:solidFill>
                <a:latin typeface="Calibri"/>
              </a:rPr>
              <a:t>UN SISTEMA IBRIDO CHE OGGI OSCILLA DALL’ANALOGICO AL DIGIT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24000" y="1639800"/>
          <a:ext cx="8496000" cy="4692600"/>
        </p:xfrm>
        <a:graphic>
          <a:graphicData uri="http://schemas.openxmlformats.org/drawingml/2006/table">
            <a:tbl>
              <a:tblPr/>
              <a:tblGrid>
                <a:gridCol w="2920680"/>
                <a:gridCol w="2787840"/>
                <a:gridCol w="2787480"/>
              </a:tblGrid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DI VITA DEI DOCU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ANALO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DIGI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tto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smissione/rice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corrente (fascicol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zione a medio-lungo ter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-684360" y="-19800"/>
            <a:ext cx="1000944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82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GESTIONE DOCUMENTALE IN UN SISTEMA MISTO CARTACEO-DIGI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SISTEMA IBRIDO CHE OGGI OSCILLA DALL’ANALOGICO AL DIGITA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Caso – Una lettera dal presidente della Cciaa al Prefet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00" y="1639800"/>
          <a:ext cx="8496000" cy="4692600"/>
        </p:xfrm>
        <a:graphic>
          <a:graphicData uri="http://schemas.openxmlformats.org/drawingml/2006/table">
            <a:tbl>
              <a:tblPr/>
              <a:tblGrid>
                <a:gridCol w="2920680"/>
                <a:gridCol w="2787840"/>
                <a:gridCol w="2787480"/>
              </a:tblGrid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DI VITA DEI DOCU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ANALO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DIGI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tto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smissione/rice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corrente (fascicol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zione a medio-lungo ter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"/>
          <p:cNvSpPr/>
          <p:nvPr/>
        </p:nvSpPr>
        <p:spPr>
          <a:xfrm>
            <a:off x="-684360" y="-19800"/>
            <a:ext cx="1000944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82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GESTIONE DOCUMENTALE IN UN SISTEMA MISTO CARTACEO-DIGI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SISTEMA IBRIDO CHE OGGI OSCILLA DALL’ANALOGICO AL DIGITA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Caso – Convocazione di una riunione degli organi camer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24000" y="1639800"/>
          <a:ext cx="8496000" cy="4692600"/>
        </p:xfrm>
        <a:graphic>
          <a:graphicData uri="http://schemas.openxmlformats.org/drawingml/2006/table">
            <a:tbl>
              <a:tblPr/>
              <a:tblGrid>
                <a:gridCol w="2920680"/>
                <a:gridCol w="2787840"/>
                <a:gridCol w="2787480"/>
              </a:tblGrid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DI VITA DEI DOCU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ANALO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DIGI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tto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smissione/rice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corrente (fascicol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zione a medio-lungo ter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-684360" y="-19800"/>
            <a:ext cx="10009440" cy="16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82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GESTIONE DOCUMENTALE IN UN SISTEMA MISTO CARTACEO-DIGI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SISTEMA IBRIDO CHE OGGI OSCILLA DALL’ANALOGICO AL DIGITA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Caso – Fattura ricevuta e gestita senza integrazione tra protocollo e software dedic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8000" y="115560"/>
            <a:ext cx="892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bfbf"/>
                </a:solidFill>
                <a:latin typeface="Calibri"/>
              </a:rPr>
              <a:t>SESSIONE DEL MATTIN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LA GESTIONE DOCUMENTA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d0d0d"/>
                </a:solidFill>
                <a:latin typeface="Calibri"/>
              </a:rPr>
              <a:t>IN UN SISTEMA MISTO CARTACEO-DIGIT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d0d0d"/>
                </a:solidFill>
                <a:latin typeface="Calibri"/>
              </a:rPr>
              <a:t>UN SISTEMA IBRIDO CHE OGGI OSCILLA DALL’ANALOGICO AL DIGIT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d0d0d"/>
                </a:solidFill>
                <a:latin typeface="Calibri"/>
              </a:rPr>
              <a:t>UN SISTEMA CHE FINO AD OGGI È RIUSCITO A DIVENTARE ESCLUSIVAMENTE DIGITALE “PER SINGOLO PROCEDIMENTO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00" y="1639800"/>
          <a:ext cx="8496000" cy="4692600"/>
        </p:xfrm>
        <a:graphic>
          <a:graphicData uri="http://schemas.openxmlformats.org/drawingml/2006/table">
            <a:tbl>
              <a:tblPr/>
              <a:tblGrid>
                <a:gridCol w="2920680"/>
                <a:gridCol w="2787840"/>
                <a:gridCol w="2787480"/>
              </a:tblGrid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DI VITA DEI DOCU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ANALO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DIGI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tto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smissione/rice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corrente (fascicol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zione a medio-lungo ter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-684360" y="-249120"/>
            <a:ext cx="10009440" cy="21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82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GESTIONE DOCUMENTALE IN UN SISTEMA MISTO CARTACEO-DIGI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SISTEMA CHE TENDE A DIVENTARE ESCLUSIVAMENTE DIGITALE “PER SINGOLO PROCEDIMENT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Caso – Dichiarazioni sull’installazione dei convertitori del 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1639800"/>
          <a:ext cx="8496000" cy="4692600"/>
        </p:xfrm>
        <a:graphic>
          <a:graphicData uri="http://schemas.openxmlformats.org/drawingml/2006/table">
            <a:tbl>
              <a:tblPr/>
              <a:tblGrid>
                <a:gridCol w="2920680"/>
                <a:gridCol w="2787840"/>
                <a:gridCol w="2787480"/>
              </a:tblGrid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DI VITA DEI DOCU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ANALOG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IENTE DIGI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ttoscr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smissione/rice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corrente (fascicol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rvazione a medio-lungo ter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-684360" y="-249120"/>
            <a:ext cx="10009440" cy="21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8200" rIns="90000" tIns="1270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A GESTIONE DOCUMENTALE IN UN SISTEMA MISTO CARTACEO-DIGIT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N SISTEMA CHE TENDE A DIVENTARE ESCLUSIVAMENTE DIGITALE “PER SINGOLO PROCEDIMENT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Caso – Affissioni all’Albo telema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2:58:31Z</dcterms:created>
  <dc:creator>Valued Acer Customer</dc:creator>
  <dc:description/>
  <dc:language>en-US</dc:language>
  <cp:lastModifiedBy>Marina Bravi</cp:lastModifiedBy>
  <cp:lastPrinted>2011-06-28T02:21:01Z</cp:lastPrinted>
  <dcterms:modified xsi:type="dcterms:W3CDTF">2011-07-01T09:28:52Z</dcterms:modified>
  <cp:revision>15</cp:revision>
  <dc:subject/>
  <dc:title>Presentazione standard di PowerPoint</dc:title>
</cp:coreProperties>
</file>