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1C03E-0E30-475C-AAFB-A35777046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9C74E-0CC1-4215-8065-61EA22E6C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52876-6B24-456D-B120-1FA10BB64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2EBA82-72F4-4319-B096-0E594E865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942E26-AE41-4E8F-95CF-D848C4612D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2F02D7-B898-40AB-A775-502D80526B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58A8EC-B52A-446B-850C-FF8F504F6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1BD1F-C820-4237-851B-C461929514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A6241-0036-4CE3-851D-1EFCF8E1E3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CBE312-9A84-4736-9D40-109C74BDDF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FDF25-488E-422E-9AE5-FB3888299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A6611-CCE8-43E2-B076-F8850E06F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22ED5-D65F-43C9-8897-D4A0E48F5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37DBC-0BBB-4FD1-81BA-FDE5B3F94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163CAA-1CE7-4948-8D95-0D6360BE4C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F95E80-BC6A-4BA3-90B0-B4CC610B4D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229B08-D6F1-4A2C-B62B-3DF12B30C7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32F80-55CA-4CC5-A210-70F1F0938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411CE-AF6C-42C3-A9A8-96E50F409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DB7A5-E926-4A0C-AFB4-F3B65B420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70456-523C-4117-A820-739E32BA3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68888-48F0-4986-A286-40B431FA5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1DC5B-37BD-486C-B309-1C5767DBA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91124-F56F-4636-9440-3C3369DE8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3"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8"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9"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0"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3"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4"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5"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B620F-4D1A-4F2B-A823-5C5CDD3F101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59"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0"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1"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2"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3"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4"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5"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6"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7"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8"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69"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0"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1"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2"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D9AC1-2800-4269-8370-2183E8AA3AD0}" type="slidenum">
              <a:rPr b="0" lang="it-IT"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371600" y="3733920"/>
            <a:ext cx="6400800" cy="175248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pic>
        <p:nvPicPr>
          <p:cNvPr id="115" name="Picture 6" descr="stellone"/>
          <p:cNvPicPr/>
          <p:nvPr/>
        </p:nvPicPr>
        <p:blipFill>
          <a:blip r:embed="rId1">
            <a:lum contrast="12000"/>
          </a:blip>
          <a:stretch/>
        </p:blipFill>
        <p:spPr>
          <a:xfrm>
            <a:off x="324000" y="404640"/>
            <a:ext cx="961920" cy="1105200"/>
          </a:xfrm>
          <a:prstGeom prst="rect">
            <a:avLst/>
          </a:prstGeom>
          <a:ln w="0">
            <a:noFill/>
          </a:ln>
        </p:spPr>
      </p:pic>
      <p:sp>
        <p:nvSpPr>
          <p:cNvPr id="116" name="Rectangle 7"/>
          <p:cNvSpPr/>
          <p:nvPr/>
        </p:nvSpPr>
        <p:spPr>
          <a:xfrm>
            <a:off x="324000" y="1801440"/>
            <a:ext cx="8424720" cy="4635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00"/>
                </a:solidFill>
                <a:latin typeface="Garamond"/>
              </a:rPr>
              <a:t>Libera circolazione, diritto di stabilimento, iscrizione al registro delle imprese di imprese comunitarie</a:t>
            </a:r>
            <a:r>
              <a:rPr b="0" lang="it-IT" sz="4000" spc="-1" strike="noStrike">
                <a:solidFill>
                  <a:srgbClr val="aa8456"/>
                </a:solidFill>
                <a:latin typeface="Garamond"/>
              </a:rPr>
              <a:t> </a:t>
            </a:r>
            <a:endParaRPr b="0" lang="en-US" sz="40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Garamond"/>
              </a:rPr>
              <a:t>e il riconoscimento dei titoli professionali acquisiti all'estero per l’esercizio di attività regolamentate</a:t>
            </a:r>
            <a:endParaRPr b="0" lang="en-US" sz="24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imes New Roman"/>
              </a:rPr>
              <a:t>LE IMPRESE COMUNITARIE</a:t>
            </a:r>
            <a:endParaRPr b="0" lang="en-US" sz="24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00"/>
                </a:solidFill>
                <a:latin typeface="Arial"/>
              </a:rPr>
              <a:t>Seminario 22 giugno 2009 - MILANO</a:t>
            </a:r>
            <a:endParaRPr b="0" lang="en-US" sz="1800" spc="-1" strike="noStrike">
              <a:solidFill>
                <a:srgbClr val="eaeaea"/>
              </a:solidFill>
              <a:latin typeface="Verdana"/>
            </a:endParaRPr>
          </a:p>
        </p:txBody>
      </p:sp>
      <p:pic>
        <p:nvPicPr>
          <p:cNvPr id="117" name="Picture 8" descr=""/>
          <p:cNvPicPr/>
          <p:nvPr/>
        </p:nvPicPr>
        <p:blipFill>
          <a:blip r:embed="rId2"/>
          <a:stretch/>
        </p:blipFill>
        <p:spPr>
          <a:xfrm>
            <a:off x="7236000" y="404640"/>
            <a:ext cx="1657080" cy="1036800"/>
          </a:xfrm>
          <a:prstGeom prst="rect">
            <a:avLst/>
          </a:prstGeom>
          <a:ln w="0">
            <a:noFill/>
          </a:ln>
        </p:spPr>
      </p:pic>
      <p:sp>
        <p:nvSpPr>
          <p:cNvPr id="118" name="Rectangle 11"/>
          <p:cNvSpPr/>
          <p:nvPr/>
        </p:nvSpPr>
        <p:spPr>
          <a:xfrm>
            <a:off x="7199280" y="6033960"/>
            <a:ext cx="194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3300"/>
                </a:solidFill>
                <a:latin typeface="Edwardian Script ITC"/>
              </a:rPr>
              <a:t>MM</a:t>
            </a:r>
            <a:endParaRPr b="0" lang="en-US" sz="4800" spc="-1" strike="noStrike">
              <a:solidFill>
                <a:srgbClr val="eaeaea"/>
              </a:solidFill>
              <a:latin typeface="Verdana"/>
            </a:endParaRPr>
          </a:p>
        </p:txBody>
      </p:sp>
      <p:pic>
        <p:nvPicPr>
          <p:cNvPr id="119" name="Picture 8" descr="logoUCL-2006Xemail-DOC"/>
          <p:cNvPicPr/>
          <p:nvPr/>
        </p:nvPicPr>
        <p:blipFill>
          <a:blip r:embed="rId3"/>
          <a:stretch/>
        </p:blipFill>
        <p:spPr>
          <a:xfrm>
            <a:off x="0" y="6041880"/>
            <a:ext cx="2286000" cy="816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cc"/>
                </a:solidFill>
                <a:latin typeface="Arial"/>
              </a:rPr>
              <a:t>Direttiva succursali (XI)</a:t>
            </a:r>
            <a:endParaRPr b="0" lang="en-US" sz="4400" spc="-1" strike="noStrike">
              <a:solidFill>
                <a:srgbClr val="ffffcc"/>
              </a:solidFill>
              <a:latin typeface="Arial"/>
            </a:endParaRPr>
          </a:p>
        </p:txBody>
      </p:sp>
      <p:sp>
        <p:nvSpPr>
          <p:cNvPr id="139"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Verdana"/>
              </a:rPr>
              <a:t>considerando che, per quanto riguarda le succursali, la mancanza di coordinamento, in particolare nel campo della pubblicità, comporta l'esistenza di una certa disparità, sul piano della tutela dei soci e dei terzi, tra le società che operano in altri Stati membri aprendo delle succursali e quelle che vi operano costituendovi delle filiali; </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Verdana"/>
              </a:rPr>
              <a:t>considerando che in questo campo le divergenze delle legislazioni degli Stati membri possono perturbare l'esercizio del diritto di stabilimento e che è dunque necessario eliminarle per salvaguardare in particolare tale diritto; </a:t>
            </a:r>
            <a:endParaRPr b="0" lang="en-US" sz="2400" spc="-1" strike="noStrike">
              <a:solidFill>
                <a:srgbClr val="eaeaea"/>
              </a:solidFill>
              <a:latin typeface="Verdana"/>
            </a:endParaRPr>
          </a:p>
        </p:txBody>
      </p:sp>
      <p:sp>
        <p:nvSpPr>
          <p:cNvPr id="140" name="Rectangle 4"/>
          <p:cNvSpPr/>
          <p:nvPr/>
        </p:nvSpPr>
        <p:spPr>
          <a:xfrm>
            <a:off x="7559640" y="6033960"/>
            <a:ext cx="158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3399"/>
                </a:solidFill>
                <a:latin typeface="Chiller"/>
              </a:rPr>
              <a:t>MM</a:t>
            </a:r>
            <a:endParaRPr b="0" lang="en-US" sz="4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cc"/>
                </a:solidFill>
                <a:latin typeface="Arial"/>
              </a:rPr>
              <a:t>Direttiva succursali (XI)</a:t>
            </a:r>
            <a:endParaRPr b="0" lang="en-US" sz="4400" spc="-1" strike="noStrike">
              <a:solidFill>
                <a:srgbClr val="ffffcc"/>
              </a:solidFill>
              <a:latin typeface="Arial"/>
            </a:endParaRPr>
          </a:p>
        </p:txBody>
      </p:sp>
      <p:sp>
        <p:nvSpPr>
          <p:cNvPr id="142"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Verdana"/>
              </a:rPr>
              <a:t>considerando che, per assicurare la protezione delle persone che per il tramite di una succursale instaurano un rapporto con la società, sono necessarie misure di pubblicità nello Stato membro in cui la succursale è situata; che, per taluni riguardi, l'incidenza economica e sociale di una succursale può essere paragonabile a quella di una filiale, di modo che esiste un interesse pubblico per una pubblicità della società presso la succursale; che per disciplinare tale pubblicità è opportuno far ricorso alla procedura già adottata per le società di capitali all'interno della Comunità;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Arial"/>
              </a:rPr>
              <a:t>Direttiva fusioni transfrontaliere (X)</a:t>
            </a:r>
            <a:endParaRPr b="0" lang="en-US" sz="4000" spc="-1" strike="noStrike">
              <a:solidFill>
                <a:srgbClr val="ffffcc"/>
              </a:solidFill>
              <a:latin typeface="Arial"/>
            </a:endParaRPr>
          </a:p>
        </p:txBody>
      </p:sp>
      <p:sp>
        <p:nvSpPr>
          <p:cNvPr id="144"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Verdana"/>
              </a:rPr>
              <a:t>Considerando che vi è una necessità di cooperazione e di raggruppamento tra società di capitali di Stati membri diversi. Tuttavia, per quanto riguarda le fusioni transfrontaliere di società di capitali, esse incontrano molte difficoltà a livello legislativo ed amministrativo nella Comunità. È pertanto necessario, al fine di garantire il completamento ed il funzionamento del mercato unico, adottare disposizioni comunitarie volte a facilitare la realizzazione di fusioni transfrontaliere tra diversi tipi di società di capitali soggette alle legislazioni di Stati membri diversi.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Arial"/>
              </a:rPr>
              <a:t>Direttiva fusioni transfrontaliere (X)</a:t>
            </a:r>
            <a:endParaRPr b="0" lang="en-US" sz="4000" spc="-1" strike="noStrike">
              <a:solidFill>
                <a:srgbClr val="ffffcc"/>
              </a:solidFill>
              <a:latin typeface="Arial"/>
            </a:endParaRPr>
          </a:p>
        </p:txBody>
      </p:sp>
      <p:sp>
        <p:nvSpPr>
          <p:cNvPr id="146" name="PlaceHolder 2"/>
          <p:cNvSpPr>
            <a:spLocks noGrp="1"/>
          </p:cNvSpPr>
          <p:nvPr>
            <p:ph/>
          </p:nvPr>
        </p:nvSpPr>
        <p:spPr>
          <a:xfrm>
            <a:off x="457200" y="1599840"/>
            <a:ext cx="8229600" cy="4924440"/>
          </a:xfrm>
          <a:prstGeom prst="rect">
            <a:avLst/>
          </a:prstGeom>
          <a:noFill/>
          <a:ln w="0">
            <a:noFill/>
          </a:ln>
        </p:spPr>
        <p:txBody>
          <a:bodyPr anchor="t">
            <a:normAutofit fontScale="98000"/>
          </a:bodyPr>
          <a:p>
            <a:pPr marL="335880" indent="-3358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Verdana"/>
              </a:rPr>
              <a:t>Considerando che Per facilitare le operazioni di fusione transfrontaliera, è opportuno prevedere che, se la presente direttiva non dispone altrimenti, ogni società partecipante ad una fusione transfrontaliera ed ogni terzo interessato restino soggetti alle disposizioni e alle formalità della legislazione nazionale che sarebbe applicabile in caso di fusione nazionale. Nessuna delle disposizioni e delle formalità della legislazione nazionale cui si fa riferimento nella presente direttiva dovrebbe introdurre restrizioni alla libertà di stabilimento o di circolazione di capitali, a meno che tali restrizioni non possano essere </a:t>
            </a:r>
            <a:r>
              <a:rPr b="0" lang="it-IT" sz="2400" spc="-1" strike="noStrike">
                <a:solidFill>
                  <a:srgbClr val="ffff00"/>
                </a:solidFill>
                <a:latin typeface="Verdana"/>
              </a:rPr>
              <a:t>giustificate in base alla giurisprudenza della Corte di giustizia</a:t>
            </a:r>
            <a:r>
              <a:rPr b="0" lang="it-IT" sz="2400" spc="-1" strike="noStrike">
                <a:solidFill>
                  <a:srgbClr val="eaeaea"/>
                </a:solidFill>
                <a:latin typeface="Verdana"/>
              </a:rPr>
              <a:t> e, in particolare, da esigenze di interesse generale e non siano necessarie e proporzionate al raggiungimento di tali esigenze imperative.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Arial"/>
              </a:rPr>
              <a:t>Direttiva fusioni transfrontaliere (X)</a:t>
            </a:r>
            <a:endParaRPr b="0" lang="en-US" sz="4000" spc="-1" strike="noStrike">
              <a:solidFill>
                <a:srgbClr val="ffffcc"/>
              </a:solidFill>
              <a:latin typeface="Arial"/>
            </a:endParaRPr>
          </a:p>
        </p:txBody>
      </p:sp>
      <p:sp>
        <p:nvSpPr>
          <p:cNvPr id="148"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Verdana"/>
              </a:rPr>
              <a:t>Considerando che </a:t>
            </a:r>
            <a:r>
              <a:rPr b="0" lang="it-IT" sz="2000" spc="-1" strike="noStrike">
                <a:solidFill>
                  <a:srgbClr val="eaeaea"/>
                </a:solidFill>
                <a:latin typeface="Verdana"/>
              </a:rPr>
              <a:t>Per facilitare le operazioni di fusione transfrontaliera, il controllo del perfezionamento e della legittimità del processo decisionale di ogni società che partecipa ad una fusione transfrontaliera dovrebbe essere effettuato dall'autorità nazionale competente per ciascuna di tali società, mentre il controllo del perfezionamento e della legittimità della realizzazione della fusione transfrontaliera dovrebbe spettare all'autorità nazionale competente per la società derivante da detta fusione. Tale autorità nazionale può essere un tribunale, un notaio o qualsiasi altra autorità competente designata dallo Stato membro interessato. È inoltre opportuno stabilire in virtù di quale legislazione nazionale è determinata la data alla quale la fusione transfrontaliera acquista efficacia; tale legislazione è quella cui è soggetta la società derivante dalla fusione transfrontaliera. </a:t>
            </a:r>
            <a:endParaRPr b="0" lang="en-US" sz="2000" spc="-1" strike="noStrike">
              <a:solidFill>
                <a:srgbClr val="eaeaea"/>
              </a:solidFill>
              <a:latin typeface="Verdana"/>
            </a:endParaRPr>
          </a:p>
        </p:txBody>
      </p:sp>
      <p:sp>
        <p:nvSpPr>
          <p:cNvPr id="149" name="Rectangle 4"/>
          <p:cNvSpPr/>
          <p:nvPr/>
        </p:nvSpPr>
        <p:spPr>
          <a:xfrm>
            <a:off x="7559640" y="6033960"/>
            <a:ext cx="158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3399"/>
                </a:solidFill>
                <a:latin typeface="Chiller"/>
              </a:rPr>
              <a:t>MM</a:t>
            </a:r>
            <a:endParaRPr b="0" lang="en-US" sz="4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cc"/>
                </a:solidFill>
                <a:latin typeface="Arial"/>
              </a:rPr>
              <a:t>Le linee tendenziali</a:t>
            </a:r>
            <a:endParaRPr b="0" lang="en-US" sz="4400" spc="-1" strike="noStrike">
              <a:solidFill>
                <a:srgbClr val="ffffcc"/>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Verdana"/>
              </a:rPr>
              <a:t>Creazione di imprese comunitari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Verdana"/>
              </a:rPr>
              <a:t>Armonizzazione degli ordinamenti giuridici per consentire lo stabilimento e la l.p.s. di imprese nazionali nell’ambito del mercato unico. </a:t>
            </a:r>
            <a:endParaRPr b="0" lang="en-US" sz="3200" spc="-1" strike="noStrike">
              <a:solidFill>
                <a:srgbClr val="eaeaea"/>
              </a:solidFill>
              <a:latin typeface="Verdana"/>
            </a:endParaRPr>
          </a:p>
        </p:txBody>
      </p:sp>
      <p:sp>
        <p:nvSpPr>
          <p:cNvPr id="152" name="Rectangle 5"/>
          <p:cNvSpPr/>
          <p:nvPr/>
        </p:nvSpPr>
        <p:spPr>
          <a:xfrm>
            <a:off x="7559640" y="6033960"/>
            <a:ext cx="158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3399"/>
                </a:solidFill>
                <a:latin typeface="Chiller"/>
              </a:rPr>
              <a:t>MM</a:t>
            </a:r>
            <a:endParaRPr b="0" lang="en-US" sz="4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cc"/>
                </a:solidFill>
                <a:latin typeface="Arial"/>
              </a:rPr>
              <a:t>La direttiva fusioni transfrontaliere nel decreto di recepimento 108/08</a:t>
            </a:r>
            <a:endParaRPr b="0" lang="en-US" sz="3600" spc="-1" strike="noStrike">
              <a:solidFill>
                <a:srgbClr val="ffffcc"/>
              </a:solidFill>
              <a:latin typeface="Arial"/>
            </a:endParaRPr>
          </a:p>
        </p:txBody>
      </p:sp>
      <p:sp>
        <p:nvSpPr>
          <p:cNvPr id="15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Verdana"/>
              </a:rPr>
              <a:t>Applicazione: una o più società di capitali italiane e una o più società di capitali di altro Stato membro.</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Verdana"/>
              </a:rPr>
              <a:t>Esteso anche a società di capitali e di persone extracomunitarie ma a condizioni di reciprocità</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Verdana"/>
              </a:rPr>
              <a:t>Società di capitali e cooperative, ma non a mutualità prevalente</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cc"/>
                </a:solidFill>
                <a:latin typeface="Arial"/>
              </a:rPr>
              <a:t>La direttiva fusioni transfrontaliere nel decreto di recepimento 108/08</a:t>
            </a:r>
            <a:endParaRPr b="0" lang="en-US" sz="3600" spc="-1" strike="noStrike">
              <a:solidFill>
                <a:srgbClr val="ffffcc"/>
              </a:solidFill>
              <a:latin typeface="Arial"/>
            </a:endParaRPr>
          </a:p>
        </p:txBody>
      </p:sp>
      <p:sp>
        <p:nvSpPr>
          <p:cNvPr id="156"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Verdana"/>
              </a:rPr>
              <a:t>Diritto di recesso del socio non consenziente.</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Verdana"/>
              </a:rPr>
              <a:t>Si applicano sostanzialmente le norme sulla fusione del c.c., che a loro volta sono applicative della disciplina comunitaria.</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Verdana"/>
              </a:rPr>
              <a:t>Un </a:t>
            </a:r>
            <a:r>
              <a:rPr b="0" lang="it-IT" sz="2800" spc="-1" strike="noStrike">
                <a:solidFill>
                  <a:srgbClr val="ff0000"/>
                </a:solidFill>
                <a:latin typeface="Verdana"/>
              </a:rPr>
              <a:t>Notaio</a:t>
            </a:r>
            <a:r>
              <a:rPr b="0" lang="it-IT" sz="2800" spc="-1" strike="noStrike">
                <a:solidFill>
                  <a:srgbClr val="eaeaea"/>
                </a:solidFill>
                <a:latin typeface="Verdana"/>
              </a:rPr>
              <a:t> italiano è tenuto a rilasciare certificato (che ha durata semestrale) che attesti essere avvenute tutte le condizioni richieste (iscrizioni, decorso del termine per le opposizioni…)</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cc"/>
                </a:solidFill>
                <a:latin typeface="Arial"/>
              </a:rPr>
              <a:t>La direttiva fusioni transfrontaliere nel decreto di recepimento 108/08</a:t>
            </a:r>
            <a:endParaRPr b="0" lang="en-US" sz="3600" spc="-1" strike="noStrike">
              <a:solidFill>
                <a:srgbClr val="ffffcc"/>
              </a:solidFill>
              <a:latin typeface="Arial"/>
            </a:endParaRPr>
          </a:p>
        </p:txBody>
      </p:sp>
      <p:sp>
        <p:nvSpPr>
          <p:cNvPr id="158"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Verdana"/>
              </a:rPr>
              <a:t>La fusione risulta da atto pubblico.</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Verdana"/>
              </a:rPr>
              <a:t>Se la società derivante è di diritto italiano il controllo di legittimità è svolto dal Notaio, che rilascia </a:t>
            </a:r>
            <a:r>
              <a:rPr b="0" lang="it-IT" sz="2800" spc="-1" strike="noStrike">
                <a:solidFill>
                  <a:srgbClr val="ff0000"/>
                </a:solidFill>
                <a:latin typeface="Verdana"/>
              </a:rPr>
              <a:t>attestazione</a:t>
            </a:r>
            <a:r>
              <a:rPr b="0" lang="it-IT" sz="2800" spc="-1" strike="noStrike">
                <a:solidFill>
                  <a:srgbClr val="eaeaea"/>
                </a:solidFill>
                <a:latin typeface="Verdana"/>
              </a:rPr>
              <a:t> di legittimità. Se di altro paese è svolto dall’Autorità locale</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Verdana"/>
              </a:rPr>
              <a:t>Se è comunitaria è redatta sulla base della lex loci. Se l’atto “straniero” non è fatto da Notaio, deve essere depositato in atti notarili italiani</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cc"/>
                </a:solidFill>
                <a:latin typeface="Arial"/>
              </a:rPr>
              <a:t>La direttiva fusioni transfrontaliere nel decreto di recepimento 108/08</a:t>
            </a:r>
            <a:endParaRPr b="0" lang="en-US" sz="3600" spc="-1" strike="noStrike">
              <a:solidFill>
                <a:srgbClr val="ffffcc"/>
              </a:solidFill>
              <a:latin typeface="Arial"/>
            </a:endParaRPr>
          </a:p>
        </p:txBody>
      </p:sp>
      <p:sp>
        <p:nvSpPr>
          <p:cNvPr id="160"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Verdana"/>
              </a:rPr>
              <a:t>La fusione “italiana” è depositata per l’iscrizione entro 30 gg. con l’attestazione notarile.</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Verdana"/>
              </a:rPr>
              <a:t>La fusione “straniera” è depositata entro 30 gg dal controllo (in loco) presso il registro delle imprese dove ha sede la società italiana.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cc"/>
                </a:solidFill>
                <a:latin typeface="Arial"/>
              </a:rPr>
              <a:t>ESISTE L’IMPRESA COMUNITARIA?</a:t>
            </a:r>
            <a:endParaRPr b="0" lang="en-US" sz="3600" spc="-1" strike="noStrike">
              <a:solidFill>
                <a:srgbClr val="ffffcc"/>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eaeaea"/>
                </a:solidFill>
                <a:latin typeface="Verdana"/>
              </a:rPr>
              <a:t>La SAE (società per azioni europea) </a:t>
            </a:r>
            <a:r>
              <a:rPr b="0" lang="it-IT" sz="3200" spc="-1" strike="noStrike">
                <a:solidFill>
                  <a:srgbClr val="ff3399"/>
                </a:solidFill>
                <a:latin typeface="Verdana"/>
              </a:rPr>
              <a:t>regolamento (CE) n. 2157 dell'8 ottobre 2001 (d. lgs. 188/05)</a:t>
            </a:r>
            <a:endParaRPr b="0" lang="en-US" sz="32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eaeaea"/>
                </a:solidFill>
                <a:latin typeface="Verdana"/>
              </a:rPr>
              <a:t>La COOP europea </a:t>
            </a:r>
            <a:r>
              <a:rPr b="0" lang="it-IT" sz="2800" spc="-1" strike="noStrike">
                <a:solidFill>
                  <a:srgbClr val="ff3399"/>
                </a:solidFill>
                <a:latin typeface="Verdana"/>
              </a:rPr>
              <a:t>regolamento 1435/03 e direttiva 2003/72/CE</a:t>
            </a:r>
            <a:endParaRPr b="0" lang="en-US" sz="2800" spc="-1" strike="noStrike">
              <a:solidFill>
                <a:srgbClr val="eaeaea"/>
              </a:solidFill>
              <a:latin typeface="Verdana"/>
            </a:endParaRPr>
          </a:p>
          <a:p>
            <a:pPr marL="343080" indent="-343080">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eaeaea"/>
                </a:solidFill>
                <a:latin typeface="Verdana"/>
              </a:rPr>
              <a:t>Il GEIE</a:t>
            </a:r>
            <a:endParaRPr b="0" lang="en-US" sz="4000" spc="-1" strike="noStrike">
              <a:solidFill>
                <a:srgbClr val="eaeaea"/>
              </a:solidFill>
              <a:latin typeface="Verdana"/>
            </a:endParaRPr>
          </a:p>
        </p:txBody>
      </p:sp>
      <p:sp>
        <p:nvSpPr>
          <p:cNvPr id="122" name="Rectangle 4"/>
          <p:cNvSpPr/>
          <p:nvPr/>
        </p:nvSpPr>
        <p:spPr>
          <a:xfrm>
            <a:off x="7559640" y="6033960"/>
            <a:ext cx="158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3399"/>
                </a:solidFill>
                <a:latin typeface="Chiller"/>
              </a:rPr>
              <a:t>MM</a:t>
            </a:r>
            <a:endParaRPr b="0" lang="en-US" sz="4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cc"/>
                </a:solidFill>
                <a:latin typeface="Arial"/>
              </a:rPr>
              <a:t>La direttiva fusioni transfrontaliere nel decreto di recepimento 108/08</a:t>
            </a:r>
            <a:endParaRPr b="0" lang="en-US" sz="3600" spc="-1" strike="noStrike">
              <a:solidFill>
                <a:srgbClr val="ffffcc"/>
              </a:solidFill>
              <a:latin typeface="Arial"/>
            </a:endParaRPr>
          </a:p>
        </p:txBody>
      </p:sp>
      <p:sp>
        <p:nvSpPr>
          <p:cNvPr id="162"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Verdana"/>
              </a:rPr>
              <a:t>La fusione è efficace (e non può pronunziarsi l’invalidità) con l’iscrizione. </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Verdana"/>
              </a:rPr>
              <a:t>L'ufficio del registro delle imprese di cui sopra comunica immediatamente al corrispondente ufficio del registro delle imprese in cui è iscritta ciascuna società partecipante alla fusione transfrontaliera che l'operazione ha acquistato efficacia, perché provveda alla relativa cancellazione.</a:t>
            </a:r>
            <a:br>
              <a:rPr sz="2800"/>
            </a:br>
            <a:r>
              <a:rPr b="0" lang="it-IT" sz="2800" spc="-1" strike="noStrike">
                <a:solidFill>
                  <a:srgbClr val="eaeaea"/>
                </a:solidFill>
                <a:latin typeface="Verdana"/>
              </a:rPr>
              <a:t> </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cc"/>
                </a:solidFill>
                <a:latin typeface="Arial"/>
              </a:rPr>
              <a:t>La direttiva fusioni transfrontaliere nel decreto di recepimento 108/08</a:t>
            </a:r>
            <a:endParaRPr b="0" lang="en-US" sz="3600" spc="-1" strike="noStrike">
              <a:solidFill>
                <a:srgbClr val="ffffcc"/>
              </a:solidFill>
              <a:latin typeface="Arial"/>
            </a:endParaRPr>
          </a:p>
        </p:txBody>
      </p:sp>
      <p:sp>
        <p:nvSpPr>
          <p:cNvPr id="164" name=""/>
          <p:cNvSpPr txBox="1"/>
          <p:nvPr/>
        </p:nvSpPr>
        <p:spPr>
          <a:xfrm>
            <a:off x="457200" y="1599840"/>
            <a:ext cx="8229600" cy="4530600"/>
          </a:xfrm>
          <a:prstGeom prst="rect">
            <a:avLst/>
          </a:prstGeom>
          <a:noFill/>
          <a:ln w="0">
            <a:noFill/>
          </a:ln>
        </p:spPr>
        <p:txBody>
          <a:bodyPr anchor="t">
            <a:normAutofit fontScale="96000"/>
          </a:bodyPr>
          <a:p>
            <a:pPr marL="329040" indent="-32904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Verdana"/>
              </a:rPr>
              <a:t>Nel caso di fusione “straniera” la società italiana partecipante alla fusione transfrontaliera è cancellata dal registro delle imprese a seguito della comunicazione, da parte del registro delle imprese in cui è iscritta la società risultante dalla fusione transfrontaliera, che questa ha acquistato efficacia, purché si sia provveduto all'iscrizione nel registro delle imprese italiano in cui ha sede la società italiana partecipante.</a:t>
            </a:r>
            <a:br>
              <a:rPr sz="2800"/>
            </a:br>
            <a:r>
              <a:rPr b="0" lang="it-IT"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cc"/>
                </a:solidFill>
                <a:latin typeface="Arial"/>
              </a:rPr>
              <a:t>Società europea</a:t>
            </a:r>
            <a:endParaRPr b="0" lang="en-US" sz="4400" spc="-1" strike="noStrike">
              <a:solidFill>
                <a:srgbClr val="ffffcc"/>
              </a:solidFill>
              <a:latin typeface="Arial"/>
            </a:endParaRPr>
          </a:p>
        </p:txBody>
      </p:sp>
      <p:pic>
        <p:nvPicPr>
          <p:cNvPr id="124" name="Picture 7" descr=""/>
          <p:cNvPicPr/>
          <p:nvPr/>
        </p:nvPicPr>
        <p:blipFill>
          <a:blip r:embed="rId1"/>
          <a:stretch/>
        </p:blipFill>
        <p:spPr>
          <a:xfrm>
            <a:off x="533520" y="1189080"/>
            <a:ext cx="8381880" cy="4649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cc"/>
                </a:solidFill>
                <a:latin typeface="Arial"/>
              </a:rPr>
              <a:t>Società europea</a:t>
            </a:r>
            <a:endParaRPr b="0" lang="en-US" sz="4400" spc="-1" strike="noStrike">
              <a:solidFill>
                <a:srgbClr val="ffffcc"/>
              </a:solidFill>
              <a:latin typeface="Arial"/>
            </a:endParaRPr>
          </a:p>
        </p:txBody>
      </p:sp>
      <p:pic>
        <p:nvPicPr>
          <p:cNvPr id="126" name="Picture 4" descr=""/>
          <p:cNvPicPr/>
          <p:nvPr/>
        </p:nvPicPr>
        <p:blipFill>
          <a:blip r:embed="rId1"/>
          <a:stretch/>
        </p:blipFill>
        <p:spPr>
          <a:xfrm>
            <a:off x="304920" y="1143000"/>
            <a:ext cx="8458200" cy="546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cc"/>
                </a:solidFill>
                <a:latin typeface="Arial"/>
              </a:rPr>
              <a:t>Coop europea (reg. 1435/03)</a:t>
            </a:r>
            <a:endParaRPr b="0" lang="en-US" sz="4400" spc="-1" strike="noStrike">
              <a:solidFill>
                <a:srgbClr val="ffffcc"/>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cc"/>
                </a:solidFill>
                <a:latin typeface="Arial"/>
                <a:ea typeface="Arial"/>
              </a:rPr>
              <a:t>Con l'adozione del regolamento sopracitato viene messo a punto un vero e proprio statuto giuridico unico della SCE. In effetti, questi nuovi testi permettono la creazione di una cooperativa da parte di persone fisiche residenti in Stati membri diversi o da parte di persone giuridiche stabilite in diversi Stati membri. Queste nuove SCE, che devono avere un capitale minimo di 30 000 euro, possono esercitare le loro attività nell'ambito del mercato interno con una personalità giuridica, una regolamentazione e una struttura uniche. Esse possono ampliare e ristrutturare le loro operazioni transfrontaliere senza dover creare una rete di filiali, operazione costosa in termini di tempo e denaro. Inoltre le cooperative di più paesi possono d'ora in poi fondersi sotto forma di SCE. Una cooperativa nazionale che abbia delle attività in un Stato membro diverso da quello in cui ha la sede, può infine essere trasformata in cooperativa europea senza dover passare per uno scioglimento.</a:t>
            </a:r>
            <a:r>
              <a:rPr b="0" lang="it-IT" sz="2000" spc="-1" strike="noStrike">
                <a:solidFill>
                  <a:srgbClr val="003399"/>
                </a:solidFill>
                <a:latin typeface="Arial"/>
                <a:ea typeface="Arial"/>
              </a:rPr>
              <a:t> </a:t>
            </a:r>
            <a:endParaRPr b="0" lang="en-US" sz="2000" spc="-1" strike="noStrike">
              <a:solidFill>
                <a:srgbClr val="eaeaea"/>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560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cc"/>
                </a:solidFill>
                <a:latin typeface="Arial"/>
              </a:rPr>
              <a:t>Coop europea (reg. 1435/03) requisiti</a:t>
            </a:r>
            <a:endParaRPr b="0" lang="en-US" sz="3200" spc="-1" strike="noStrike">
              <a:solidFill>
                <a:srgbClr val="ffffcc"/>
              </a:solidFill>
              <a:latin typeface="Arial"/>
            </a:endParaRPr>
          </a:p>
        </p:txBody>
      </p:sp>
      <p:sp>
        <p:nvSpPr>
          <p:cNvPr id="130" name="PlaceHolder 2"/>
          <p:cNvSpPr>
            <a:spLocks noGrp="1"/>
          </p:cNvSpPr>
          <p:nvPr>
            <p:ph/>
          </p:nvPr>
        </p:nvSpPr>
        <p:spPr>
          <a:xfrm>
            <a:off x="457200" y="914400"/>
            <a:ext cx="8229600" cy="5216400"/>
          </a:xfrm>
          <a:prstGeom prst="rect">
            <a:avLst/>
          </a:prstGeom>
          <a:noFill/>
          <a:ln w="0">
            <a:noFill/>
          </a:ln>
        </p:spPr>
        <p:txBody>
          <a:bodyPr anchor="t">
            <a:normAutofit/>
          </a:bodyPr>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Arial"/>
                <a:ea typeface="Arial"/>
              </a:rPr>
              <a:t>La coop deve essere formata</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Arial"/>
                <a:ea typeface="Arial"/>
              </a:rPr>
              <a:t>da almeno cinque persone fisiche residenti in almeno due stati membri; </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Arial"/>
                <a:ea typeface="Arial"/>
              </a:rPr>
              <a:t>da almeno cinque persone fisiche e società ai sensi dell'articolo 48, secondo comma, del trattato, nonché da altre entità giuridiche di diritto pubblico o privato, costituite conformemente alla legge di uno Stato membro e che abbiano la sede sociale in almeno due Stati membri diversi o siano soggette alla legge di almeno due Stati membri diversi; </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Arial"/>
                <a:ea typeface="Arial"/>
              </a:rPr>
              <a:t>da società ai sensi dell'articolo 48, secondo comma, del trattato e altre entità giuridiche di diritto pubblico o privato costituite conformemente alla legge di uno Stato membro che siano soggette alla giurisdizione di almeno due Stati membri diversi; </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Arial"/>
                <a:ea typeface="Arial"/>
              </a:rPr>
              <a:t>mediante fusione di cooperative costituite secondo la legge di uno Stato membro e aventi la sede sociale e l'amministrazione centrale nella Comunità, se almeno due di esse sono soggette alla legge di Stati membri diversi; </a:t>
            </a:r>
            <a:endParaRPr b="0" lang="en-US" sz="1800" spc="-1" strike="noStrike">
              <a:solidFill>
                <a:srgbClr val="eaeaea"/>
              </a:solidFill>
              <a:latin typeface="Verdana"/>
            </a:endParaRPr>
          </a:p>
          <a:p>
            <a:pPr marL="343080" indent="-343080">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Arial"/>
                <a:ea typeface="Arial"/>
              </a:rPr>
              <a:t>mediante trasformazione di una cooperativa, costituita secondo la legge di uno Stato membro ed avente la sede sociale e l'amministrazione centrale nella Comunità, se ha da almeno due anni una filiazione o una succursale soggetti alla legge di un altro Stato membro. </a:t>
            </a: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cc"/>
                </a:solidFill>
                <a:latin typeface="Arial"/>
              </a:rPr>
              <a:t>Coop europea: iscrizione</a:t>
            </a:r>
            <a:endParaRPr b="0" lang="en-US" sz="4400" spc="-1" strike="noStrike">
              <a:solidFill>
                <a:srgbClr val="ffffcc"/>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cc"/>
                </a:solidFill>
                <a:latin typeface="Arial"/>
                <a:ea typeface="Arial"/>
              </a:rPr>
              <a:t>Ogni SCE è soggetta all'obbligo di iscrizione, nello Stato membro della sede sociale, in un registro designato dalla legge di tale Stato conformemente alla legge applicabile alle società per azioni. L'iscrizione e la cancellazione dell'iscrizione di una SCE formano oggetto di una comunicazione pubblicata a titolo informativo nella Gazzetta ufficiale dell'Unione europea.</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cc"/>
                </a:solidFill>
                <a:latin typeface="Arial"/>
                <a:ea typeface="Arial"/>
              </a:rPr>
              <a:t>Gli atti e le indicazioni riguardanti la SCE soggetti all'obbligo di pubblicità in base al presente regolamento sono pubblicati secondo le modalità previste dalla legislazione dello Stato membro per le società per azioni in cui la SCE ha la sede sociale.</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cc"/>
                </a:solidFill>
                <a:latin typeface="Arial"/>
              </a:rPr>
              <a:t>Lo stato dell’arte: il trattato CE art. 48</a:t>
            </a:r>
            <a:endParaRPr b="0" lang="en-US" sz="3600" spc="-1" strike="noStrike">
              <a:solidFill>
                <a:srgbClr val="ffffcc"/>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Verdana"/>
              </a:rPr>
              <a:t>Le società costituite conformemente alla legislazione di uno Stato membro e aventi la sede sociale, l'amministrazione centrale o il centro di attività principale all'interno della Comunità, sono equiparate, ai fini dell'applicazione delle disposizioni del presente capo, alle persone fisiche aventi la cittadinanza degli Stati membri. </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Verdana"/>
              </a:rPr>
              <a:t>Per società si intendono le società di diritto civile o di diritto commerciale, ivi comprese le società cooperative, e le altre persone giuridiche contemplate dal diritto pubblico o privato, ad eccezione delle società che non si prefiggono scopi di lucro.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90756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Arial"/>
              </a:rPr>
              <a:t>Più che di impresa europea si deve parlare di circolazione di imprese armonizzate</a:t>
            </a:r>
            <a:endParaRPr b="0" lang="en-US" sz="4000" spc="-1" strike="noStrike">
              <a:solidFill>
                <a:srgbClr val="ffffcc"/>
              </a:solidFill>
              <a:latin typeface="Arial"/>
            </a:endParaRPr>
          </a:p>
        </p:txBody>
      </p:sp>
      <p:sp>
        <p:nvSpPr>
          <p:cNvPr id="136" name="PlaceHolder 2"/>
          <p:cNvSpPr>
            <a:spLocks noGrp="1"/>
          </p:cNvSpPr>
          <p:nvPr>
            <p:ph/>
          </p:nvPr>
        </p:nvSpPr>
        <p:spPr>
          <a:xfrm>
            <a:off x="457200" y="2852640"/>
            <a:ext cx="8229600" cy="327816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Verdana"/>
              </a:rPr>
              <a:t>Direttiva succursali</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Verdana"/>
              </a:rPr>
              <a:t>Fusioni transfrontalier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aeaea"/>
                </a:solidFill>
                <a:latin typeface="Verdana"/>
              </a:rPr>
              <a:t>Trasferimento sede sociale infracomunitario</a:t>
            </a:r>
            <a:endParaRPr b="0" lang="en-US" sz="3200" spc="-1" strike="noStrike">
              <a:solidFill>
                <a:srgbClr val="eaeaea"/>
              </a:solidFill>
              <a:latin typeface="Verdana"/>
            </a:endParaRPr>
          </a:p>
        </p:txBody>
      </p:sp>
      <p:sp>
        <p:nvSpPr>
          <p:cNvPr id="137" name="Rectangle 4"/>
          <p:cNvSpPr/>
          <p:nvPr/>
        </p:nvSpPr>
        <p:spPr>
          <a:xfrm>
            <a:off x="7559640" y="6033960"/>
            <a:ext cx="158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3399"/>
                </a:solidFill>
                <a:latin typeface="Chiller"/>
              </a:rPr>
              <a:t>MM</a:t>
            </a:r>
            <a:endParaRPr b="0" lang="en-US" sz="4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2T09:19:13Z</dcterms:created>
  <dc:creator>maceroni</dc:creator>
  <dc:description/>
  <dc:language>en-US</dc:language>
  <cp:lastModifiedBy> </cp:lastModifiedBy>
  <dcterms:modified xsi:type="dcterms:W3CDTF">2009-05-20T13:28:58Z</dcterms:modified>
  <cp:revision>89</cp:revision>
  <dc:subject/>
  <dc:title>Decreto interministeriale 30 giugno 2003, n. 221</dc:title>
</cp:coreProperties>
</file>