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0873-4861-440E-8F51-1B2BE72B2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F9BA-C20B-478D-8762-63DECFF91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7563-2FBC-43A9-9AA4-B6BD32195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B2AA-BF17-417F-B7E0-455688ABE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0F64F-76A6-4CCC-BFA5-67252C3B2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70B78-6C3F-469B-9BA1-C4CCC5DA1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7999B-0267-47DB-BEFD-A0B3FC081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A2CEE-F3E2-4B9E-BD1D-67B9C67DE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0F3D9-52AD-45AE-9300-E1DAD612B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703D8-7B36-471A-A209-3162E6502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2E27D-489A-47F6-B653-5CE660442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E9BB-0966-4956-B8C8-BC3EE8921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8A450-B67C-4E17-A6CD-6BBAEAE9D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849B6-AFC6-4AF7-B636-2C7305938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33DE5-334E-4786-805E-17472A8E1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C0FB1-599D-41CA-B3A5-BAFF01698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C2A63-B6D7-4DBE-AEE2-C96C61C2B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583B-67EF-4B4B-98DB-55E34DF1E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0CF2-E76F-45C1-A97C-59E929C29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7EBC-8729-427E-A00F-E044F67D1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AFA0-B9DE-4398-A885-65BB68EEE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AABB-B8C1-422A-BB3A-EED2D614B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2928-DAEB-445B-97C8-364CABD3A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C476-6003-4363-9A91-32692822F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ZapfChancery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ZapfChancery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ZapfChancery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ZapfChancery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ZapfChancery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ZapfChancery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ZapfChancery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ZapfChancery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ZapfChancery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ZapfChancery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ZapfChancery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ZapfChancery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ZapfChancery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ZapfChancery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ZapfChancery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ZapfChancery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ZapfChancery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ZapfChancery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ZapfChancery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ZapfChancery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ZapfChancery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ZapfChancery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ZapfChancery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ZapfChancery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ZapfChancery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ZapfChancery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ZapfChancery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ZapfChancery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ZapfChancery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ZapfChancery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ZapfChancery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ZapfChancery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ZapfChancery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ZapfChancery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ZapfChancery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ZapfChancery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ZapfChancery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ZapfChancery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ZapfChancery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ZapfChancery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ZapfChancery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ZapfChancery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ZapfChancery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ZapfChancery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ZapfChancery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ZapfChancery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ZapfChancery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ZapfChancery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ZapfChancery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ZapfChancery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ZapfChancery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ZapfChancery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ZapfChancery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ZapfChancery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ZapfChancery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ZapfChancery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ZapfChancery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ZapfChancery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ZapfChancery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ZapfChancery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ZapfChancery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72"/>
          <p:cNvSpPr/>
          <p:nvPr/>
        </p:nvSpPr>
        <p:spPr>
          <a:xfrm>
            <a:off x="8028000" y="6216480"/>
            <a:ext cx="111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9933"/>
                </a:solidFill>
                <a:latin typeface="Marigold"/>
              </a:rPr>
              <a:t>MM</a:t>
            </a:r>
            <a:endParaRPr b="0" lang="en-US" sz="4000" spc="-1" strike="noStrike">
              <a:solidFill>
                <a:srgbClr val="ffffff"/>
              </a:solidFill>
              <a:latin typeface="ZapfChancery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8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ZapfChancery"/>
              </a:endParaRPr>
            </a:p>
          </p:txBody>
        </p:sp>
        <p:grpSp>
          <p:nvGrpSpPr>
            <p:cNvPr id="109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10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ZapfChancery"/>
                </a:endParaRPr>
              </a:p>
            </p:txBody>
          </p:sp>
          <p:sp>
            <p:nvSpPr>
              <p:cNvPr id="111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ZapfChancery"/>
                </a:endParaRPr>
              </a:p>
            </p:txBody>
          </p:sp>
          <p:sp>
            <p:nvSpPr>
              <p:cNvPr id="112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ZapfChancery"/>
                </a:endParaRPr>
              </a:p>
            </p:txBody>
          </p:sp>
          <p:sp>
            <p:nvSpPr>
              <p:cNvPr id="113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ZapfChancery"/>
                </a:endParaRPr>
              </a:p>
            </p:txBody>
          </p:sp>
          <p:sp>
            <p:nvSpPr>
              <p:cNvPr id="114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ZapfChancery"/>
                </a:endParaRPr>
              </a:p>
            </p:txBody>
          </p:sp>
          <p:sp>
            <p:nvSpPr>
              <p:cNvPr id="115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ZapfChancery"/>
                </a:endParaRPr>
              </a:p>
            </p:txBody>
          </p:sp>
          <p:sp>
            <p:nvSpPr>
              <p:cNvPr id="116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ZapfChancery"/>
                </a:endParaRPr>
              </a:p>
            </p:txBody>
          </p:sp>
          <p:sp>
            <p:nvSpPr>
              <p:cNvPr id="117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ZapfChancery"/>
                </a:endParaRPr>
              </a:p>
            </p:txBody>
          </p:sp>
          <p:sp>
            <p:nvSpPr>
              <p:cNvPr id="118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ZapfChancery"/>
                </a:endParaRPr>
              </a:p>
            </p:txBody>
          </p:sp>
          <p:sp>
            <p:nvSpPr>
              <p:cNvPr id="119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ZapfChancery"/>
                </a:endParaRPr>
              </a:p>
            </p:txBody>
          </p:sp>
          <p:sp>
            <p:nvSpPr>
              <p:cNvPr id="120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ZapfChancery"/>
                </a:endParaRPr>
              </a:p>
            </p:txBody>
          </p:sp>
        </p:grpSp>
        <p:grpSp>
          <p:nvGrpSpPr>
            <p:cNvPr id="121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2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ZapfChancery"/>
                </a:endParaRPr>
              </a:p>
            </p:txBody>
          </p:sp>
          <p:sp>
            <p:nvSpPr>
              <p:cNvPr id="123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ZapfChancery"/>
                </a:endParaRPr>
              </a:p>
            </p:txBody>
          </p:sp>
          <p:sp>
            <p:nvSpPr>
              <p:cNvPr id="124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ZapfChancery"/>
                </a:endParaRPr>
              </a:p>
            </p:txBody>
          </p:sp>
          <p:sp>
            <p:nvSpPr>
              <p:cNvPr id="125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ZapfChancery"/>
                </a:endParaRPr>
              </a:p>
            </p:txBody>
          </p:sp>
          <p:sp>
            <p:nvSpPr>
              <p:cNvPr id="126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ZapfChancery"/>
                </a:endParaRPr>
              </a:p>
            </p:txBody>
          </p:sp>
          <p:sp>
            <p:nvSpPr>
              <p:cNvPr id="127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ZapfChancery"/>
                </a:endParaRPr>
              </a:p>
            </p:txBody>
          </p:sp>
          <p:sp>
            <p:nvSpPr>
              <p:cNvPr id="128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ZapfChancery"/>
                </a:endParaRPr>
              </a:p>
            </p:txBody>
          </p:sp>
          <p:sp>
            <p:nvSpPr>
              <p:cNvPr id="129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ZapfChancery"/>
                </a:endParaRPr>
              </a:p>
            </p:txBody>
          </p:sp>
          <p:sp>
            <p:nvSpPr>
              <p:cNvPr id="130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ZapfChancery"/>
                </a:endParaRPr>
              </a:p>
            </p:txBody>
          </p:sp>
          <p:sp>
            <p:nvSpPr>
              <p:cNvPr id="131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ZapfChancery"/>
                </a:endParaRPr>
              </a:p>
            </p:txBody>
          </p:sp>
          <p:sp>
            <p:nvSpPr>
              <p:cNvPr id="132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ZapfChancery"/>
                </a:endParaRPr>
              </a:p>
            </p:txBody>
          </p:sp>
          <p:sp>
            <p:nvSpPr>
              <p:cNvPr id="133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ZapfChancery"/>
                </a:endParaRPr>
              </a:p>
            </p:txBody>
          </p:sp>
          <p:sp>
            <p:nvSpPr>
              <p:cNvPr id="134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ZapfChancery"/>
                </a:endParaRPr>
              </a:p>
            </p:txBody>
          </p:sp>
          <p:sp>
            <p:nvSpPr>
              <p:cNvPr id="135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ZapfChancery"/>
                </a:endParaRPr>
              </a:p>
            </p:txBody>
          </p:sp>
          <p:sp>
            <p:nvSpPr>
              <p:cNvPr id="136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ZapfChancery"/>
                </a:endParaRPr>
              </a:p>
            </p:txBody>
          </p:sp>
          <p:sp>
            <p:nvSpPr>
              <p:cNvPr id="137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ZapfChancery"/>
                </a:endParaRPr>
              </a:p>
            </p:txBody>
          </p:sp>
          <p:sp>
            <p:nvSpPr>
              <p:cNvPr id="138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ZapfChancery"/>
                </a:endParaRPr>
              </a:p>
            </p:txBody>
          </p:sp>
          <p:sp>
            <p:nvSpPr>
              <p:cNvPr id="139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ZapfChancery"/>
                </a:endParaRPr>
              </a:p>
            </p:txBody>
          </p:sp>
        </p:grpSp>
        <p:grpSp>
          <p:nvGrpSpPr>
            <p:cNvPr id="140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1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ZapfChancery"/>
                </a:endParaRPr>
              </a:p>
            </p:txBody>
          </p:sp>
          <p:sp>
            <p:nvSpPr>
              <p:cNvPr id="142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ZapfChancery"/>
                </a:endParaRPr>
              </a:p>
            </p:txBody>
          </p:sp>
          <p:sp>
            <p:nvSpPr>
              <p:cNvPr id="143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ZapfChancery"/>
                </a:endParaRPr>
              </a:p>
            </p:txBody>
          </p:sp>
          <p:sp>
            <p:nvSpPr>
              <p:cNvPr id="144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ZapfChancery"/>
                </a:endParaRPr>
              </a:p>
            </p:txBody>
          </p:sp>
          <p:sp>
            <p:nvSpPr>
              <p:cNvPr id="145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ZapfChancery"/>
                </a:endParaRPr>
              </a:p>
            </p:txBody>
          </p:sp>
          <p:sp>
            <p:nvSpPr>
              <p:cNvPr id="146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ZapfChancery"/>
                </a:endParaRPr>
              </a:p>
            </p:txBody>
          </p:sp>
          <p:sp>
            <p:nvSpPr>
              <p:cNvPr id="147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ZapfChancery"/>
                </a:endParaRPr>
              </a:p>
            </p:txBody>
          </p:sp>
          <p:sp>
            <p:nvSpPr>
              <p:cNvPr id="148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ZapfChancery"/>
                </a:endParaRPr>
              </a:p>
            </p:txBody>
          </p:sp>
          <p:sp>
            <p:nvSpPr>
              <p:cNvPr id="149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ZapfChancery"/>
                </a:endParaRPr>
              </a:p>
            </p:txBody>
          </p:sp>
          <p:sp>
            <p:nvSpPr>
              <p:cNvPr id="150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ZapfChancery"/>
                </a:endParaRPr>
              </a:p>
            </p:txBody>
          </p:sp>
          <p:sp>
            <p:nvSpPr>
              <p:cNvPr id="151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ZapfChancery"/>
                </a:endParaRPr>
              </a:p>
            </p:txBody>
          </p:sp>
          <p:sp>
            <p:nvSpPr>
              <p:cNvPr id="152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ZapfChancery"/>
                </a:endParaRPr>
              </a:p>
            </p:txBody>
          </p:sp>
          <p:sp>
            <p:nvSpPr>
              <p:cNvPr id="153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ZapfChancery"/>
                </a:endParaRPr>
              </a:p>
            </p:txBody>
          </p:sp>
          <p:sp>
            <p:nvSpPr>
              <p:cNvPr id="154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ZapfChancery"/>
                </a:endParaRPr>
              </a:p>
            </p:txBody>
          </p:sp>
          <p:sp>
            <p:nvSpPr>
              <p:cNvPr id="155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ZapfChancery"/>
                </a:endParaRPr>
              </a:p>
            </p:txBody>
          </p:sp>
          <p:sp>
            <p:nvSpPr>
              <p:cNvPr id="156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ZapfChancery"/>
                </a:endParaRPr>
              </a:p>
            </p:txBody>
          </p:sp>
          <p:sp>
            <p:nvSpPr>
              <p:cNvPr id="157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ZapfChancery"/>
                </a:endParaRPr>
              </a:p>
            </p:txBody>
          </p:sp>
        </p:grpSp>
        <p:grpSp>
          <p:nvGrpSpPr>
            <p:cNvPr id="158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9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ZapfChancery"/>
                </a:endParaRPr>
              </a:p>
            </p:txBody>
          </p:sp>
          <p:sp>
            <p:nvSpPr>
              <p:cNvPr id="160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ZapfChancery"/>
                </a:endParaRPr>
              </a:p>
            </p:txBody>
          </p:sp>
          <p:sp>
            <p:nvSpPr>
              <p:cNvPr id="161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ZapfChancery"/>
                </a:endParaRPr>
              </a:p>
            </p:txBody>
          </p:sp>
          <p:sp>
            <p:nvSpPr>
              <p:cNvPr id="162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ZapfChancery"/>
                </a:endParaRPr>
              </a:p>
            </p:txBody>
          </p:sp>
          <p:sp>
            <p:nvSpPr>
              <p:cNvPr id="163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ZapfChancery"/>
                </a:endParaRPr>
              </a:p>
            </p:txBody>
          </p:sp>
          <p:sp>
            <p:nvSpPr>
              <p:cNvPr id="164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ZapfChancery"/>
                </a:endParaRPr>
              </a:p>
            </p:txBody>
          </p:sp>
          <p:sp>
            <p:nvSpPr>
              <p:cNvPr id="165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ZapfChancery"/>
                </a:endParaRPr>
              </a:p>
            </p:txBody>
          </p:sp>
          <p:grpSp>
            <p:nvGrpSpPr>
              <p:cNvPr id="166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7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ZapfChancery"/>
                  </a:endParaRPr>
                </a:p>
              </p:txBody>
            </p:sp>
            <p:sp>
              <p:nvSpPr>
                <p:cNvPr id="168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ZapfChancery"/>
                  </a:endParaRPr>
                </a:p>
              </p:txBody>
            </p:sp>
            <p:sp>
              <p:nvSpPr>
                <p:cNvPr id="169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ZapfChancery"/>
                  </a:endParaRPr>
                </a:p>
              </p:txBody>
            </p:sp>
            <p:sp>
              <p:nvSpPr>
                <p:cNvPr id="170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ZapfChancery"/>
                  </a:endParaRPr>
                </a:p>
              </p:txBody>
            </p:sp>
          </p:grp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ZapfChancery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ZapfChancery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ZapfChancery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bd01.deaprofessionale.it/cgi-bin/FulShow?TIPO=5&amp;NOTXT=1&amp;SSCKEY=349694239&amp;KEY=01LX0000101556&amp;" TargetMode="External"/><Relationship Id="rId2" Type="http://schemas.openxmlformats.org/officeDocument/2006/relationships/hyperlink" Target="http://bd01.deaprofessionale.it/cgi-bin/FulShow?TIPO=5&amp;NOTXT=1&amp;SSCKEY=349694239&amp;KEY=01LX0000101556&amp;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Picture 3" descr="stellone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324000" y="404640"/>
            <a:ext cx="961920" cy="1105200"/>
          </a:xfrm>
          <a:prstGeom prst="rect">
            <a:avLst/>
          </a:prstGeom>
          <a:ln w="0">
            <a:noFill/>
          </a:ln>
        </p:spPr>
      </p:pic>
      <p:sp>
        <p:nvSpPr>
          <p:cNvPr id="214" name="Rectangle 4"/>
          <p:cNvSpPr/>
          <p:nvPr/>
        </p:nvSpPr>
        <p:spPr>
          <a:xfrm>
            <a:off x="324000" y="1904760"/>
            <a:ext cx="8424720" cy="463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4000" spc="-1" strike="noStrike">
                <a:solidFill>
                  <a:srgbClr val="ffffff"/>
                </a:solidFill>
                <a:latin typeface="Garamond"/>
              </a:rPr>
              <a:t>La libera prestazione dei servizi nel quadro del decreto legislativo</a:t>
            </a:r>
            <a:endParaRPr b="0" lang="en-US" sz="4000" spc="-1" strike="noStrike">
              <a:solidFill>
                <a:srgbClr val="ffffff"/>
              </a:solidFill>
              <a:latin typeface="ZapfChancery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4000" spc="-1" strike="noStrike">
                <a:solidFill>
                  <a:srgbClr val="ffcc00"/>
                </a:solidFill>
                <a:latin typeface="Garamond"/>
              </a:rPr>
              <a:t>206/2007</a:t>
            </a:r>
            <a:endParaRPr b="0" lang="en-US" sz="4000" spc="-1" strike="noStrike">
              <a:solidFill>
                <a:srgbClr val="ffffff"/>
              </a:solidFill>
              <a:latin typeface="ZapfChancery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ZapfChancery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ZapfChancery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ZapfChancery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cc00"/>
                </a:solidFill>
                <a:latin typeface="Arial"/>
              </a:rPr>
              <a:t>Seminario 22 giugno 2009 - MILANO</a:t>
            </a:r>
            <a:endParaRPr b="0" lang="en-US" sz="1800" spc="-1" strike="noStrike">
              <a:solidFill>
                <a:srgbClr val="ffffff"/>
              </a:solidFill>
              <a:latin typeface="ZapfChancery"/>
            </a:endParaRPr>
          </a:p>
        </p:txBody>
      </p:sp>
      <p:pic>
        <p:nvPicPr>
          <p:cNvPr id="215" name="Picture 5" descr=""/>
          <p:cNvPicPr/>
          <p:nvPr/>
        </p:nvPicPr>
        <p:blipFill>
          <a:blip r:embed="rId2"/>
          <a:stretch/>
        </p:blipFill>
        <p:spPr>
          <a:xfrm>
            <a:off x="7236000" y="404640"/>
            <a:ext cx="1657080" cy="10368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8" descr="logoUCL-2006Xemail-DOC"/>
          <p:cNvPicPr/>
          <p:nvPr/>
        </p:nvPicPr>
        <p:blipFill>
          <a:blip r:embed="rId3"/>
          <a:stretch/>
        </p:blipFill>
        <p:spPr>
          <a:xfrm>
            <a:off x="2214720" y="428760"/>
            <a:ext cx="3786120" cy="135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9933"/>
                </a:solidFill>
                <a:latin typeface="Arial"/>
              </a:rPr>
              <a:t>Da oggi… art. 9 d. lvo 206/07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La libera prestazione di servizi sul territorio nazionale </a:t>
            </a:r>
            <a:r>
              <a:rPr b="0" lang="it-IT" sz="2400" spc="-1" strike="noStrike">
                <a:solidFill>
                  <a:srgbClr val="ffcc00"/>
                </a:solidFill>
                <a:latin typeface="Arial"/>
              </a:rPr>
              <a:t>non può essere limitata per ragioni attinenti alle qualifiche professionali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it-IT" sz="2400" spc="-1" strike="noStrike">
                <a:solidFill>
                  <a:srgbClr val="ff9933"/>
                </a:solidFill>
                <a:latin typeface="Arial"/>
              </a:rPr>
              <a:t>se il prestatore è legalmente stabilito in un altro Stato membro per esercitarvi la </a:t>
            </a:r>
            <a:r>
              <a:rPr b="0" lang="it-IT" sz="2400" spc="-1" strike="noStrike">
                <a:solidFill>
                  <a:srgbClr val="cc3300"/>
                </a:solidFill>
                <a:latin typeface="Arial"/>
              </a:rPr>
              <a:t>corrispondente</a:t>
            </a:r>
            <a:r>
              <a:rPr b="0" lang="it-IT" sz="2400" spc="-1" strike="noStrike">
                <a:solidFill>
                  <a:srgbClr val="ff9933"/>
                </a:solidFill>
                <a:latin typeface="Arial"/>
              </a:rPr>
              <a:t> professione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) in caso di spostamento del prestatore; in tal caso, </a:t>
            </a:r>
            <a:r>
              <a:rPr b="0" lang="it-IT" sz="2400" spc="-1" strike="noStrike">
                <a:solidFill>
                  <a:srgbClr val="ff9933"/>
                </a:solidFill>
                <a:latin typeface="Arial"/>
              </a:rPr>
              <a:t>se nello Stato membro di stabilimento la professione non è regolamentata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, il prestatore deve aver esercitato tale professione per almeno </a:t>
            </a:r>
            <a:r>
              <a:rPr b="0" lang="it-IT" sz="2400" spc="-1" strike="noStrike">
                <a:solidFill>
                  <a:srgbClr val="ffcc00"/>
                </a:solidFill>
                <a:latin typeface="Arial"/>
              </a:rPr>
              <a:t>due anni nel corso dei dieci anni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che precedono la prestazione di servizi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2. Le disposizioni del presente titolo si applicano esclusivamente nel caso in cui il prestatore si sposta sul territorio dello Stato per esercitare, in modo </a:t>
            </a:r>
            <a:r>
              <a:rPr b="0" lang="it-IT" sz="2400" spc="-1" strike="noStrike">
                <a:solidFill>
                  <a:srgbClr val="ffcc00"/>
                </a:solidFill>
                <a:latin typeface="Arial"/>
              </a:rPr>
              <a:t>temporaneo e occasionale,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la professione di cui al comma 1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319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cecff"/>
                </a:solidFill>
                <a:latin typeface="Arial"/>
              </a:rPr>
              <a:t>Il principio fondamentale resta la libertà di prestare il servizio occasionale, senza alcun limite, ma, intanto se l’attività da noi regolamentata (ad es. 46/90) non lo è nel paese di stabilimento del prestatore, si richiede un’esperienza pratica biennale recente. </a:t>
            </a:r>
            <a:br>
              <a:rPr sz="2800"/>
            </a:br>
            <a:r>
              <a:rPr b="0" lang="it-IT" sz="2800" spc="-1" strike="noStrike">
                <a:solidFill>
                  <a:srgbClr val="ccecff"/>
                </a:solidFill>
                <a:latin typeface="Arial"/>
              </a:rPr>
              <a:t>Poi il carattere temporaneo e occasionale della prestazione è valutato, caso per caso, tenuto conto anche della natura della prestazione, della durata della prestazione stessa, della sua frequenza, della sua periodicità</a:t>
            </a:r>
            <a:br>
              <a:rPr sz="2800"/>
            </a:b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Infine, il prestatore è soggetto alle norme che disciplinano l'esercizio della professione che è ammesso ad esercitare, quali la definizione della professione, l'uso dei titoli e la responsabilità professionale connessa direttamente e specificamente alla tutela e sicurezza dei consumatori, </a:t>
            </a:r>
            <a:r>
              <a:rPr b="0" lang="it-IT" sz="3200" spc="-1" strike="noStrike">
                <a:solidFill>
                  <a:srgbClr val="ffcc00"/>
                </a:solidFill>
                <a:latin typeface="Arial"/>
              </a:rPr>
              <a:t>nonchè alle disposizioni disciplinari applicabili ai professionisti che, sul territorio italiano, esercitano la professione corrispondent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9933"/>
                </a:solidFill>
                <a:latin typeface="Arial"/>
              </a:rPr>
              <a:t>…</a:t>
            </a:r>
            <a:r>
              <a:rPr b="0" lang="it-IT" sz="4400" spc="-1" strike="noStrike">
                <a:solidFill>
                  <a:srgbClr val="ff9933"/>
                </a:solidFill>
                <a:latin typeface="Arial"/>
              </a:rPr>
              <a:t>novità… (art. 10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Il prestatore che </a:t>
            </a:r>
            <a:r>
              <a:rPr b="0" lang="it-IT" sz="2800" spc="-1" strike="noStrike">
                <a:solidFill>
                  <a:srgbClr val="ffcc00"/>
                </a:solidFill>
                <a:latin typeface="Arial"/>
              </a:rPr>
              <a:t>si sposta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per la prima volta da un altro Stato membro sul territorio nazionale per fornire servizi </a:t>
            </a:r>
            <a:r>
              <a:rPr b="0" lang="it-IT" sz="2800" spc="-1" strike="noStrike">
                <a:solidFill>
                  <a:srgbClr val="ffcc00"/>
                </a:solidFill>
                <a:latin typeface="Arial"/>
              </a:rPr>
              <a:t>è tenuto ad informare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99ff99"/>
                </a:solidFill>
                <a:latin typeface="Arial"/>
              </a:rPr>
              <a:t>30 giorni prima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, salvo i casi di urgenza, </a:t>
            </a:r>
            <a:r>
              <a:rPr b="0" lang="it-IT" sz="2800" spc="-1" strike="noStrike">
                <a:solidFill>
                  <a:srgbClr val="ff9933"/>
                </a:solidFill>
                <a:latin typeface="Arial"/>
              </a:rPr>
              <a:t>l'autorità di cui all'articolo 5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con una dichiarazione scritta, contenente informazioni sulla prestazione di servizi che intende svolgere, nonchè sulla copertura assicurativa o analoghi mezzi di protezione personale o collettiva per la responsabilità professionale. </a:t>
            </a:r>
            <a:r>
              <a:rPr b="0" lang="it-IT" sz="2800" spc="-1" strike="noStrike">
                <a:solidFill>
                  <a:srgbClr val="ffcc00"/>
                </a:solidFill>
                <a:latin typeface="Arial"/>
              </a:rPr>
              <a:t>Tale dichiarazione ha validità per l'anno in corso e deve essere rinnovata,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se il prestatore intende successivamente fornire servizi temporanei o occasionali in tale Stato membro. Il prestatore può fornire la dichiarazione con qualsiasi mezzo idoneo di comunicazio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14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cc3300"/>
                </a:solidFill>
                <a:latin typeface="Arial"/>
              </a:rPr>
              <a:t>Dichiarazione</a:t>
            </a:r>
            <a:r>
              <a:rPr b="0" lang="it-IT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Lo stato membro di destinazione (Italia) riceve una dichiarazione da parte del libero prestatore di servizi che entro </a:t>
            </a:r>
            <a:r>
              <a:rPr b="0" lang="it-IT" sz="3200" spc="-1" strike="noStrike">
                <a:solidFill>
                  <a:srgbClr val="cc3300"/>
                </a:solidFill>
                <a:latin typeface="Arial"/>
              </a:rPr>
              <a:t>30 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giorni (</a:t>
            </a:r>
            <a:r>
              <a:rPr b="0" lang="it-IT" sz="3200" spc="-1" strike="noStrike">
                <a:solidFill>
                  <a:srgbClr val="ffcc00"/>
                </a:solidFill>
                <a:latin typeface="Arial"/>
              </a:rPr>
              <a:t>salvo casi d’urgenza non meglio identificati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) dall’avvio della l.p.s. dichiara che intende svolgere un’attività regolamentata. È ovvio che tale dichiarazione riguarderà le sole attività regolamentate, perché altrimenti non avrebbe senso l’inserimento della disciplina nella IV direttiva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La dichiarazione deve essere rinnovata scaduto un ann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cc3300"/>
                </a:solidFill>
                <a:latin typeface="Arial"/>
              </a:rPr>
              <a:t>Dichiarazione </a:t>
            </a:r>
            <a:r>
              <a:rPr b="0" lang="it-IT" sz="4400" spc="-1" strike="noStrike">
                <a:solidFill>
                  <a:srgbClr val="cc3300"/>
                </a:solidFill>
                <a:latin typeface="Wingdings"/>
                <a:ea typeface="Wingdings"/>
              </a:rPr>
              <a:t></a:t>
            </a:r>
            <a:r>
              <a:rPr b="0" lang="it-IT" sz="4400" spc="-1" strike="noStrike">
                <a:solidFill>
                  <a:srgbClr val="cc3300"/>
                </a:solidFill>
                <a:latin typeface="Arial"/>
              </a:rPr>
              <a:t> natur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La dichiarazione ex art. 10 somiglia molto, quanto a natura, alla DIA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È una dichiarazione d’inten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Non obbliga il dichiarante a svolgere l’attivit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Lo tiene sospeso per almeno 30 giorn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La p.a. competente non è tenuta ad altro controllo se non forma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Ma rispetto alla DIA vigente, manca la C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9933"/>
                </a:solidFill>
                <a:latin typeface="Arial"/>
              </a:rPr>
              <a:t>…</a:t>
            </a:r>
            <a:r>
              <a:rPr b="0" lang="it-IT" sz="4400" spc="-1" strike="noStrike">
                <a:solidFill>
                  <a:srgbClr val="ff9933"/>
                </a:solidFill>
                <a:latin typeface="Arial"/>
              </a:rPr>
              <a:t>novità… (art. 10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In occasione della prima prestazione, la dichiarazione deve essere corredata di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) un certificato o copia di un documento che attesti la </a:t>
            </a:r>
            <a:r>
              <a:rPr b="0" lang="it-IT" sz="2400" spc="-1" strike="noStrike">
                <a:solidFill>
                  <a:srgbClr val="ffcc00"/>
                </a:solidFill>
                <a:latin typeface="Arial"/>
              </a:rPr>
              <a:t>nazionalità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del prestatore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) una certificazione </a:t>
            </a:r>
            <a:r>
              <a:rPr b="0" lang="it-IT" sz="2400" spc="-1" strike="noStrike">
                <a:solidFill>
                  <a:srgbClr val="ffcc00"/>
                </a:solidFill>
                <a:latin typeface="Arial"/>
              </a:rPr>
              <a:t>dell'autorità competente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che attesti che il titolare è legalmente stabilito in uno Stato membro per esercitare le attività in questione e che </a:t>
            </a:r>
            <a:r>
              <a:rPr b="0" lang="it-IT" sz="2400" spc="-1" strike="noStrike">
                <a:solidFill>
                  <a:srgbClr val="ffcc00"/>
                </a:solidFill>
                <a:latin typeface="Arial"/>
              </a:rPr>
              <a:t>non gli è vietato esercitarle,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anche su base temporanea, al momento del rilascio dell'attestato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ffff"/>
                </a:solidFill>
                <a:latin typeface="Arial"/>
              </a:rPr>
              <a:t>c) un documento che comprovi il possesso delle qualifiche professionali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) nei casi di cui all'articolo 9, comma 1, lettera </a:t>
            </a:r>
            <a:r>
              <a:rPr b="0" i="1" lang="it-IT" sz="24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), una prova con qualsiasi mezzo che il prestatore ha esercitato l'attività in questione per almeno </a:t>
            </a:r>
            <a:r>
              <a:rPr b="0" lang="it-IT" sz="2400" spc="-1" strike="noStrike">
                <a:solidFill>
                  <a:srgbClr val="ffcc00"/>
                </a:solidFill>
                <a:latin typeface="Arial"/>
              </a:rPr>
              <a:t>due anni nei precedenti dieci anni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ffff"/>
                </a:solidFill>
                <a:latin typeface="Arial"/>
              </a:rPr>
              <a:t>e) per le professioni nel settore della sicurezza la prova di assenza di condanne penali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9933"/>
                </a:solidFill>
                <a:latin typeface="Arial"/>
              </a:rPr>
              <a:t>…</a:t>
            </a:r>
            <a:r>
              <a:rPr b="0" lang="it-IT" sz="4000" spc="-1" strike="noStrike">
                <a:solidFill>
                  <a:srgbClr val="ff9933"/>
                </a:solidFill>
                <a:latin typeface="Arial"/>
              </a:rPr>
              <a:t>seguito…(art. 13)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Copia delle dichiarazioni di cui all'articolo 10, comma 1, è trasmessa dall'autorità competente di cui all'articolo 5 al competente Ordine o Collegio professionale, se esistente, che provvede ad una iscrizione automatica in </a:t>
            </a:r>
            <a:r>
              <a:rPr b="0" lang="it-IT" sz="2400" spc="-1" strike="noStrike">
                <a:solidFill>
                  <a:srgbClr val="ff9933"/>
                </a:solidFill>
                <a:latin typeface="Arial"/>
              </a:rPr>
              <a:t>apposita sezione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9933"/>
                </a:solidFill>
                <a:latin typeface="Arial"/>
              </a:rPr>
              <a:t>degli albi istituiti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e tenuti presso i consigli provinciali e il consiglio nazionale con oneri a carico dell'Ordine o Collegio stessi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ffff"/>
                </a:solidFill>
                <a:latin typeface="Arial"/>
              </a:rPr>
              <a:t>Nel caso di professioni di cui all'articolo 11, comma 1, e di cui al titolo III, capo IV, contestualmente alla dichiarazione è trasmessa copia della documentazione di cui all'articolo 10, comma 2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L'iscrizione di cui al comma 1 è assicurata per la durata di efficacia della dichiarazione di cui all'articolo 10, comma 1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it-IT" sz="2400" spc="-1" strike="noStrike">
                <a:solidFill>
                  <a:srgbClr val="ffffff"/>
                </a:solidFill>
                <a:latin typeface="Arial"/>
              </a:rPr>
              <a:t>L'iscrizione all'ordine non comporta l'iscrizione ad enti di previdenza obbligatori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cc3300"/>
                </a:solidFill>
                <a:latin typeface="Arial"/>
              </a:rPr>
              <a:t>Autorità competente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Se non vi sono dubbi che l’autorità competente a ricevere le dichiarazioni è il Ministero, qualche dubbio sorge sull’applicabilità alle CCIAA/CPA della disposizione che preced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Se la disposizione è nata avendo a mente gli ordini e i collegi professionali, nondimeno non può trascurarsene la </a:t>
            </a:r>
            <a:r>
              <a:rPr b="0" i="1" lang="it-IT" sz="3200" spc="-1" strike="noStrike">
                <a:solidFill>
                  <a:srgbClr val="ffffff"/>
                </a:solidFill>
                <a:latin typeface="Arial"/>
              </a:rPr>
              <a:t>ratio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: i terzi devono conoscere che quel libero prestatore è in regola con il disposto dell’art. 10 della direttiva e del d.lvo 206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cc3300"/>
                </a:solidFill>
                <a:latin typeface="Arial"/>
              </a:rPr>
              <a:t>Il ruolo delle CCIA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Per ciò che concerne gli albi e i ruoli camerali (almeno </a:t>
            </a:r>
            <a:r>
              <a:rPr b="0" i="1" lang="it-IT" sz="3200" spc="-1" strike="noStrike">
                <a:solidFill>
                  <a:srgbClr val="ffffff"/>
                </a:solidFill>
                <a:latin typeface="Arial"/>
              </a:rPr>
              <a:t>rebus sic </a:t>
            </a:r>
            <a:r>
              <a:rPr b="0" i="1" lang="la-VA" sz="3200" spc="-1" strike="noStrike">
                <a:solidFill>
                  <a:srgbClr val="ffffff"/>
                </a:solidFill>
                <a:latin typeface="Arial"/>
              </a:rPr>
              <a:t>stantibus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), riterrei applicabile in maniera pedissequa l’art. 13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Più complesso il discorso relativo agli albi tecnologic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ccecff"/>
                </a:solidFill>
                <a:latin typeface="Arial"/>
              </a:rPr>
              <a:t>La IV direttiva ed il decreto legislativo di recepimento 206/07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La direttiva, ed il relativo decreto legislativo di recepimento sono strutturati in quattro titoli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I titolo: disposizioni genera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II titolo: libera prestazione di serviz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III titolo: diritto di stabilimen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Capo I: norme procedural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Capo II: regime generale di riconoscim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Capo III: riconoscimento sulla base dell’esperienza professiona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Capo IV: riconoscimenti automatic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IV titolo: disposizioni fina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cc3300"/>
                </a:solidFill>
                <a:latin typeface="Arial"/>
              </a:rPr>
              <a:t>Gli albi tecnologici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È insuperabile il principio del divieto di imporre al prestatore di stabilirsi (fissando una sede o una u.l.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Tuttavia è lo stesso prestatore che potrebbe avere interesse che risulti “pubblicamente” che esso ha assolto gli obblighi di dichiarazio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Ad esempio perché intende partecipare a pubblici appalti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cc3300"/>
                </a:solidFill>
                <a:latin typeface="Arial"/>
              </a:rPr>
              <a:t>Gli albi tecnologici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Ma l’autorità competente non può tenere elenchi, né conseguentemente rilasciare certificati o simili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Ritengo dunque che detta notizia debba risultare dai registri CCIAA/CP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Tuttavia la notizia rilevante è notizia </a:t>
            </a:r>
            <a:r>
              <a:rPr b="0" lang="it-IT" sz="3200" spc="-1" strike="noStrike">
                <a:solidFill>
                  <a:srgbClr val="ff9933"/>
                </a:solidFill>
                <a:latin typeface="Arial"/>
              </a:rPr>
              <a:t>RE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Quindi l’interfaccia del Ministero è la sol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9933"/>
                </a:solidFill>
                <a:latin typeface="Arial"/>
              </a:rPr>
              <a:t>CCIA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673 0.00393 -0.02847 0.00532 -0.06215 0 C -0.06979 -0.00092 -0.07691 -0.00624 -0.08437 -0.00878 C -0.09496 -0.01918 -0.1059 -0.02242 -0.11771 -0.02936 C -0.12222 -0.03213 -0.12673 -0.0349 -0.13107 -0.0386 C -0.1342 -0.04091 -0.13663 -0.04507 -0.13993 -0.04715 C -0.14409 -0.05016 -0.14896 -0.05062 -0.1533 -0.05316 C -0.17274 -0.06495 -0.18767 -0.08576 -0.20885 -0.09154 C -0.21597 -0.09801 -0.22326 -0.10125 -0.23107 -0.10633 C -0.23941 -0.11743 -0.24722 -0.12598 -0.25781 -0.13292 C -0.27118 -0.15118 -0.28646 -0.17476 -0.29548 -0.1981 C -0.30017 -0.21035 -0.30347 -0.22168 -0.30885 -0.2337 C -0.31267 -0.26398 -0.3118 -0.2945 -0.30225 -0.32247 C -0.29896 -0.33218 -0.29635 -0.34212 -0.2934 -0.35206 C -0.28368 -0.38442 -0.27691 -0.37633 -0.26215 -0.39343 C -0.25434 -0.40268 -0.24739 -0.41308 -0.23993 -0.42302 C -0.23646 -0.42764 -0.2309 -0.42857 -0.22673 -0.43181 C -0.18958 -0.4607 -0.15 -0.47341 -0.10885 -0.48798 C -0.09444 -0.49306 -0.08142 -0.49977 -0.06666 -0.50277 C -0.05139 -0.51109 -0.03611 -0.51918 -0.01996 -0.52358 C -0.000869999999999999 -0.53606 0.01962 -0.53976 0.03993 -0.54715 C 0.06771 -0.55709 0.09584 -0.5631 0.12448 -0.56796 C 0.22518 -0.56588 0.229 -0.57651 0.28889 -0.55617 C 0.29879 -0.546 0.31025 -0.54022 0.31997 -0.52959 C 0.33507 -0.51271 0.32778 -0.51733 0.33993 -0.51179 C 0.35365 -0.49376 0.34722 -0.50485 0.35781 -0.47619 C 0.3592 -0.47226 0.36216 -0.4644 0.36216 -0.4644 C 0.36129 -0.44082 0.36511 -0.40152 0.3533 -0.37864 C 0.34497 -0.34512 0.31979 -0.33102 0.29775 -0.31646 C 0.28299 -0.30675 0.26893 -0.29981 0.2533 -0.29288 C 0.2415 -0.28779 0.22795 -0.27993 0.21563 -0.27808 C 0.20452 -0.27647 0.19341 -0.276 0.18229 -0.27508 C 0.12604 -0.27693 0.06111 -0.27069 0.01337 -0.31946 C 0.00122 -0.35136 0.01129 -0.37101 0.02882 -0.39043 C 0.03698 -0.39944 0.04393 -0.41008 0.0533 -0.41701 C 0.06111 -0.42279 0.06997 -0.42603 0.07778 -0.43181 C 0.0967 -0.44591 0.07518 -0.43851 0.1 -0.44359 C 0.12257 -0.45885 0.15243 -0.46139 0.17778 -0.4644 C 0.21893 -0.46301 0.25122 -0.47919 0.28229 -0.45261 C 0.28091 -0.41586 0.28091 -0.38442 0.26893 -0.35206 C 0.26962 -0.31253 0.27118 -0.27323 0.27118 -0.2337 C 0.27118 -0.19325 0.27014 -0.15279 0.26893 -0.11234 C 0.26858 -0.09917 0.25573 -0.05571 0.24219 -0.05316 C 0.23629 -0.05224 0.23038 -0.05108 0.22448 -0.05039 C 0.14184 -0.05201 0.07726 -0.0564 -0.00225 -0.05316 C -0.00798 -0.03005 -0.00486 -0.04739 0 0 Z">
                                      <p:cBhvr>
                                        <p:cTn id="34" dur="2000" fill="hold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cc3300"/>
                </a:solidFill>
                <a:latin typeface="Arial"/>
              </a:rPr>
              <a:t>Per concludere sugli albi tecnologici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0" y="1844280"/>
            <a:ext cx="91440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Ovviamente non è una CIA perché la comunicazione, è un atto interno tra Ministero e CCIAA – Ordine professiona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Non abili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Non consente l’inizio della attività in LPS, ché questa è legittimamente avviabile col decorso dei trenta giorni dalla dichiarazione effettuata o addirittura ex ante nel caso dell’</a:t>
            </a:r>
            <a:r>
              <a:rPr b="0" i="1" lang="it-IT" sz="3200" spc="-1" strike="noStrike">
                <a:solidFill>
                  <a:srgbClr val="ffffff"/>
                </a:solidFill>
                <a:latin typeface="Arial"/>
              </a:rPr>
              <a:t>urgenz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14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9933"/>
                </a:solidFill>
                <a:latin typeface="Arial"/>
              </a:rPr>
              <a:t>…</a:t>
            </a:r>
            <a:r>
              <a:rPr b="0" lang="it-IT" sz="4000" spc="-1" strike="noStrike">
                <a:solidFill>
                  <a:srgbClr val="ff9933"/>
                </a:solidFill>
                <a:latin typeface="Arial"/>
              </a:rPr>
              <a:t>seguito… art. 15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88200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Arial"/>
              </a:rPr>
              <a:t>Il destinatario del servizio ha diritto a conoscere: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Arial"/>
              </a:rPr>
              <a:t>a) </a:t>
            </a: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se il prestatore è iscritto in un registro commerciale</a:t>
            </a:r>
            <a:r>
              <a:rPr b="0" lang="it-IT" sz="2600" spc="-1" strike="noStrike">
                <a:solidFill>
                  <a:srgbClr val="ffffff"/>
                </a:solidFill>
                <a:latin typeface="Arial"/>
              </a:rPr>
              <a:t> o in un analogo registro pubblico, il registro in cui è iscritto, il suo numero d'iscrizione o un mezzo d'identificazione equivalente, che appaia in tale registro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Arial"/>
              </a:rPr>
              <a:t>b) </a:t>
            </a: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se l'attività è sottoposta a un regime di autorizzazione</a:t>
            </a:r>
            <a:r>
              <a:rPr b="0" lang="it-IT" sz="2600" spc="-1" strike="noStrike">
                <a:solidFill>
                  <a:srgbClr val="ffffff"/>
                </a:solidFill>
                <a:latin typeface="Arial"/>
              </a:rPr>
              <a:t> nello Stato membro di stabilimento, gli estremi della competente autorità di vigilanz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c) l'ordine professionale, o analogo organismo, presso cui il prestatore è iscritto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Arial"/>
              </a:rPr>
              <a:t>d) </a:t>
            </a: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il titolo professionale</a:t>
            </a:r>
            <a:r>
              <a:rPr b="0" lang="it-IT" sz="2600" spc="-1" strike="noStrike">
                <a:solidFill>
                  <a:srgbClr val="ffffff"/>
                </a:solidFill>
                <a:latin typeface="Arial"/>
              </a:rPr>
              <a:t> o, ove il titolo non esista, il titolo di formazione del prestatore e lo Stato membro in cui è stato conseguito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e) se il prestatore esercita un'attività soggetta all'IVA, il numero d'identificazione IVA</a:t>
            </a:r>
            <a:r>
              <a:rPr b="0" lang="it-IT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f) le prove di qualsiasi copertura assicurativa o analoghi mezzi di tutela personale o collettiva per la responsabilità professionale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ccecff"/>
                </a:solidFill>
                <a:latin typeface="Arial"/>
              </a:rPr>
              <a:t>IN CONCLUSIONE</a:t>
            </a:r>
            <a:br>
              <a:rPr sz="4000"/>
            </a:br>
            <a:r>
              <a:rPr b="0" lang="it-IT" sz="2000" spc="-1" strike="noStrike">
                <a:solidFill>
                  <a:srgbClr val="ff9933"/>
                </a:solidFill>
                <a:latin typeface="Arial"/>
              </a:rPr>
              <a:t>FLOW CHART RIASSUNTIVO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DLPS                                Minister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30 giorn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INIZIO PRESTAZIONE DI SERVIZ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COMUNICA ALLA CCIA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INSERIMENTO NEL RE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Line 4"/>
          <p:cNvSpPr/>
          <p:nvPr/>
        </p:nvSpPr>
        <p:spPr>
          <a:xfrm>
            <a:off x="1763640" y="1484280"/>
            <a:ext cx="30243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ZapfChancery"/>
            </a:endParaRPr>
          </a:p>
        </p:txBody>
      </p:sp>
      <p:sp>
        <p:nvSpPr>
          <p:cNvPr id="263" name="Line 5"/>
          <p:cNvSpPr/>
          <p:nvPr/>
        </p:nvSpPr>
        <p:spPr>
          <a:xfrm>
            <a:off x="1258920" y="1700280"/>
            <a:ext cx="2665440" cy="122400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ZapfChancery"/>
            </a:endParaRPr>
          </a:p>
        </p:txBody>
      </p:sp>
      <p:sp>
        <p:nvSpPr>
          <p:cNvPr id="264" name="Line 6"/>
          <p:cNvSpPr/>
          <p:nvPr/>
        </p:nvSpPr>
        <p:spPr>
          <a:xfrm flipH="1">
            <a:off x="2916360" y="1773360"/>
            <a:ext cx="3024000" cy="2879640"/>
          </a:xfrm>
          <a:prstGeom prst="line">
            <a:avLst/>
          </a:prstGeom>
          <a:ln w="44280">
            <a:solidFill>
              <a:srgbClr val="ffff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ZapfChancery"/>
            </a:endParaRPr>
          </a:p>
        </p:txBody>
      </p:sp>
      <p:sp>
        <p:nvSpPr>
          <p:cNvPr id="265" name="Line 7"/>
          <p:cNvSpPr/>
          <p:nvPr/>
        </p:nvSpPr>
        <p:spPr>
          <a:xfrm>
            <a:off x="3419640" y="5229360"/>
            <a:ext cx="0" cy="6476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ZapfChancery"/>
            </a:endParaRPr>
          </a:p>
        </p:txBody>
      </p:sp>
      <p:sp>
        <p:nvSpPr>
          <p:cNvPr id="266" name="Rectangle 8"/>
          <p:cNvSpPr/>
          <p:nvPr/>
        </p:nvSpPr>
        <p:spPr>
          <a:xfrm>
            <a:off x="0" y="1052640"/>
            <a:ext cx="9144000" cy="187164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ZapfChancery"/>
            </a:endParaRPr>
          </a:p>
        </p:txBody>
      </p:sp>
      <p:sp>
        <p:nvSpPr>
          <p:cNvPr id="267" name="WordArt 9"/>
          <p:cNvSpPr txBox="1"/>
          <p:nvPr/>
        </p:nvSpPr>
        <p:spPr>
          <a:xfrm>
            <a:off x="3059280" y="1628640"/>
            <a:ext cx="344772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33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alvo urgenza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33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9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4" dur="50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5400" spc="-1" strike="noStrike">
                <a:solidFill>
                  <a:srgbClr val="ccecff"/>
                </a:solidFill>
                <a:latin typeface="Arial"/>
              </a:rPr>
              <a:t>La libera prestazione di servizi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L’attuale quadr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ccecff"/>
                </a:solidFill>
                <a:latin typeface="Arial"/>
              </a:rPr>
              <a:t>Fino ad oggi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Non esistevano limiti particolar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Non v’era alcun obbligo da parte del prestatore di serviz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L’unico limite era la temporaneità ed occasionalità della prestazione, pena l’obbligo di stabilirsi in Italia, con sede secondaria o unità local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cc00"/>
                </a:solidFill>
                <a:latin typeface="Arial"/>
              </a:rPr>
              <a:t>La libera prestazione e gli albi tecnologici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Subordinando, ai sensi degli articoli 1 e 6 della </a:t>
            </a:r>
            <a:r>
              <a:rPr b="0" lang="it-IT" sz="28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legge 25 gennaio 1994, n. 82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(legge italiana), la prestazione, da parte delle imprese stabilite negli altri Stati membri, di servizi relativi alle attività di pulizia, di disinfezione, di disinfestazione, di derattizzazione e di sanificazione all'iscrizione nei registri di cui all'articolo 1 della </a:t>
            </a:r>
            <a:r>
              <a:rPr b="0" lang="it-IT" sz="2800" spc="-1" strike="noStrike" u="sng">
                <a:solidFill>
                  <a:srgbClr val="99ff99"/>
                </a:solidFill>
                <a:uFillTx/>
                <a:latin typeface="Arial"/>
                <a:hlinkClick r:id="rId2"/>
              </a:rPr>
              <a:t>legge n. 82 del 1994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stessa, la Repubblica italiana è venuta meno agli obblighi ad essa imposti dall'articolo 59 del Trattato CE (divenuto, in seguito a modifica, art. 49 CE). </a:t>
            </a:r>
            <a:r>
              <a:rPr b="0" i="1" lang="it-IT" sz="2800" spc="-1" strike="noStrike">
                <a:solidFill>
                  <a:srgbClr val="ffcc00"/>
                </a:solidFill>
                <a:latin typeface="Arial"/>
              </a:rPr>
              <a:t>Causa 358/98, sent. del 09-03-2000, Commissione delle Comunità europee c. Repubblica italiana.</a:t>
            </a:r>
            <a:r>
              <a:rPr b="0" lang="it-IT" sz="28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cc00"/>
                </a:solidFill>
                <a:latin typeface="Arial"/>
              </a:rPr>
              <a:t>La libera prestazione e gli albi tecnologici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ff00"/>
                </a:solidFill>
                <a:latin typeface="바탕"/>
              </a:rPr>
              <a:t>FACCHINAGGIO      </a:t>
            </a:r>
            <a:r>
              <a:rPr b="0" i="1" lang="it-IT" sz="2600" spc="-1" strike="noStrike">
                <a:solidFill>
                  <a:srgbClr val="ffff00"/>
                </a:solidFill>
                <a:latin typeface="바탕"/>
              </a:rPr>
              <a:t>Art. 3 §5. dm 221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Arial"/>
              </a:rPr>
              <a:t>Le disposizioni del presente articolo non si applicano alle imprese di facchinaggio stabilite in uno Stato membro dell'Unione europea non aventi alcuna sede o unità locale sul territorio nazionale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ff00"/>
                </a:solidFill>
                <a:latin typeface="바탕"/>
              </a:rPr>
              <a:t>PULIZIE               </a:t>
            </a:r>
            <a:r>
              <a:rPr b="0" i="1" lang="it-IT" sz="2600" spc="-1" strike="noStrike">
                <a:solidFill>
                  <a:srgbClr val="ffff00"/>
                </a:solidFill>
                <a:latin typeface="바탕"/>
              </a:rPr>
              <a:t>  Art. 7 § 3. DPR 558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Arial"/>
              </a:rPr>
              <a:t>Le disposizioni dei commi 1 e 2 non si applicano alle imprese di pulizia stabilite in uno Stato membro dell'Unione europea non aventi alcuna sede o unità locale sul territorio nazionale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ccecff"/>
                </a:solidFill>
                <a:latin typeface="Arial"/>
              </a:rPr>
              <a:t>Caso particolare: SEE e Svizzera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un'impresa stabilita in Svizzera a cui siano stati ivi riconosciuti i requisiti per l'installazione di impianti di riscaldamento e protezione antincendio, può operare in Italia senza stabile  organizzazione (in regime, pertanto, di </a:t>
            </a:r>
            <a:r>
              <a:rPr b="0" lang="it-IT" sz="3200" spc="-1" strike="noStrike">
                <a:solidFill>
                  <a:srgbClr val="ff3300"/>
                </a:solidFill>
                <a:latin typeface="Arial"/>
              </a:rPr>
              <a:t>libera prestazione di servizi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) rilasciando la dichiarazione di conformità di cui all'articolo 9 della legge n. 46 del 1990 e, più in generale, può  essere equiparata, ai fini in questione, alle imprese aventi sede in Paesi membri dell'Unione europea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ccecff"/>
                </a:solidFill>
                <a:latin typeface="Arial"/>
              </a:rPr>
              <a:t>Caso particolare: SEE e Svizzera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Secondo l’accordo UE-CH del 1999, è vietata qualsiasi limitazione ad una prestazione di servizi transfrontaliera sul territorio della parte contraente, che </a:t>
            </a:r>
            <a:r>
              <a:rPr b="0" lang="it-IT" sz="3200" spc="-1" strike="noStrike">
                <a:solidFill>
                  <a:srgbClr val="ff3300"/>
                </a:solidFill>
                <a:latin typeface="Arial"/>
              </a:rPr>
              <a:t>non superi i 90 giorni di lavoro effettivo per anno civile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. Viene dunque fissato il limite di 90 giorni come linea di demarcazione tra stabilimento e prestazione di servizi (laddove nel Trattato CE si parla, più genericamente, di "prestazione a titolo temporaneo"), limite oltre il quale al prestatore di servizi potrà essere chiesto di stabilirsi sul territorio italiano, soggiacendo agli adempimenti del cas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ccecff"/>
                </a:solidFill>
                <a:latin typeface="Arial"/>
              </a:rPr>
              <a:t>Caso particolare: SEE e Svizzera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ffffff"/>
                </a:solidFill>
                <a:latin typeface="Arial"/>
              </a:rPr>
              <a:t>nulla osta a che un'impresa stabilita in Svizzera ed ivi abilitata a svolgere attività ricomprese tra quelle disciplinate dalla legge n. 46/90, eserciti le attività stesse sul territorio italiano in regime di libera prestazione di servizi (</a:t>
            </a:r>
            <a:r>
              <a:rPr b="0" lang="it-IT" sz="2700" spc="-1" strike="noStrike">
                <a:solidFill>
                  <a:srgbClr val="ff3300"/>
                </a:solidFill>
                <a:latin typeface="Arial"/>
              </a:rPr>
              <a:t>senza, pertanto, obbligo di istituire proprie sedi secondarie o unità locali</a:t>
            </a:r>
            <a:r>
              <a:rPr b="0" lang="it-IT" sz="2700" spc="-1" strike="noStrike">
                <a:solidFill>
                  <a:srgbClr val="ffffff"/>
                </a:solidFill>
                <a:latin typeface="Arial"/>
              </a:rPr>
              <a:t>), a condizione che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ffffff"/>
                </a:solidFill>
                <a:latin typeface="Arial"/>
              </a:rPr>
              <a:t>a) detta prestazione non superi i 90 giorni di lavoro effettivo per anno civile;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ffffff"/>
                </a:solidFill>
                <a:latin typeface="Arial"/>
              </a:rPr>
              <a:t>b) siano rispettate le disposizioni della normativa italiana volte a garantire la corretta  esecuzione  degli  impianti  in questione (ad es. art. 9 della legge n. 46/90, che prevede il rilascio da parte dell'impresa di un certificato di conformità alle regole tecniche dell'impianto realizzato). </a:t>
            </a:r>
            <a:r>
              <a:rPr b="0" lang="it-IT" sz="2700" spc="-1" strike="noStrike">
                <a:solidFill>
                  <a:srgbClr val="ffff00"/>
                </a:solidFill>
                <a:latin typeface="Arial"/>
              </a:rPr>
              <a:t>(vedi lettera circolare 20.7.07)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8T11:58:00Z</dcterms:created>
  <dc:creator>MARCO</dc:creator>
  <dc:description/>
  <dc:language>en-US</dc:language>
  <cp:lastModifiedBy> </cp:lastModifiedBy>
  <dcterms:modified xsi:type="dcterms:W3CDTF">2009-05-22T10:20:45Z</dcterms:modified>
  <cp:revision>41</cp:revision>
  <dc:subject/>
  <dc:title>Diapositiva 1</dc:title>
</cp:coreProperties>
</file>