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48360" cy="9269280"/>
          </a:xfrm>
          <a:custGeom>
            <a:avLst/>
            <a:gdLst>
              <a:gd name="textAreaLeft" fmla="*/ 360 w 6948360"/>
              <a:gd name="textAreaRight" fmla="*/ 6948000 w 6948360"/>
              <a:gd name="textAreaTop" fmla="*/ 360 h 9269280"/>
              <a:gd name="textAreaBottom" fmla="*/ 9268920 h 9269280"/>
            </a:gdLst>
            <a:ahLst/>
            <a:rect l="textAreaLeft" t="textAreaTop" r="textAreaRight" b="textAreaBottom"/>
            <a:pathLst>
              <a:path w="21600" h="28815">
                <a:moveTo>
                  <a:pt x="4" y="0"/>
                </a:moveTo>
                <a:arcTo wR="4" hR="4" stAng="16200000" swAng="-5400000"/>
                <a:lnTo>
                  <a:pt x="0" y="28811"/>
                </a:lnTo>
                <a:arcTo wR="4" hR="4" stAng="10800000" swAng="-5400000"/>
                <a:lnTo>
                  <a:pt x="21596" y="288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55600" y="704520"/>
            <a:ext cx="46339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93720" y="4401720"/>
            <a:ext cx="555624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930480" y="-360"/>
            <a:ext cx="30132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07040"/>
            <a:ext cx="30146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30480" y="8807040"/>
            <a:ext cx="30132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655B2-43DF-4699-ABB9-DB10E38E961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55600" y="704880"/>
            <a:ext cx="4635720" cy="34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93720" y="4397040"/>
            <a:ext cx="55576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36960" y="8805960"/>
            <a:ext cx="3011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1878FA-61FB-44F1-B79E-85AEB40ABF2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6640" y="4403880"/>
            <a:ext cx="5094360" cy="41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36960" y="8805960"/>
            <a:ext cx="3011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90F864-A4DC-4D3E-AB99-BE99822944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6640" y="4403880"/>
            <a:ext cx="5094360" cy="41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36960" y="8805960"/>
            <a:ext cx="3011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789998-A005-40BF-A6CC-C3A6AB393C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6640" y="4403880"/>
            <a:ext cx="5094360" cy="41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36960" y="8805960"/>
            <a:ext cx="3011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B89DFCF-A972-45D3-90E8-8639E9BE96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6640" y="4403880"/>
            <a:ext cx="5094360" cy="41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55600" y="704880"/>
            <a:ext cx="4635720" cy="34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93720" y="4397040"/>
            <a:ext cx="55576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12680" y="712800"/>
            <a:ext cx="4934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893520" y="4411440"/>
            <a:ext cx="5128920" cy="41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12680" y="712800"/>
            <a:ext cx="4934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893520" y="4411440"/>
            <a:ext cx="5128920" cy="41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1320" y="646200"/>
            <a:ext cx="4564080" cy="3227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23880" y="4087440"/>
            <a:ext cx="4981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0C8-3011-4933-9EC6-ED0B88B8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276-E1C3-4213-9620-124915A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BF9-2CE8-4A90-BEA9-A82232C7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069-0633-4297-97C8-9EACECF8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5A0-9934-47A7-B000-3381C3B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4D4-6ADB-414A-A05A-3FDAB5A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D2E-C706-48D5-A889-05DDADF9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F46-8B81-4475-B9DC-B75572A1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E28-3B1F-4EBB-9E4C-6373841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8DC-A9C2-4A22-A807-EE2E09EF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E51-841C-463F-9C1E-DA6CB30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60B-0AB9-49FE-A15E-F54F17D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 New Roman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 New Roman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F22F0-1112-4641-9BB8-2290FC88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00200" y="6172200"/>
            <a:ext cx="2286000" cy="345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24000" y="4211640"/>
            <a:ext cx="7772400" cy="3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2240" y="1847880"/>
            <a:ext cx="22683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52360"/>
            <a:ext cx="10922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05920" y="6553080"/>
            <a:ext cx="1092240" cy="6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19240" y="6400800"/>
            <a:ext cx="720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200" spc="-1" strike="noStrike">
                <a:solidFill>
                  <a:srgbClr val="808080"/>
                </a:solidFill>
                <a:latin typeface="Verdana"/>
              </a:rPr>
              <a:t>Camera di L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200" spc="-1" strike="noStrike">
                <a:solidFill>
                  <a:srgbClr val="808080"/>
                </a:solidFill>
                <a:latin typeface="Verdana"/>
              </a:rPr>
              <a:t>14 giugno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8280" y="2700360"/>
            <a:ext cx="9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Georgia"/>
              </a:rPr>
              <a:t>ComUn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Georgia"/>
              </a:rPr>
              <a:t>La gestione dei flussi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Georgia"/>
              </a:rPr>
              <a:t>degli applicativi informat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24000" y="2266920"/>
            <a:ext cx="7772400" cy="3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Georgia"/>
              </a:rPr>
              <a:t>Certificati di ru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1476360"/>
            <a:ext cx="61927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Circolare MiSE sui sistemi di verifica automatica per i </a:t>
            </a:r>
            <a:r>
              <a:rPr b="1" i="1" lang="it-IT" sz="3600" spc="-1" strike="noStrike">
                <a:solidFill>
                  <a:srgbClr val="000066"/>
                </a:solidFill>
                <a:latin typeface="Georgia"/>
              </a:rPr>
              <a:t>soggetti legittimati per ComU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0000" y="27972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032360" y="7023240"/>
            <a:ext cx="21002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&lt;  </a:t>
            </a:r>
            <a:r>
              <a:rPr b="1" lang="it-IT" sz="1800" spc="-1" strike="noStrike">
                <a:solidFill>
                  <a:srgbClr val="152a85"/>
                </a:solidFill>
                <a:latin typeface="Trebuchet MS"/>
              </a:rPr>
              <a:t>  </a:t>
            </a: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agina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fld id="{1BDC3C89-CDEA-454F-8A97-9A4602876996}" type="slidenum"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 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 flipH="1">
            <a:off x="0" y="117648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36600" y="1260360"/>
            <a:ext cx="9491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Quant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ratiche comunica dal 1 aprile al 15 maggi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11280" y="225360"/>
            <a:ext cx="81374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Georgia"/>
              </a:rPr>
              <a:t>StarWeb</a:t>
            </a:r>
            <a:r>
              <a:rPr b="0" lang="it-IT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Georgia"/>
              </a:rPr>
              <a:t>e le </a:t>
            </a:r>
            <a:r>
              <a:rPr b="1" lang="it-IT" sz="3200" spc="-1" strike="noStrike">
                <a:solidFill>
                  <a:srgbClr val="800000"/>
                </a:solidFill>
                <a:latin typeface="Georgia"/>
              </a:rPr>
              <a:t>Imprese Individ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1400" y="2435400"/>
            <a:ext cx="2521080" cy="17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Chi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resenta pratiche comunica di imprese individua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0" y="705636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71400" y="1595520"/>
            <a:ext cx="89884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39.484 di cui</a:t>
            </a:r>
            <a:r>
              <a:rPr b="0" lang="it-IT" sz="2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it-IT" sz="2200" spc="-1" strike="noStrike">
                <a:solidFill>
                  <a:srgbClr val="cc3300"/>
                </a:solidFill>
                <a:latin typeface="Verdana"/>
              </a:rPr>
              <a:t>33.47 %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imprese individuali, 66.53 socie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92240" y="4871880"/>
            <a:ext cx="28558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Con cos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si fanno le pratiche comunica di imprese individua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3"/>
          <p:cNvGraphicFramePr/>
          <p:nvPr/>
        </p:nvGraphicFramePr>
        <p:xfrm>
          <a:off x="3360600" y="2435400"/>
          <a:ext cx="5796000" cy="183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0600" y="2435400"/>
                    <a:ext cx="57960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6"/>
          <p:cNvGraphicFramePr/>
          <p:nvPr/>
        </p:nvGraphicFramePr>
        <p:xfrm>
          <a:off x="4284720" y="4638600"/>
          <a:ext cx="4284720" cy="2368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638600"/>
                    <a:ext cx="428472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D:\documenti\Artigiani\prodotto\presentazioni\canguro_2.gif"/>
          <p:cNvPicPr/>
          <p:nvPr/>
        </p:nvPicPr>
        <p:blipFill>
          <a:blip r:embed="rId2"/>
          <a:stretch/>
        </p:blipFill>
        <p:spPr>
          <a:xfrm>
            <a:off x="5838840" y="2940120"/>
            <a:ext cx="4073400" cy="3933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4032360" y="7023240"/>
            <a:ext cx="21002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&lt;  </a:t>
            </a:r>
            <a:r>
              <a:rPr b="1" lang="it-IT" sz="1800" spc="-1" strike="noStrike">
                <a:solidFill>
                  <a:srgbClr val="152a85"/>
                </a:solidFill>
                <a:latin typeface="Trebuchet MS"/>
              </a:rPr>
              <a:t>  </a:t>
            </a: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agina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fld id="{8CFFB41A-F42E-4EF5-BDBC-9B7F28E99A63}" type="slidenum"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 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0" y="117648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871880" y="336600"/>
            <a:ext cx="51040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339933"/>
                </a:solidFill>
                <a:latin typeface="Verdana"/>
              </a:rPr>
              <a:t>Nuove tipologi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0" y="705636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20840" y="2100240"/>
            <a:ext cx="789624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uove tipologie di prat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 le societ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45000"/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600" spc="-1" strike="noStrike">
                <a:solidFill>
                  <a:srgbClr val="cc3300"/>
                </a:solidFill>
                <a:latin typeface="Verdana"/>
              </a:rPr>
              <a:t>Rinnovo Carich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fine giug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45000"/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odulo R (fine lugl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45000"/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600" spc="-1" strike="noStrike">
                <a:solidFill>
                  <a:srgbClr val="cc3300"/>
                </a:solidFill>
                <a:latin typeface="Verdana"/>
              </a:rPr>
              <a:t>Trasferimenti Quo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otto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45000"/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ichiarazione del ver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45000"/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ccertamento della causa di sciogl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45000"/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omina Liquida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45000"/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ariazione domicilio persona fi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5964120" y="1763640"/>
            <a:ext cx="2605320" cy="1595520"/>
          </a:xfrm>
          <a:prstGeom prst="cloudCallout">
            <a:avLst>
              <a:gd name="adj1" fmla="val 42069"/>
              <a:gd name="adj2" fmla="val 5734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desso facciamo un balzo in avan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d:\documenti\Artigiani\grafica\SW_welcome_ridotto.GIF"/>
          <p:cNvPicPr/>
          <p:nvPr/>
        </p:nvPicPr>
        <p:blipFill>
          <a:blip r:embed="rId3"/>
          <a:stretch/>
        </p:blipFill>
        <p:spPr>
          <a:xfrm>
            <a:off x="0" y="0"/>
            <a:ext cx="35290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032360" y="7023240"/>
            <a:ext cx="21002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&lt;  </a:t>
            </a:r>
            <a:r>
              <a:rPr b="1" lang="it-IT" sz="1800" spc="-1" strike="noStrike">
                <a:solidFill>
                  <a:srgbClr val="152a85"/>
                </a:solidFill>
                <a:latin typeface="Trebuchet MS"/>
              </a:rPr>
              <a:t>  </a:t>
            </a: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agina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fld id="{6D73F413-0EC1-4FEF-8247-6FFC4DBDBF5A}" type="slidenum"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 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 flipH="1">
            <a:off x="0" y="117648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19520" y="336600"/>
            <a:ext cx="51040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339933"/>
                </a:solidFill>
                <a:latin typeface="Verdana"/>
              </a:rPr>
              <a:t>Pratiche per i SUA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0" y="705636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20840" y="2100240"/>
            <a:ext cx="63514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STARWEB  sarà possibile </a:t>
            </a:r>
            <a:r>
              <a:rPr b="1" lang="it-IT" sz="2600" spc="-1" strike="noStrike">
                <a:solidFill>
                  <a:srgbClr val="cc3300"/>
                </a:solidFill>
                <a:latin typeface="Verdana"/>
              </a:rPr>
              <a:t>inviare le pratiche ai SUAP tramite “Comunica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D:\documenti\Artigiani\prodotto\presentazioni\suap_img.jpg"/>
          <p:cNvPicPr/>
          <p:nvPr/>
        </p:nvPicPr>
        <p:blipFill>
          <a:blip r:embed="rId2"/>
          <a:stretch/>
        </p:blipFill>
        <p:spPr>
          <a:xfrm>
            <a:off x="6719760" y="3809880"/>
            <a:ext cx="3189240" cy="2657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7"/>
          <p:cNvSpPr/>
          <p:nvPr/>
        </p:nvSpPr>
        <p:spPr>
          <a:xfrm>
            <a:off x="7224840" y="2352600"/>
            <a:ext cx="2519280" cy="1174680"/>
          </a:xfrm>
          <a:prstGeom prst="cloudCallout">
            <a:avLst>
              <a:gd name="adj1" fmla="val -14930"/>
              <a:gd name="adj2" fmla="val 124851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Possiamo usare STAR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9" descr="d:\documenti\Artigiani\grafica\SW_welcome_ridotto.GIF"/>
          <p:cNvPicPr/>
          <p:nvPr/>
        </p:nvPicPr>
        <p:blipFill>
          <a:blip r:embed="rId3"/>
          <a:stretch/>
        </p:blipFill>
        <p:spPr>
          <a:xfrm>
            <a:off x="0" y="0"/>
            <a:ext cx="3529080" cy="1155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4720" y="3527280"/>
            <a:ext cx="604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possono inviare pratiche SUAP contestuali agli altri adempimenti (RI, AA, AE, INPS, INAI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720" y="4956120"/>
            <a:ext cx="604836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pure si può inviare una pratica unicamente allo sportello SU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"/>
          <p:cNvPicPr/>
          <p:nvPr/>
        </p:nvPicPr>
        <p:blipFill>
          <a:blip r:embed="rId2"/>
          <a:stretch/>
        </p:blipFill>
        <p:spPr>
          <a:xfrm>
            <a:off x="5670720" y="1338120"/>
            <a:ext cx="4217760" cy="295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D:\documenti\Artigiani\prodotto\presentazioni\lombardia.jpg"/>
          <p:cNvPicPr/>
          <p:nvPr/>
        </p:nvPicPr>
        <p:blipFill>
          <a:blip r:embed="rId3"/>
          <a:stretch/>
        </p:blipFill>
        <p:spPr>
          <a:xfrm>
            <a:off x="7008840" y="4330800"/>
            <a:ext cx="2889360" cy="2817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4032360" y="7023240"/>
            <a:ext cx="21002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&lt;  </a:t>
            </a:r>
            <a:r>
              <a:rPr b="1" lang="it-IT" sz="1800" spc="-1" strike="noStrike">
                <a:solidFill>
                  <a:srgbClr val="152a85"/>
                </a:solidFill>
                <a:latin typeface="Trebuchet MS"/>
              </a:rPr>
              <a:t>  </a:t>
            </a: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agina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fld id="{94C903B1-35AC-42BC-B0A1-5DF3157F9683}" type="slidenum">
              <a:rPr b="1" lang="it-IT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 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0" y="117648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H="1">
            <a:off x="0" y="7056360"/>
            <a:ext cx="1008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d:\documenti\Artigiani\grafica\SW_welcome_ridotto.GIF"/>
          <p:cNvPicPr/>
          <p:nvPr/>
        </p:nvPicPr>
        <p:blipFill>
          <a:blip r:embed="rId4"/>
          <a:stretch/>
        </p:blipFill>
        <p:spPr>
          <a:xfrm>
            <a:off x="0" y="0"/>
            <a:ext cx="3529080" cy="1155600"/>
          </a:xfrm>
          <a:prstGeom prst="rect">
            <a:avLst/>
          </a:prstGeom>
          <a:ln w="0">
            <a:noFill/>
          </a:ln>
        </p:spPr>
      </p:pic>
      <p:sp>
        <p:nvSpPr>
          <p:cNvPr id="127" name="CasellaDiTesto 9"/>
          <p:cNvSpPr/>
          <p:nvPr/>
        </p:nvSpPr>
        <p:spPr>
          <a:xfrm>
            <a:off x="503280" y="2627280"/>
            <a:ext cx="54338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pratiche SUAP con una modulistica unificata region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10"/>
          <p:cNvSpPr/>
          <p:nvPr/>
        </p:nvSpPr>
        <p:spPr>
          <a:xfrm>
            <a:off x="719280" y="5003640"/>
            <a:ext cx="53226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STARWEB sarà possibile compilare questa modulist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92480" y="336600"/>
            <a:ext cx="68882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339933"/>
                </a:solidFill>
                <a:latin typeface="Verdana"/>
              </a:rPr>
              <a:t>Le DIAP della Lombard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I prossimi pass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6360" y="1692360"/>
            <a:ext cx="892944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800000"/>
                </a:solidFill>
                <a:latin typeface="Georgia"/>
              </a:rPr>
              <a:t>Verifiche automatiche dei soggetti legittima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000066"/>
                </a:solidFill>
                <a:latin typeface="Georgia"/>
              </a:rPr>
              <a:t>Integrazione maggiore con Agenzia delle Ent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800000"/>
                </a:solidFill>
                <a:latin typeface="Georgia"/>
              </a:rPr>
              <a:t>Risoluzione criticità con INPS-IN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000066"/>
                </a:solidFill>
                <a:latin typeface="Georgia"/>
              </a:rPr>
              <a:t>Smistamento ed evasione massiva di pratiche previdenziali/fisc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2286000" cy="345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5789520"/>
            <a:ext cx="7772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066680"/>
            <a:ext cx="4114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Grazie p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Georgia"/>
              </a:rPr>
              <a:t>antonio.tonini@infocamere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65530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04920"/>
            <a:ext cx="914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2050920"/>
            <a:ext cx="89298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en-GB" sz="3600" spc="-1" strike="noStrike">
                <a:solidFill>
                  <a:srgbClr val="000066"/>
                </a:solidFill>
                <a:latin typeface="Georgia"/>
              </a:rPr>
              <a:t>I dati dell’avv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en-GB" sz="3600" spc="-1" strike="noStrike">
                <a:solidFill>
                  <a:srgbClr val="800000"/>
                </a:solidFill>
                <a:latin typeface="Georgia"/>
              </a:rPr>
              <a:t>Gli adempimenti per altri En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en-GB" sz="3600" spc="-1" strike="noStrike">
                <a:solidFill>
                  <a:srgbClr val="000066"/>
                </a:solidFill>
                <a:latin typeface="Georgia"/>
              </a:rPr>
              <a:t>F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en-GB" sz="3600" spc="-1" strike="noStrike">
                <a:solidFill>
                  <a:srgbClr val="800000"/>
                </a:solidFill>
                <a:latin typeface="Georgia"/>
              </a:rPr>
              <a:t>Certificati di Ru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en-GB" sz="3600" spc="-1" strike="noStrike">
                <a:solidFill>
                  <a:srgbClr val="000066"/>
                </a:solidFill>
                <a:latin typeface="Georgia"/>
              </a:rPr>
              <a:t>Star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Georgi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en-GB" sz="3600" spc="-1" strike="noStrike">
                <a:solidFill>
                  <a:srgbClr val="800000"/>
                </a:solidFill>
                <a:latin typeface="Georgia"/>
              </a:rPr>
              <a:t>Altre iniz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45080" y="4140360"/>
            <a:ext cx="340380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Pratiche nei primi gio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11640" y="971640"/>
          <a:ext cx="4321440" cy="6356160"/>
        </p:xfrm>
        <a:graphic>
          <a:graphicData uri="http://schemas.openxmlformats.org/drawingml/2006/table">
            <a:tbl>
              <a:tblPr/>
              <a:tblGrid>
                <a:gridCol w="2833920"/>
                <a:gridCol w="14875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1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4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2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3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3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4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5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6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4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7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5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8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6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09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7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0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1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2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7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3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8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4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8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5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8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6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8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7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8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8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9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9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20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9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21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0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22/04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Georgia"/>
                          <a:ea typeface="宋体"/>
                        </a:rPr>
                        <a:t>10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03280" y="2050920"/>
            <a:ext cx="417672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Invii crescenti, </a:t>
            </a:r>
            <a:r>
              <a:rPr b="1" i="1" lang="it-IT" sz="3600" spc="-1" strike="noStrike">
                <a:solidFill>
                  <a:srgbClr val="000066"/>
                </a:solidFill>
                <a:latin typeface="Georgia"/>
              </a:rPr>
              <a:t>sistemi disponibili nei giorni festi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220800" y="6635880"/>
            <a:ext cx="343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en-GB" sz="1200" spc="-1" strike="noStrike">
                <a:solidFill>
                  <a:srgbClr val="152a85"/>
                </a:solidFill>
                <a:latin typeface="Arial"/>
                <a:ea typeface="Arial Unicode MS"/>
              </a:rPr>
              <a:t>(Dati aggiornati al 30/04/10, fonte tabelle RE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9960" y="2327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79920" y="2286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7120" y="6607080"/>
            <a:ext cx="5079960" cy="270720"/>
          </a:xfrm>
          <a:prstGeom prst="rect">
            <a:avLst/>
          </a:pr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en-GB" sz="1100" spc="-1" strike="noStrike">
                <a:solidFill>
                  <a:srgbClr val="152a85"/>
                </a:solidFill>
                <a:latin typeface="Arial"/>
                <a:ea typeface="Arial Unicode MS"/>
              </a:rPr>
              <a:t>NB: -</a:t>
            </a:r>
            <a:r>
              <a:rPr b="0" lang="it-IT" sz="1100" spc="-1" strike="noStrike">
                <a:solidFill>
                  <a:srgbClr val="152a85"/>
                </a:solidFill>
                <a:latin typeface="Arial"/>
                <a:ea typeface="Arial Unicode MS"/>
              </a:rPr>
              <a:t>dai totali sono escluse le pratiche in errore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8920" y="2692440"/>
            <a:ext cx="9902880" cy="217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Pratiche in base a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220800" y="6635880"/>
            <a:ext cx="343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en-GB" sz="1200" spc="-1" strike="noStrike">
                <a:solidFill>
                  <a:srgbClr val="152a85"/>
                </a:solidFill>
                <a:latin typeface="Arial"/>
                <a:ea typeface="Arial Unicode MS"/>
              </a:rPr>
              <a:t>(Dati aggiornati al 30/04/10, fonte tabelle RE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360" y="6637320"/>
            <a:ext cx="3967200" cy="270720"/>
          </a:xfrm>
          <a:prstGeom prst="rect">
            <a:avLst/>
          </a:pr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en-GB" sz="1100" spc="-1" strike="noStrike">
                <a:solidFill>
                  <a:srgbClr val="152a85"/>
                </a:solidFill>
                <a:latin typeface="Arial"/>
                <a:ea typeface="Arial Unicode MS"/>
              </a:rPr>
              <a:t>NB: </a:t>
            </a:r>
            <a:r>
              <a:rPr b="0" lang="it-IT" sz="1100" spc="-1" strike="noStrike">
                <a:solidFill>
                  <a:srgbClr val="152a85"/>
                </a:solidFill>
                <a:latin typeface="Arial"/>
                <a:ea typeface="Arial Unicode MS"/>
              </a:rPr>
              <a:t>dai conteggi sono escluse le pratiche in err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69200" y="1874880"/>
            <a:ext cx="1984320" cy="970920"/>
          </a:xfrm>
          <a:prstGeom prst="rect">
            <a:avLst/>
          </a:pr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1" lang="it-IT" sz="1300" spc="-1" strike="noStrike" u="sng">
                <a:solidFill>
                  <a:srgbClr val="152a85"/>
                </a:solidFill>
                <a:uFillTx/>
                <a:latin typeface="Arial"/>
                <a:ea typeface="Arial Unicode MS"/>
              </a:rPr>
              <a:t>INTERMEDIARI</a:t>
            </a:r>
            <a:br>
              <a:rPr sz="1300"/>
            </a:br>
            <a:r>
              <a:rPr b="1" lang="it-IT" sz="1100" spc="-1" strike="noStrike">
                <a:solidFill>
                  <a:srgbClr val="152a85"/>
                </a:solidFill>
                <a:latin typeface="Arial"/>
                <a:ea typeface="Arial Unicode MS"/>
              </a:rPr>
              <a:t>professionista incaricato, consulente, studio assoc., delegato, CED, associazione di cate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69200" y="3144960"/>
            <a:ext cx="1984320" cy="1138320"/>
          </a:xfrm>
          <a:prstGeom prst="rect">
            <a:avLst/>
          </a:pr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1" lang="it-IT" sz="1300" spc="-1" strike="noStrike" u="sng">
                <a:solidFill>
                  <a:srgbClr val="152a85"/>
                </a:solidFill>
                <a:uFillTx/>
                <a:latin typeface="Arial"/>
                <a:ea typeface="Arial Unicode MS"/>
              </a:rPr>
              <a:t>IMPRESE</a:t>
            </a:r>
            <a:br>
              <a:rPr sz="1100"/>
            </a:br>
            <a:r>
              <a:rPr b="1" lang="it-IT" sz="1100" spc="-1" strike="noStrike">
                <a:solidFill>
                  <a:srgbClr val="152a85"/>
                </a:solidFill>
                <a:latin typeface="Arial"/>
                <a:ea typeface="Arial Unicode MS"/>
              </a:rPr>
              <a:t>legale rappres., titolare, amministratore, socio, liquidatore, curatore fallimentare, commissario giudiz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7520" y="4097160"/>
            <a:ext cx="9493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normAutofit/>
          </a:bodyPr>
          <a:p>
            <a:pPr marL="271440" indent="-271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no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27200" y="4653000"/>
            <a:ext cx="6888240" cy="155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706400" y="1874880"/>
            <a:ext cx="3633840" cy="181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Pratiche in base al dichia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Pratiche in base al desti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6000" y="900000"/>
            <a:ext cx="9648720" cy="56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eorgia"/>
              </a:rPr>
              <a:t>Modulistica altri 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22541" t="0" r="9834" b="13508"/>
          <a:stretch/>
        </p:blipFill>
        <p:spPr>
          <a:xfrm>
            <a:off x="1152360" y="1403280"/>
            <a:ext cx="799308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6000" y="1116000"/>
            <a:ext cx="95043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en-GB" sz="3600" spc="-1" strike="noStrike">
                <a:solidFill>
                  <a:srgbClr val="800000"/>
                </a:solidFill>
                <a:latin typeface="Georgia"/>
              </a:rPr>
              <a:t>Nuovo documento con diversi chiari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7499" t="14002" r="5001" b="8002"/>
          <a:stretch/>
        </p:blipFill>
        <p:spPr>
          <a:xfrm>
            <a:off x="1727280" y="2916360"/>
            <a:ext cx="3529080" cy="19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6250" t="21002" r="3127" b="8002"/>
          <a:stretch/>
        </p:blipFill>
        <p:spPr>
          <a:xfrm>
            <a:off x="3960720" y="3419640"/>
            <a:ext cx="3816360" cy="1868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5001" t="17001" r="2501" b="7747"/>
          <a:stretch/>
        </p:blipFill>
        <p:spPr>
          <a:xfrm>
            <a:off x="1584360" y="4500720"/>
            <a:ext cx="449424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304920"/>
            <a:ext cx="8001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280" y="2050920"/>
            <a:ext cx="82818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Le novit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000066"/>
                </a:solidFill>
                <a:latin typeface="Georgia"/>
              </a:rPr>
              <a:t>Reinvii per l’Agenzia Ent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800000"/>
                </a:solidFill>
                <a:latin typeface="Georgia"/>
              </a:rPr>
              <a:t>Errori più frequ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000066"/>
                </a:solidFill>
                <a:latin typeface="Georgia"/>
              </a:rPr>
              <a:t>INPS e uso della proc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5f5f5f"/>
                </a:solidFill>
                <a:latin typeface="Georgia"/>
              </a:rPr>
              <a:t> </a:t>
            </a:r>
            <a:r>
              <a:rPr b="1" i="1" lang="it-IT" sz="3600" spc="-1" strike="noStrike">
                <a:solidFill>
                  <a:srgbClr val="800000"/>
                </a:solidFill>
                <a:latin typeface="Georgia"/>
              </a:rPr>
              <a:t>INAIL - gestione erro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yi</cp:lastModifiedBy>
  <dcterms:modified xsi:type="dcterms:W3CDTF">2010-06-09T10:18:16Z</dcterms:modified>
  <cp:revision>59</cp:revision>
  <dc:subject/>
  <dc:title>Presentazione di PowerPoint</dc:title>
</cp:coreProperties>
</file>