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15FD-AE8C-4F1C-95F4-18BF649FC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2F98-E467-4C16-8B5A-0125185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E5EEC-0F8C-41F4-8A91-9485483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4492-3947-4ECE-B7A3-9B974D95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DBCC-AB65-42CB-866A-D553E47D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430C-7254-4E01-91E2-2A7B3B42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F284-9456-4133-A9A4-76C8C2F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2956-85F5-4AA3-9DF0-540DE33D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4165-1163-4BE9-9254-5A2489C8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847F9-5EDF-46A4-951A-B093DC3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8098-60FD-4F92-B541-C67F6C7F2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15FF-D485-4D62-8396-CAC0A98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28B6-D06F-4409-936D-0D0F63BE0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780CD-1498-407E-85D2-BF3925762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A033D-9026-4577-BC8E-8C8B4CF7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6AAF-49D9-4674-BC03-C47FC54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F6283-26A5-436B-9785-65183034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47CB8-BAF8-471C-B632-AE66717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FE557-97AA-4BD4-A3E1-6BD327EE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DD4B8-71B9-4E64-AF9F-16B4796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5A6D-CFB7-4326-9C84-6ECCE1E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0680B-FD2D-4587-A8F9-582B3C44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644DA-3CE0-4D0A-8829-F3CB814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C3CF5-8434-4188-BFF3-02742AB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3AEC9-B3D1-4D55-8C30-6F97134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66C2F-69B7-46CC-B380-0355F7BC1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4344-B3C0-49FD-A294-C6BC52448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B64C-446B-43B9-BBDC-758374B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560-49FB-4CFC-9CCD-38D27CC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AAEE-F826-4771-9088-425CBCC9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F8E-58C9-4A73-99D1-CDBC6BB9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ED51-A6F1-417D-B20B-C4236899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BE76-9C27-4C36-A798-B4C2637D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918-0AC4-477A-B33E-7AAAAB5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D9B8-B342-4453-BC85-35188E6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E46-7C13-447C-9807-6D54057E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D244-4E20-4EB7-90F3-D1B969D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9739-4DC5-4D81-84E0-2210CBF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62E2-29D4-4FA7-9EF8-AAFF515D7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DFD70-F563-4B51-A31D-777C353D4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807D-1930-4923-A74C-4DD198B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B309-7236-4FB0-A8CB-7EF08E7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CD0F-7888-470D-9A50-1800E69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ED47C-1C02-4E1B-A936-CDCC911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27496-D2BF-4C96-A213-83E4AC8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592F5-F219-4503-8571-24ECAFCF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46238-1487-4970-8BCC-D5FE5C7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43606-29FA-439B-8E76-67AF3909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04373-20BC-4102-8CA0-159F7BB8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206AA-D6C5-4A82-9E67-C4D1B67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FF67D-07B0-4476-A90E-1B6D13F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03338-8AF0-4BA8-94B6-5CA85FA18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E861B-BC28-4EA8-991F-06349DA98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EC43-4BD0-4D0B-A3F1-0ECA7A7F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CE0A1-AB82-4083-BCA6-A8850C18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35916-772C-4199-95B1-3FA6742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56C23-6FBA-4286-92B9-57B3B5F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72D87-0D5C-429B-B08F-6D2B064A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486A0-6FE5-4192-8E2C-1B7D4B91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299A3-1D46-48C5-B59A-1BAED32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CB836-7964-49EA-B405-CD2E0E0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DE649-8CEC-46D8-8579-FBCC1C3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63CA2-E2A5-4A8D-8A14-9662024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D1A08-F385-4CB6-8742-DF7E0C6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3167-17D5-4278-99DF-4A3EBFCA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AC291-C32F-4304-8B18-C832FBB719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5F92-44BC-4CAD-9FA2-2DA25F420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37FA-35B3-4627-B509-C2B6A1D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6E7C-3BA8-47F3-B0D8-7C37110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3B082-3993-412A-81EB-976E80F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44E9-443F-476E-A811-30FDC1C5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3595-3750-4E73-9A4E-F5FE74A2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D462-D69B-4926-8BF9-35097951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30A9-05C8-427F-9173-E23A656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D2D0-7B2E-4C91-8971-B717923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4E82-B4EB-489A-B70E-D7E79E0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5977-83B0-4C26-B38A-92325A22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B961-3446-4EF0-A255-8996442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EFBC-6DE7-4D97-B62D-B2CB18515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145A2-387D-468F-9E88-AEA78EBFB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F06D2-9044-4FCF-BBA8-F12411F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3E92B-D8C3-45D7-874F-E07651F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54DB-97DE-413D-B891-FDFA142E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E526B-86A5-477F-AC20-F3E7F01E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B1846-47A6-4E88-A612-01AA9BA0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8A7C4-4DB9-4757-93A1-9828643A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07A7-7D1D-40E4-97D8-9E3C0E2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F83C7-0AFE-4A8A-874B-03C3CEA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85FC4-3AE2-4554-84C6-B20944E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F1A89-926B-41B9-9976-FFBC792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602F5-6BEC-480A-810C-813003F0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40D2D-8013-4FB8-A674-C2C340465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DC989C-79F7-4A6A-A948-07896799E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0E8E98-2818-4E82-9EC4-423AB710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B3059-67F3-41DE-B08A-8D44885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4906F-E228-4747-BD39-5D2435A4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4CCCD-99C1-41BB-AFBD-E7DED4DE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18FA-6205-4CEE-AF2A-F43488C6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4F4C1-9CD9-4BFC-8B52-0D5E102A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D3721-1297-4D3B-959F-9ED4149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41A10-E89D-497D-88B6-BDE777D0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53EFF-DB48-420F-BD28-4996F3F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74A3D-B0C5-4241-85DC-F6A578A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70E7B-C559-43E7-97ED-1E3765A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220023-6815-47A2-A539-468D54C69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048B-072A-48CD-ACA6-078E77086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79CB-4F07-4C45-84A1-2725F1A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9CA7-3529-47CA-9609-75B181B1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952BFC-B415-4AB2-B0D9-31184D30DBA9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A141DB-FBFC-4F37-9C74-EF1308325C3D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9F25C1-15D6-4993-8B5F-AFDC540F18E1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35E354-E26C-49FA-B508-2C41C78731EA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D166217-9AFF-4695-A7C8-D49CC6F3902F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DBA2CB-1D1A-4CE4-9D1E-95792771D759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4D71C6A-92D9-409A-8A64-8943D0E34272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D17E65F-925A-4C57-B144-5D0556083A88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C702E13-E760-46BF-B274-0D4457117594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74680" y="4761000"/>
            <a:ext cx="8672400" cy="1455480"/>
            <a:chOff x="274680" y="4761000"/>
            <a:chExt cx="8672400" cy="145548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274680" y="4761000"/>
              <a:ext cx="867240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274680" y="4761000"/>
              <a:ext cx="8672400" cy="14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8088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l rapporto con la direttiva professioni e le direttive commer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020000">
            <a:off x="6620400" y="784080"/>
            <a:ext cx="129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41520" y="857160"/>
            <a:ext cx="184284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4920" y="1554120"/>
            <a:ext cx="8686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3b2c24"/>
                </a:solidFill>
                <a:latin typeface="Franklin Gothic Book"/>
              </a:rPr>
              <a:t>Le 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direttive commerciali armonizzano i sistemi di diritto commerciale, in modo che in tutta l’UE esista un registro delle imprese (comunque denominato), che le fusioni e le scissioni rispondano ai medesimi principi, che esista una srl unipersonale in tutti i paes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24720" y="5832360"/>
            <a:ext cx="16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523227"/>
                </a:solidFill>
                <a:latin typeface="Century Schoolbook L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37960" y="450720"/>
            <a:ext cx="8818560" cy="1060560"/>
            <a:chOff x="237960" y="450720"/>
            <a:chExt cx="8818560" cy="106056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185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37960" y="450720"/>
              <a:ext cx="88185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12840" y="1260360"/>
            <a:ext cx="868680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3b2c24"/>
                </a:solidFill>
                <a:latin typeface="Franklin Gothic Book"/>
              </a:rPr>
              <a:t>La direttiva servizi si propone inve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 incentivare l'accesso alle attività di servizi e al loro esercizio eliminando la complessità, la lunghezza e l'incertezza giuridica delle procedure amministra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er questa ragione, sul modello di alcune iniziative in materia di modernizzazione delle buone pratiche amministrative avviate a livello comunitario e nazionale, è necessario stabilire principi di semplificazione amministra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020000">
            <a:off x="723312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58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04920" y="1554120"/>
            <a:ext cx="86868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 particolare mediante la limitazione dell'obbligo di autorizzazione preliminare ai casi in cui essa è indispensabile e l'introduzione del principio della tacita autorizzazione da parte delle autorità competenti allo scadere di un determinato ter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5580000"/>
            <a:ext cx="16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523227"/>
                </a:solidFill>
                <a:latin typeface="Century Schoolbook L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298440" y="268200"/>
            <a:ext cx="8697960" cy="1486080"/>
            <a:chOff x="298440" y="268200"/>
            <a:chExt cx="8697960" cy="1486080"/>
          </a:xfrm>
        </p:grpSpPr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298440" y="268200"/>
              <a:ext cx="869796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98440" y="268200"/>
              <a:ext cx="869796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04920" y="1554120"/>
            <a:ext cx="8686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 valutare la necessità di semplificare le procedure e le formalità gli Stati membri devono poter in particolare tener conto della necessità, del numero, degli eventuali doppioni, dei costi, della chiarezza e dell'accessibilità di tali procedure e formalità nonché dei ritardi e delle difficoltà pratiche cui potrebbero dar luogo per il prestatore in quest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20000">
            <a:off x="723312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68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04920" y="1554120"/>
            <a:ext cx="868680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unque le direttive commerciali e quella servizi  non hanno punti di sovrapposizione, convivono e si integrano a vic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erto, in alcuni casi la sovrapposizione può esserci, ma la direttiva servizi prev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72240" y="5572080"/>
            <a:ext cx="107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26255"/>
                </a:solidFill>
                <a:latin typeface="Freestyle Script"/>
              </a:rPr>
              <a:t>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33200" y="1260360"/>
            <a:ext cx="868680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Gli Stati membri devono introdurre, formulari armonizzati a livello comunitario, definiti dalla Commissione, equipollenti ai certificati, agli attestati o ad eventuali altri documenti in materia di stabil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20000" y="4935600"/>
            <a:ext cx="162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926255"/>
                </a:solidFill>
                <a:latin typeface="Freestyle Script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285840" y="450720"/>
            <a:ext cx="8723160" cy="1060560"/>
            <a:chOff x="285840" y="450720"/>
            <a:chExt cx="8723160" cy="106056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285840" y="450720"/>
              <a:ext cx="87231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85840" y="450720"/>
              <a:ext cx="87231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04920" y="1554120"/>
            <a:ext cx="8686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a direttiva è coerente con la </a:t>
            </a:r>
            <a:r>
              <a:rPr b="0" i="1" lang="en-US" sz="3000" spc="-1" strike="noStrike">
                <a:solidFill>
                  <a:srgbClr val="ad1f1f"/>
                </a:solidFill>
                <a:latin typeface="Franklin Gothic Book"/>
              </a:rPr>
              <a:t>direttiva 2005/36/CE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relativa al riconoscimento delle qualifiche professionali e non pregiudica tale dirett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ssa riguarda questioni diverse da quelle relative alle qualifiche professionali, quali l'assicurazione di responsabilità professionale, le comunicazioni commerciali, le attività multidisciplinari e la semplificazione amministrat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20000">
            <a:off x="737748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285840" y="450720"/>
            <a:ext cx="8723160" cy="1060560"/>
            <a:chOff x="285840" y="450720"/>
            <a:chExt cx="8723160" cy="106056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285840" y="450720"/>
              <a:ext cx="87231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85840" y="450720"/>
              <a:ext cx="87231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04920" y="155412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er quanto concerne la prestazione di servizi transfrontalieri a titolo temporaneo, una delle deroghe alla disposizione sulla libera prestazione di servizi previste dalla presente direttiva assicura che il titolo II sulla libera prestazione di servizi della </a:t>
            </a:r>
            <a:r>
              <a:rPr b="0" i="1" lang="en-US" sz="3600" spc="-1" strike="noStrike">
                <a:solidFill>
                  <a:srgbClr val="ad1f1f"/>
                </a:solidFill>
                <a:latin typeface="Franklin Gothic Book"/>
              </a:rPr>
              <a:t>direttiva 2005/36/C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resti impregiudica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99280" y="5651640"/>
            <a:ext cx="16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523227"/>
                </a:solidFill>
                <a:latin typeface="Century Schoolbook L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285840" y="450720"/>
            <a:ext cx="8723160" cy="1060560"/>
            <a:chOff x="285840" y="450720"/>
            <a:chExt cx="8723160" cy="106056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285840" y="450720"/>
              <a:ext cx="87231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85840" y="450720"/>
              <a:ext cx="87231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04920" y="1554120"/>
            <a:ext cx="86868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Franklin Gothic Book"/>
              </a:rPr>
              <a:t>Pertanto, la disposizione sulla libera prestazione di servizi non incide su nessuna delle misure applicabili a norma di tale </a:t>
            </a:r>
            <a:r>
              <a:rPr b="0" i="1" lang="en-US" sz="4400" spc="-1" strike="noStrike">
                <a:solidFill>
                  <a:srgbClr val="ff0000"/>
                </a:solidFill>
                <a:latin typeface="Franklin Gothic Book"/>
              </a:rPr>
              <a:t>direttiva 2005/36/CE</a:t>
            </a:r>
            <a:r>
              <a:rPr b="0" lang="en-US" sz="4400" spc="-1" strike="noStrike">
                <a:solidFill>
                  <a:srgbClr val="ff0000"/>
                </a:solidFill>
                <a:latin typeface="Franklin Gothic Book"/>
              </a:rPr>
              <a:t> nello Stato membro in cui viene fornito un servizio</a:t>
            </a: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020000">
            <a:off x="7449120" y="5494320"/>
            <a:ext cx="129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98440" y="450720"/>
            <a:ext cx="8697960" cy="1152720"/>
            <a:chOff x="298440" y="450720"/>
            <a:chExt cx="8697960" cy="1152720"/>
          </a:xfrm>
        </p:grpSpPr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298440" y="450720"/>
              <a:ext cx="8697960" cy="11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98440" y="450720"/>
              <a:ext cx="86979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 disposizioni della presente direttiva confliggono con disposizioni di altri atti comunitari che disciplinano aspetti specifici dell'accesso ad un'attività di servizi o del suo esercizio in settori specifici o per 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professioni specifich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 le </a:t>
            </a:r>
            <a:r>
              <a:rPr b="0" lang="en-US" sz="3200" spc="-1" strike="noStrike">
                <a:solidFill>
                  <a:srgbClr val="0070c0"/>
                </a:solidFill>
                <a:latin typeface="Franklin Gothic Book"/>
              </a:rPr>
              <a:t>disposizioni di questi altri atti comunitari prevalgono e si applicano a tali settori o professioni specifich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020000">
            <a:off x="723312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85840" y="450720"/>
            <a:ext cx="8723160" cy="1060560"/>
            <a:chOff x="285840" y="450720"/>
            <a:chExt cx="8723160" cy="106056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285840" y="450720"/>
              <a:ext cx="87231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85840" y="450720"/>
              <a:ext cx="87231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04920" y="1554120"/>
            <a:ext cx="8686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Franklin Gothic Book"/>
              </a:rPr>
              <a:t>La direttiva professioni tutela e regola il professionista</a:t>
            </a: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Franklin Gothic Book"/>
              </a:rPr>
              <a:t>La direttiva servizi tutela e regola l’impresa (</a:t>
            </a:r>
            <a:r>
              <a:rPr b="1" i="1" lang="en-US" sz="3600" spc="-1" strike="noStrike">
                <a:solidFill>
                  <a:srgbClr val="0070c0"/>
                </a:solidFill>
                <a:latin typeface="Franklin Gothic Book"/>
              </a:rPr>
              <a:t>rectius</a:t>
            </a:r>
            <a:r>
              <a:rPr b="1" lang="en-US" sz="3600" spc="-1" strike="noStrike">
                <a:solidFill>
                  <a:srgbClr val="0070c0"/>
                </a:solidFill>
                <a:latin typeface="Franklin Gothic Book"/>
              </a:rPr>
              <a:t> l’attività di impresa) operante nel settore dei servizi sopra evidenziati e delineati.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72240" y="5572080"/>
            <a:ext cx="107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20000">
            <a:off x="723312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237960" y="450720"/>
            <a:ext cx="8818560" cy="1060560"/>
            <a:chOff x="237960" y="450720"/>
            <a:chExt cx="8818560" cy="106056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1856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37960" y="450720"/>
              <a:ext cx="88185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04920" y="1554120"/>
            <a:ext cx="86868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I direttiva (pubblicità commerci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II  direttiva (bilanc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III direttiva (fusion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VI direttiva (scission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X direttiva (fusion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XI direttiva (succursal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b2c24"/>
                </a:solidFill>
                <a:latin typeface="Franklin Gothic Book"/>
              </a:rPr>
              <a:t>XII direttiva (srl uniperson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020000">
            <a:off x="7233120" y="542268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Chiller"/>
              </a:rPr>
              <a:t>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04920" y="1554120"/>
            <a:ext cx="8686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XIII direttiva (OPA – OPS – OP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XIV direttiva (trasferimento di sede 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	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	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	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	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	</a:t>
            </a: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all’ester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72240" y="5572080"/>
            <a:ext cx="107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20000" y="5435640"/>
            <a:ext cx="16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523227"/>
                </a:solidFill>
                <a:latin typeface="Century Schoolbook L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37960" y="450720"/>
            <a:ext cx="8820360" cy="1062000"/>
            <a:chOff x="237960" y="450720"/>
            <a:chExt cx="8820360" cy="106200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237960" y="450720"/>
              <a:ext cx="8820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37960" y="450720"/>
              <a:ext cx="8820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04920" y="1554120"/>
            <a:ext cx="86868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b2c24"/>
                </a:solidFill>
                <a:latin typeface="Franklin Gothic Book"/>
              </a:rPr>
              <a:t>Se il criterio discretivo direttiva servizi – direttiva professioni è la qualità del servizio posto (imprenditoriale – professionale) la questione relativa al confine della direttiva servizi si pone rispetto alle direttive commerciali, che ovviamente si riferiscono alle impr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15280" y="5832360"/>
            <a:ext cx="16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523227"/>
                </a:solidFill>
                <a:latin typeface="Century Schoolbook L"/>
              </a:rPr>
              <a:t>M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MARCO</cp:lastModifiedBy>
  <dcterms:modified xsi:type="dcterms:W3CDTF">2009-06-07T16:11:41Z</dcterms:modified>
  <cp:revision>2</cp:revision>
  <dc:subject/>
  <dc:title>Direttiva servizi e direttive imprese Milano 23 giugno 2009</dc:title>
</cp:coreProperties>
</file>