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10688638" cy="756285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300800" cy="958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hdr"/>
          </p:nvPr>
        </p:nvSpPr>
        <p:spPr>
          <a:xfrm>
            <a:off x="0" y="0"/>
            <a:ext cx="316872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4132080" y="0"/>
            <a:ext cx="31683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12400" y="722160"/>
            <a:ext cx="5079960" cy="3594240"/>
          </a:xfrm>
          <a:prstGeom prst="rect">
            <a:avLst/>
          </a:prstGeom>
          <a:noFill/>
          <a:ln w="9360">
            <a:solidFill>
              <a:srgbClr val="000000"/>
            </a:solidFill>
            <a:miter/>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Click to move the slide</a:t>
            </a:r>
            <a:endParaRPr b="1" i="1" lang="en-US" sz="1800" spc="-1" strike="noStrike">
              <a:solidFill>
                <a:srgbClr val="000000"/>
              </a:solidFill>
              <a:latin typeface="Arial"/>
            </a:endParaRPr>
          </a:p>
        </p:txBody>
      </p:sp>
      <p:sp>
        <p:nvSpPr>
          <p:cNvPr id="82" name="PlaceHolder 4"/>
          <p:cNvSpPr>
            <a:spLocks noGrp="1"/>
          </p:cNvSpPr>
          <p:nvPr>
            <p:ph type="body"/>
          </p:nvPr>
        </p:nvSpPr>
        <p:spPr>
          <a:xfrm>
            <a:off x="974520" y="4556160"/>
            <a:ext cx="5351400" cy="430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0" y="9107280"/>
            <a:ext cx="3168720" cy="479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4132080" y="9107280"/>
            <a:ext cx="3168360" cy="479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3843D-8D22-4A4A-BDDF-403C96F3F4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425BA-0E30-42B0-9E05-C2F6E6C6111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12760" y="722160"/>
            <a:ext cx="5079960" cy="3594240"/>
          </a:xfrm>
          <a:prstGeom prst="rect">
            <a:avLst/>
          </a:prstGeom>
          <a:ln w="0">
            <a:noFill/>
          </a:ln>
        </p:spPr>
      </p:sp>
      <p:sp>
        <p:nvSpPr>
          <p:cNvPr id="342" name="PlaceHolder 2"/>
          <p:cNvSpPr>
            <a:spLocks noGrp="1"/>
          </p:cNvSpPr>
          <p:nvPr>
            <p:ph type="body"/>
          </p:nvPr>
        </p:nvSpPr>
        <p:spPr>
          <a:xfrm>
            <a:off x="974520" y="4556160"/>
            <a:ext cx="5351400" cy="430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74109-42B2-4E1A-B2FD-0C0525A3852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11320" y="719280"/>
            <a:ext cx="5081400" cy="3595680"/>
          </a:xfrm>
          <a:prstGeom prst="rect">
            <a:avLst/>
          </a:prstGeom>
          <a:ln w="0">
            <a:noFill/>
          </a:ln>
        </p:spPr>
      </p:sp>
      <p:sp>
        <p:nvSpPr>
          <p:cNvPr id="369"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2898-79D1-4D3C-9D31-029F2C1E514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11320" y="719280"/>
            <a:ext cx="5081400" cy="3595680"/>
          </a:xfrm>
          <a:prstGeom prst="rect">
            <a:avLst/>
          </a:prstGeom>
          <a:ln w="0">
            <a:noFill/>
          </a:ln>
        </p:spPr>
      </p:sp>
      <p:sp>
        <p:nvSpPr>
          <p:cNvPr id="372"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35E4-E360-42C6-A6F2-DD89BA907CC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11320" y="719280"/>
            <a:ext cx="5081400" cy="3595680"/>
          </a:xfrm>
          <a:prstGeom prst="rect">
            <a:avLst/>
          </a:prstGeom>
          <a:ln w="0">
            <a:noFill/>
          </a:ln>
        </p:spPr>
      </p:sp>
      <p:sp>
        <p:nvSpPr>
          <p:cNvPr id="375"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FA849-D68F-4896-B279-F9C294E86EA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11320" y="719280"/>
            <a:ext cx="5081400" cy="3595680"/>
          </a:xfrm>
          <a:prstGeom prst="rect">
            <a:avLst/>
          </a:prstGeom>
          <a:ln w="0">
            <a:noFill/>
          </a:ln>
        </p:spPr>
      </p:sp>
      <p:sp>
        <p:nvSpPr>
          <p:cNvPr id="378"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5026-7B7C-4F01-8823-F493380BA3B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11320" y="719280"/>
            <a:ext cx="5081400" cy="3595680"/>
          </a:xfrm>
          <a:prstGeom prst="rect">
            <a:avLst/>
          </a:prstGeom>
          <a:ln w="0">
            <a:noFill/>
          </a:ln>
        </p:spPr>
      </p:sp>
      <p:sp>
        <p:nvSpPr>
          <p:cNvPr id="381"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EEC1-B00B-4CF7-AAE1-08F3B9C2A5A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11320" y="719280"/>
            <a:ext cx="5081400" cy="3595680"/>
          </a:xfrm>
          <a:prstGeom prst="rect">
            <a:avLst/>
          </a:prstGeom>
          <a:ln w="0">
            <a:noFill/>
          </a:ln>
        </p:spPr>
      </p:sp>
      <p:sp>
        <p:nvSpPr>
          <p:cNvPr id="384"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D811-CD48-430A-82DF-90DE5B42687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11320" y="719280"/>
            <a:ext cx="5081400" cy="3595680"/>
          </a:xfrm>
          <a:prstGeom prst="rect">
            <a:avLst/>
          </a:prstGeom>
          <a:ln w="0">
            <a:noFill/>
          </a:ln>
        </p:spPr>
      </p:sp>
      <p:sp>
        <p:nvSpPr>
          <p:cNvPr id="387"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E859-3662-4840-89CA-36938BF9F2F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11320" y="719280"/>
            <a:ext cx="5081400" cy="3595680"/>
          </a:xfrm>
          <a:prstGeom prst="rect">
            <a:avLst/>
          </a:prstGeom>
          <a:ln w="0">
            <a:noFill/>
          </a:ln>
        </p:spPr>
      </p:sp>
      <p:sp>
        <p:nvSpPr>
          <p:cNvPr id="390"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3AF27-BCDD-46FA-9922-D06AADD2CF3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11320" y="719280"/>
            <a:ext cx="5081400" cy="3595680"/>
          </a:xfrm>
          <a:prstGeom prst="rect">
            <a:avLst/>
          </a:prstGeom>
          <a:ln w="0">
            <a:noFill/>
          </a:ln>
        </p:spPr>
      </p:sp>
      <p:sp>
        <p:nvSpPr>
          <p:cNvPr id="393"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A4F37-6841-42D8-9507-E466BED97EB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11320" y="719280"/>
            <a:ext cx="5081400" cy="3595680"/>
          </a:xfrm>
          <a:prstGeom prst="rect">
            <a:avLst/>
          </a:prstGeom>
          <a:ln w="0">
            <a:noFill/>
          </a:ln>
        </p:spPr>
      </p:sp>
      <p:sp>
        <p:nvSpPr>
          <p:cNvPr id="396"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7ED8-DF8A-4E79-BE16-0AE6DFB7D19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11320" y="719280"/>
            <a:ext cx="5081400" cy="3595680"/>
          </a:xfrm>
          <a:prstGeom prst="rect">
            <a:avLst/>
          </a:prstGeom>
          <a:ln w="0">
            <a:noFill/>
          </a:ln>
        </p:spPr>
      </p:sp>
      <p:sp>
        <p:nvSpPr>
          <p:cNvPr id="345"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8867-B451-4DFC-99A5-BFCA7EADD22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11320" y="719280"/>
            <a:ext cx="5081400" cy="3595680"/>
          </a:xfrm>
          <a:prstGeom prst="rect">
            <a:avLst/>
          </a:prstGeom>
          <a:ln w="0">
            <a:noFill/>
          </a:ln>
        </p:spPr>
      </p:sp>
      <p:sp>
        <p:nvSpPr>
          <p:cNvPr id="399"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2C519-2220-421B-925E-4D0465CA886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11320" y="719280"/>
            <a:ext cx="5081400" cy="3595680"/>
          </a:xfrm>
          <a:prstGeom prst="rect">
            <a:avLst/>
          </a:prstGeom>
          <a:ln w="0">
            <a:noFill/>
          </a:ln>
        </p:spPr>
      </p:sp>
      <p:sp>
        <p:nvSpPr>
          <p:cNvPr id="402"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CC86-3249-4FF1-A794-6485AC0EC50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11320" y="719280"/>
            <a:ext cx="5081400" cy="3595680"/>
          </a:xfrm>
          <a:prstGeom prst="rect">
            <a:avLst/>
          </a:prstGeom>
          <a:ln w="0">
            <a:noFill/>
          </a:ln>
        </p:spPr>
      </p:sp>
      <p:sp>
        <p:nvSpPr>
          <p:cNvPr id="405"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8A95-B131-4D06-9491-A9F8E247009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11320" y="719280"/>
            <a:ext cx="5081400" cy="3595680"/>
          </a:xfrm>
          <a:prstGeom prst="rect">
            <a:avLst/>
          </a:prstGeom>
          <a:ln w="0">
            <a:noFill/>
          </a:ln>
        </p:spPr>
      </p:sp>
      <p:sp>
        <p:nvSpPr>
          <p:cNvPr id="408"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19C71-3DEC-4B4D-BBB0-BAE0A074A21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11320" y="719280"/>
            <a:ext cx="5081400" cy="3595680"/>
          </a:xfrm>
          <a:prstGeom prst="rect">
            <a:avLst/>
          </a:prstGeom>
          <a:ln w="0">
            <a:noFill/>
          </a:ln>
        </p:spPr>
      </p:sp>
      <p:sp>
        <p:nvSpPr>
          <p:cNvPr id="411"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7CB01-A19E-4335-BA94-C06C2D85C1E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11320" y="719280"/>
            <a:ext cx="5081400" cy="3595680"/>
          </a:xfrm>
          <a:prstGeom prst="rect">
            <a:avLst/>
          </a:prstGeom>
          <a:ln w="0">
            <a:noFill/>
          </a:ln>
        </p:spPr>
      </p:sp>
      <p:sp>
        <p:nvSpPr>
          <p:cNvPr id="414"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F534-4DED-4FEF-B40C-989AAA2EC46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11320" y="719280"/>
            <a:ext cx="5081400" cy="3595680"/>
          </a:xfrm>
          <a:prstGeom prst="rect">
            <a:avLst/>
          </a:prstGeom>
          <a:ln w="0">
            <a:noFill/>
          </a:ln>
        </p:spPr>
      </p:sp>
      <p:sp>
        <p:nvSpPr>
          <p:cNvPr id="417"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6572-EC73-4886-BE6C-823A6EE28B2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11320" y="719280"/>
            <a:ext cx="5081400" cy="3595680"/>
          </a:xfrm>
          <a:prstGeom prst="rect">
            <a:avLst/>
          </a:prstGeom>
          <a:ln w="0">
            <a:noFill/>
          </a:ln>
        </p:spPr>
      </p:sp>
      <p:sp>
        <p:nvSpPr>
          <p:cNvPr id="420"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70960-D198-4076-8EB4-F27B7ED779C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11320" y="719280"/>
            <a:ext cx="5081400" cy="3595680"/>
          </a:xfrm>
          <a:prstGeom prst="rect">
            <a:avLst/>
          </a:prstGeom>
          <a:ln w="0">
            <a:noFill/>
          </a:ln>
        </p:spPr>
      </p:sp>
      <p:sp>
        <p:nvSpPr>
          <p:cNvPr id="423"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9D00-DB84-4E10-BF9A-E81014BE57C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11320" y="719280"/>
            <a:ext cx="5081400" cy="3595680"/>
          </a:xfrm>
          <a:prstGeom prst="rect">
            <a:avLst/>
          </a:prstGeom>
          <a:ln w="0">
            <a:noFill/>
          </a:ln>
        </p:spPr>
      </p:sp>
      <p:sp>
        <p:nvSpPr>
          <p:cNvPr id="426"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5549E-2F4D-449E-A9D3-57052E5FC12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11320" y="719280"/>
            <a:ext cx="5081400" cy="3595680"/>
          </a:xfrm>
          <a:prstGeom prst="rect">
            <a:avLst/>
          </a:prstGeom>
          <a:ln w="0">
            <a:noFill/>
          </a:ln>
        </p:spPr>
      </p:sp>
      <p:sp>
        <p:nvSpPr>
          <p:cNvPr id="348"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C329F-4FF3-4364-A412-9B524F7369E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11320" y="719280"/>
            <a:ext cx="5081400" cy="3595680"/>
          </a:xfrm>
          <a:prstGeom prst="rect">
            <a:avLst/>
          </a:prstGeom>
          <a:ln w="0">
            <a:noFill/>
          </a:ln>
        </p:spPr>
      </p:sp>
      <p:sp>
        <p:nvSpPr>
          <p:cNvPr id="429"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F4C52-027C-4E61-BE25-A1E486C878D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11320" y="719280"/>
            <a:ext cx="5081400" cy="3595680"/>
          </a:xfrm>
          <a:prstGeom prst="rect">
            <a:avLst/>
          </a:prstGeom>
          <a:ln w="0">
            <a:noFill/>
          </a:ln>
        </p:spPr>
      </p:sp>
      <p:sp>
        <p:nvSpPr>
          <p:cNvPr id="432"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8D6BE-4805-4818-B175-FF9810FAFA0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11320" y="719280"/>
            <a:ext cx="5081400" cy="3595680"/>
          </a:xfrm>
          <a:prstGeom prst="rect">
            <a:avLst/>
          </a:prstGeom>
          <a:ln w="0">
            <a:noFill/>
          </a:ln>
        </p:spPr>
      </p:sp>
      <p:sp>
        <p:nvSpPr>
          <p:cNvPr id="435"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5D3AA-5858-441E-A1A4-AC4E2F4771C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11320" y="719280"/>
            <a:ext cx="5081400" cy="3595680"/>
          </a:xfrm>
          <a:prstGeom prst="rect">
            <a:avLst/>
          </a:prstGeom>
          <a:ln w="0">
            <a:noFill/>
          </a:ln>
        </p:spPr>
      </p:sp>
      <p:sp>
        <p:nvSpPr>
          <p:cNvPr id="438"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D03D-1533-4A3F-AFCC-58E003A7534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11320" y="719280"/>
            <a:ext cx="5081400" cy="3595680"/>
          </a:xfrm>
          <a:prstGeom prst="rect">
            <a:avLst/>
          </a:prstGeom>
          <a:ln w="0">
            <a:noFill/>
          </a:ln>
        </p:spPr>
      </p:sp>
      <p:sp>
        <p:nvSpPr>
          <p:cNvPr id="441"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E3C6-467C-49C1-A7C9-B8FCA83E302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11320" y="719280"/>
            <a:ext cx="5081400" cy="3595680"/>
          </a:xfrm>
          <a:prstGeom prst="rect">
            <a:avLst/>
          </a:prstGeom>
          <a:ln w="0">
            <a:noFill/>
          </a:ln>
        </p:spPr>
      </p:sp>
      <p:sp>
        <p:nvSpPr>
          <p:cNvPr id="444"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177D-7722-45FC-A487-78D3C3D5A48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11320" y="719280"/>
            <a:ext cx="5081400" cy="3595680"/>
          </a:xfrm>
          <a:prstGeom prst="rect">
            <a:avLst/>
          </a:prstGeom>
          <a:ln w="0">
            <a:noFill/>
          </a:ln>
        </p:spPr>
      </p:sp>
      <p:sp>
        <p:nvSpPr>
          <p:cNvPr id="447"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A640-5D89-4890-87ED-43558FD79F9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11320" y="719280"/>
            <a:ext cx="5081400" cy="3595680"/>
          </a:xfrm>
          <a:prstGeom prst="rect">
            <a:avLst/>
          </a:prstGeom>
          <a:ln w="0">
            <a:noFill/>
          </a:ln>
        </p:spPr>
      </p:sp>
      <p:sp>
        <p:nvSpPr>
          <p:cNvPr id="450"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807A-3E1B-4F04-9405-1D8D8065B7C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11320" y="719280"/>
            <a:ext cx="5081400" cy="3595680"/>
          </a:xfrm>
          <a:prstGeom prst="rect">
            <a:avLst/>
          </a:prstGeom>
          <a:ln w="0">
            <a:noFill/>
          </a:ln>
        </p:spPr>
      </p:sp>
      <p:sp>
        <p:nvSpPr>
          <p:cNvPr id="453"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9A32A-BD92-4BDA-BEFC-F92C0999509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11320" y="719280"/>
            <a:ext cx="5081400" cy="3595680"/>
          </a:xfrm>
          <a:prstGeom prst="rect">
            <a:avLst/>
          </a:prstGeom>
          <a:ln w="0">
            <a:noFill/>
          </a:ln>
        </p:spPr>
      </p:sp>
      <p:sp>
        <p:nvSpPr>
          <p:cNvPr id="456"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B047-D6BE-4C70-8467-2E2B0E5CD57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11320" y="719280"/>
            <a:ext cx="5081400" cy="3595680"/>
          </a:xfrm>
          <a:prstGeom prst="rect">
            <a:avLst/>
          </a:prstGeom>
          <a:ln w="0">
            <a:noFill/>
          </a:ln>
        </p:spPr>
      </p:sp>
      <p:sp>
        <p:nvSpPr>
          <p:cNvPr id="351"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584A-664E-4EEC-8050-3FCACE912B3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11320" y="719280"/>
            <a:ext cx="5081400" cy="3595680"/>
          </a:xfrm>
          <a:prstGeom prst="rect">
            <a:avLst/>
          </a:prstGeom>
          <a:ln w="0">
            <a:noFill/>
          </a:ln>
        </p:spPr>
      </p:sp>
      <p:sp>
        <p:nvSpPr>
          <p:cNvPr id="459"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FA5E-6A79-429D-951F-DF1EE427DA1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11320" y="719280"/>
            <a:ext cx="5081400" cy="3595680"/>
          </a:xfrm>
          <a:prstGeom prst="rect">
            <a:avLst/>
          </a:prstGeom>
          <a:ln w="0">
            <a:noFill/>
          </a:ln>
        </p:spPr>
      </p:sp>
      <p:sp>
        <p:nvSpPr>
          <p:cNvPr id="462"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1ABE-7C68-425C-9E51-BC209DC47C7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11320" y="719280"/>
            <a:ext cx="5081400" cy="3595680"/>
          </a:xfrm>
          <a:prstGeom prst="rect">
            <a:avLst/>
          </a:prstGeom>
          <a:ln w="0">
            <a:noFill/>
          </a:ln>
        </p:spPr>
      </p:sp>
      <p:sp>
        <p:nvSpPr>
          <p:cNvPr id="465"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FC3EA-9BCF-4902-BF4A-D5551CD0D35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11320" y="719280"/>
            <a:ext cx="5081400" cy="3595680"/>
          </a:xfrm>
          <a:prstGeom prst="rect">
            <a:avLst/>
          </a:prstGeom>
          <a:ln w="0">
            <a:noFill/>
          </a:ln>
        </p:spPr>
      </p:sp>
      <p:sp>
        <p:nvSpPr>
          <p:cNvPr id="468"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BA31-5402-4F20-8EA1-A58F750ED87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11320" y="719280"/>
            <a:ext cx="5081400" cy="3595680"/>
          </a:xfrm>
          <a:prstGeom prst="rect">
            <a:avLst/>
          </a:prstGeom>
          <a:ln w="0">
            <a:noFill/>
          </a:ln>
        </p:spPr>
      </p:sp>
      <p:sp>
        <p:nvSpPr>
          <p:cNvPr id="471"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5536-F243-40A2-9FC2-7A7B8C6A191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11320" y="719280"/>
            <a:ext cx="5081400" cy="3595680"/>
          </a:xfrm>
          <a:prstGeom prst="rect">
            <a:avLst/>
          </a:prstGeom>
          <a:ln w="0">
            <a:noFill/>
          </a:ln>
        </p:spPr>
      </p:sp>
      <p:sp>
        <p:nvSpPr>
          <p:cNvPr id="474"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F6B2-E154-4DC6-87AA-9ACD8F6730E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11320" y="719280"/>
            <a:ext cx="5081400" cy="3595680"/>
          </a:xfrm>
          <a:prstGeom prst="rect">
            <a:avLst/>
          </a:prstGeom>
          <a:ln w="0">
            <a:noFill/>
          </a:ln>
        </p:spPr>
      </p:sp>
      <p:sp>
        <p:nvSpPr>
          <p:cNvPr id="477"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85E1-CE91-45FA-9C94-9BEDABB48BC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11320" y="719280"/>
            <a:ext cx="5081400" cy="3595680"/>
          </a:xfrm>
          <a:prstGeom prst="rect">
            <a:avLst/>
          </a:prstGeom>
          <a:ln w="0">
            <a:noFill/>
          </a:ln>
        </p:spPr>
      </p:sp>
      <p:sp>
        <p:nvSpPr>
          <p:cNvPr id="480"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344C-E30B-4169-9541-5EB550757A7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11320" y="719280"/>
            <a:ext cx="5081400" cy="3595680"/>
          </a:xfrm>
          <a:prstGeom prst="rect">
            <a:avLst/>
          </a:prstGeom>
          <a:ln w="0">
            <a:noFill/>
          </a:ln>
        </p:spPr>
      </p:sp>
      <p:sp>
        <p:nvSpPr>
          <p:cNvPr id="483"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1287F-C6C8-45D7-A11D-A27B5E30F75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11320" y="719280"/>
            <a:ext cx="5081400" cy="3595680"/>
          </a:xfrm>
          <a:prstGeom prst="rect">
            <a:avLst/>
          </a:prstGeom>
          <a:ln w="0">
            <a:noFill/>
          </a:ln>
        </p:spPr>
      </p:sp>
      <p:sp>
        <p:nvSpPr>
          <p:cNvPr id="486"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8390-7BAA-4FC1-87CC-01097DCF818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11320" y="719280"/>
            <a:ext cx="5081400" cy="3595680"/>
          </a:xfrm>
          <a:prstGeom prst="rect">
            <a:avLst/>
          </a:prstGeom>
          <a:ln w="0">
            <a:noFill/>
          </a:ln>
        </p:spPr>
      </p:sp>
      <p:sp>
        <p:nvSpPr>
          <p:cNvPr id="354"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5C6C-3E5D-4174-93CC-C4A2F1CC795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11320" y="719280"/>
            <a:ext cx="5081400" cy="3595680"/>
          </a:xfrm>
          <a:prstGeom prst="rect">
            <a:avLst/>
          </a:prstGeom>
          <a:ln w="0">
            <a:noFill/>
          </a:ln>
        </p:spPr>
      </p:sp>
      <p:sp>
        <p:nvSpPr>
          <p:cNvPr id="489"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672F-6297-4E40-8AEE-FEC4C3A35C6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11320" y="719280"/>
            <a:ext cx="5081400" cy="3595680"/>
          </a:xfrm>
          <a:prstGeom prst="rect">
            <a:avLst/>
          </a:prstGeom>
          <a:ln w="0">
            <a:noFill/>
          </a:ln>
        </p:spPr>
      </p:sp>
      <p:sp>
        <p:nvSpPr>
          <p:cNvPr id="492"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F7DF-0DFF-4881-BD4D-E7AF2FAC76E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11320" y="719280"/>
            <a:ext cx="5081400" cy="3595680"/>
          </a:xfrm>
          <a:prstGeom prst="rect">
            <a:avLst/>
          </a:prstGeom>
          <a:ln w="0">
            <a:noFill/>
          </a:ln>
        </p:spPr>
      </p:sp>
      <p:sp>
        <p:nvSpPr>
          <p:cNvPr id="495"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8EC0-EC5B-4329-BAFB-11F765CAF68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11320" y="719280"/>
            <a:ext cx="5081400" cy="3595680"/>
          </a:xfrm>
          <a:prstGeom prst="rect">
            <a:avLst/>
          </a:prstGeom>
          <a:ln w="0">
            <a:noFill/>
          </a:ln>
        </p:spPr>
      </p:sp>
      <p:sp>
        <p:nvSpPr>
          <p:cNvPr id="357"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C6F1-8428-4C37-BF3A-D11E74B3480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11320" y="719280"/>
            <a:ext cx="5081400" cy="3595680"/>
          </a:xfrm>
          <a:prstGeom prst="rect">
            <a:avLst/>
          </a:prstGeom>
          <a:ln w="0">
            <a:noFill/>
          </a:ln>
        </p:spPr>
      </p:sp>
      <p:sp>
        <p:nvSpPr>
          <p:cNvPr id="360"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7786-02BC-4DDC-B0FB-CA90CEDB558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11320" y="719280"/>
            <a:ext cx="5081400" cy="3595680"/>
          </a:xfrm>
          <a:prstGeom prst="rect">
            <a:avLst/>
          </a:prstGeom>
          <a:ln w="0">
            <a:noFill/>
          </a:ln>
        </p:spPr>
      </p:sp>
      <p:sp>
        <p:nvSpPr>
          <p:cNvPr id="363"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132440" y="9107640"/>
            <a:ext cx="3168360" cy="479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0003-9B4F-4047-B848-0E4241ADA8F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11320" y="719280"/>
            <a:ext cx="5081400" cy="3595680"/>
          </a:xfrm>
          <a:prstGeom prst="rect">
            <a:avLst/>
          </a:prstGeom>
          <a:ln w="0">
            <a:noFill/>
          </a:ln>
        </p:spPr>
      </p:sp>
      <p:sp>
        <p:nvSpPr>
          <p:cNvPr id="366" name="PlaceHolder 2"/>
          <p:cNvSpPr>
            <a:spLocks noGrp="1"/>
          </p:cNvSpPr>
          <p:nvPr>
            <p:ph type="body"/>
          </p:nvPr>
        </p:nvSpPr>
        <p:spPr>
          <a:xfrm>
            <a:off x="976320" y="4554360"/>
            <a:ext cx="5348160" cy="4322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800" spc="-1" strike="noStrike">
              <a:solidFill>
                <a:srgbClr val="000000"/>
              </a:solidFill>
              <a:latin typeface="Arial"/>
            </a:endParaRPr>
          </a:p>
        </p:txBody>
      </p:sp>
      <p:sp>
        <p:nvSpPr>
          <p:cNvPr id="27" name="PlaceHolder 2"/>
          <p:cNvSpPr>
            <a:spLocks noGrp="1"/>
          </p:cNvSpPr>
          <p:nvPr>
            <p:ph/>
          </p:nvPr>
        </p:nvSpPr>
        <p:spPr>
          <a:xfrm>
            <a:off x="534240" y="1769760"/>
            <a:ext cx="961920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28" name="PlaceHolder 3"/>
          <p:cNvSpPr>
            <a:spLocks noGrp="1"/>
          </p:cNvSpPr>
          <p:nvPr>
            <p:ph/>
          </p:nvPr>
        </p:nvSpPr>
        <p:spPr>
          <a:xfrm>
            <a:off x="534240" y="4060800"/>
            <a:ext cx="961920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800" spc="-1" strike="noStrike">
              <a:solidFill>
                <a:srgbClr val="000000"/>
              </a:solidFill>
              <a:latin typeface="Arial"/>
            </a:endParaRPr>
          </a:p>
        </p:txBody>
      </p:sp>
      <p:sp>
        <p:nvSpPr>
          <p:cNvPr id="30" name="PlaceHolder 2"/>
          <p:cNvSpPr>
            <a:spLocks noGrp="1"/>
          </p:cNvSpPr>
          <p:nvPr>
            <p:ph/>
          </p:nvPr>
        </p:nvSpPr>
        <p:spPr>
          <a:xfrm>
            <a:off x="534240" y="1769760"/>
            <a:ext cx="469404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31" name="PlaceHolder 3"/>
          <p:cNvSpPr>
            <a:spLocks noGrp="1"/>
          </p:cNvSpPr>
          <p:nvPr>
            <p:ph/>
          </p:nvPr>
        </p:nvSpPr>
        <p:spPr>
          <a:xfrm>
            <a:off x="5463360" y="1769760"/>
            <a:ext cx="469404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32" name="PlaceHolder 4"/>
          <p:cNvSpPr>
            <a:spLocks noGrp="1"/>
          </p:cNvSpPr>
          <p:nvPr>
            <p:ph/>
          </p:nvPr>
        </p:nvSpPr>
        <p:spPr>
          <a:xfrm>
            <a:off x="534240" y="4060800"/>
            <a:ext cx="469404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33" name="PlaceHolder 5"/>
          <p:cNvSpPr>
            <a:spLocks noGrp="1"/>
          </p:cNvSpPr>
          <p:nvPr>
            <p:ph/>
          </p:nvPr>
        </p:nvSpPr>
        <p:spPr>
          <a:xfrm>
            <a:off x="5463360" y="4060800"/>
            <a:ext cx="469404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800" spc="-1" strike="noStrike">
              <a:solidFill>
                <a:srgbClr val="000000"/>
              </a:solidFill>
              <a:latin typeface="Arial"/>
            </a:endParaRPr>
          </a:p>
        </p:txBody>
      </p:sp>
      <p:sp>
        <p:nvSpPr>
          <p:cNvPr id="35" name="PlaceHolder 2"/>
          <p:cNvSpPr>
            <a:spLocks noGrp="1"/>
          </p:cNvSpPr>
          <p:nvPr>
            <p:ph/>
          </p:nvPr>
        </p:nvSpPr>
        <p:spPr>
          <a:xfrm>
            <a:off x="534240" y="1769760"/>
            <a:ext cx="309708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36" name="PlaceHolder 3"/>
          <p:cNvSpPr>
            <a:spLocks noGrp="1"/>
          </p:cNvSpPr>
          <p:nvPr>
            <p:ph/>
          </p:nvPr>
        </p:nvSpPr>
        <p:spPr>
          <a:xfrm>
            <a:off x="3786480" y="1769760"/>
            <a:ext cx="309708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37" name="PlaceHolder 4"/>
          <p:cNvSpPr>
            <a:spLocks noGrp="1"/>
          </p:cNvSpPr>
          <p:nvPr>
            <p:ph/>
          </p:nvPr>
        </p:nvSpPr>
        <p:spPr>
          <a:xfrm>
            <a:off x="7038720" y="1769760"/>
            <a:ext cx="309708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38" name="PlaceHolder 5"/>
          <p:cNvSpPr>
            <a:spLocks noGrp="1"/>
          </p:cNvSpPr>
          <p:nvPr>
            <p:ph/>
          </p:nvPr>
        </p:nvSpPr>
        <p:spPr>
          <a:xfrm>
            <a:off x="534240" y="4060800"/>
            <a:ext cx="309708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39" name="PlaceHolder 6"/>
          <p:cNvSpPr>
            <a:spLocks noGrp="1"/>
          </p:cNvSpPr>
          <p:nvPr>
            <p:ph/>
          </p:nvPr>
        </p:nvSpPr>
        <p:spPr>
          <a:xfrm>
            <a:off x="3786480" y="4060800"/>
            <a:ext cx="309708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40" name="PlaceHolder 7"/>
          <p:cNvSpPr>
            <a:spLocks noGrp="1"/>
          </p:cNvSpPr>
          <p:nvPr>
            <p:ph/>
          </p:nvPr>
        </p:nvSpPr>
        <p:spPr>
          <a:xfrm>
            <a:off x="7038720" y="4060800"/>
            <a:ext cx="309708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800" spc="-1" strike="noStrike">
              <a:solidFill>
                <a:srgbClr val="000000"/>
              </a:solidFill>
              <a:latin typeface="Arial"/>
            </a:endParaRPr>
          </a:p>
        </p:txBody>
      </p:sp>
      <p:sp>
        <p:nvSpPr>
          <p:cNvPr id="43" name="PlaceHolder 2"/>
          <p:cNvSpPr>
            <a:spLocks noGrp="1"/>
          </p:cNvSpPr>
          <p:nvPr>
            <p:ph type="subTitle"/>
          </p:nvPr>
        </p:nvSpPr>
        <p:spPr>
          <a:xfrm>
            <a:off x="534240" y="1769760"/>
            <a:ext cx="9619200" cy="4386240"/>
          </a:xfrm>
          <a:prstGeom prst="rect">
            <a:avLst/>
          </a:prstGeom>
          <a:noFill/>
          <a:ln w="0">
            <a:noFill/>
          </a:ln>
        </p:spPr>
        <p:txBody>
          <a:bodyPr lIns="0" rIns="0" tIns="0" bIns="0" anchor="ctr">
            <a:noAutofit/>
          </a:bodyPr>
          <a:p>
            <a:pPr indent="0" algn="ctr">
              <a:spcBef>
                <a:spcPts val="6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800" spc="-1" strike="noStrike">
              <a:solidFill>
                <a:srgbClr val="000000"/>
              </a:solidFill>
              <a:latin typeface="Arial"/>
            </a:endParaRPr>
          </a:p>
        </p:txBody>
      </p:sp>
      <p:sp>
        <p:nvSpPr>
          <p:cNvPr id="45" name="PlaceHolder 2"/>
          <p:cNvSpPr>
            <a:spLocks noGrp="1"/>
          </p:cNvSpPr>
          <p:nvPr>
            <p:ph/>
          </p:nvPr>
        </p:nvSpPr>
        <p:spPr>
          <a:xfrm>
            <a:off x="534240" y="1769760"/>
            <a:ext cx="9619200" cy="438624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800" spc="-1" strike="noStrike">
              <a:solidFill>
                <a:srgbClr val="000000"/>
              </a:solidFill>
              <a:latin typeface="Arial"/>
            </a:endParaRPr>
          </a:p>
        </p:txBody>
      </p:sp>
      <p:sp>
        <p:nvSpPr>
          <p:cNvPr id="47" name="PlaceHolder 2"/>
          <p:cNvSpPr>
            <a:spLocks noGrp="1"/>
          </p:cNvSpPr>
          <p:nvPr>
            <p:ph/>
          </p:nvPr>
        </p:nvSpPr>
        <p:spPr>
          <a:xfrm>
            <a:off x="534240" y="1769760"/>
            <a:ext cx="4694040" cy="438624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48" name="PlaceHolder 3"/>
          <p:cNvSpPr>
            <a:spLocks noGrp="1"/>
          </p:cNvSpPr>
          <p:nvPr>
            <p:ph/>
          </p:nvPr>
        </p:nvSpPr>
        <p:spPr>
          <a:xfrm>
            <a:off x="5463360" y="1769760"/>
            <a:ext cx="4694040" cy="438624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4240" y="301680"/>
            <a:ext cx="9619200" cy="5853600"/>
          </a:xfrm>
          <a:prstGeom prst="rect">
            <a:avLst/>
          </a:prstGeom>
          <a:noFill/>
          <a:ln w="0">
            <a:noFill/>
          </a:ln>
        </p:spPr>
        <p:txBody>
          <a:bodyPr lIns="0" rIns="0" tIns="0" bIns="0" anchor="ctr">
            <a:noAutofit/>
          </a:bodyPr>
          <a:p>
            <a:pPr algn="ctr">
              <a:spcBef>
                <a:spcPts val="62"/>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800" spc="-1" strike="noStrike">
              <a:solidFill>
                <a:srgbClr val="000000"/>
              </a:solidFill>
              <a:latin typeface="Arial"/>
            </a:endParaRPr>
          </a:p>
        </p:txBody>
      </p:sp>
      <p:sp>
        <p:nvSpPr>
          <p:cNvPr id="52" name="PlaceHolder 2"/>
          <p:cNvSpPr>
            <a:spLocks noGrp="1"/>
          </p:cNvSpPr>
          <p:nvPr>
            <p:ph/>
          </p:nvPr>
        </p:nvSpPr>
        <p:spPr>
          <a:xfrm>
            <a:off x="534240" y="1769760"/>
            <a:ext cx="469404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53" name="PlaceHolder 3"/>
          <p:cNvSpPr>
            <a:spLocks noGrp="1"/>
          </p:cNvSpPr>
          <p:nvPr>
            <p:ph/>
          </p:nvPr>
        </p:nvSpPr>
        <p:spPr>
          <a:xfrm>
            <a:off x="5463360" y="1769760"/>
            <a:ext cx="4694040" cy="438624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54" name="PlaceHolder 4"/>
          <p:cNvSpPr>
            <a:spLocks noGrp="1"/>
          </p:cNvSpPr>
          <p:nvPr>
            <p:ph/>
          </p:nvPr>
        </p:nvSpPr>
        <p:spPr>
          <a:xfrm>
            <a:off x="534240" y="4060800"/>
            <a:ext cx="469404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800" spc="-1" strike="noStrike">
              <a:solidFill>
                <a:srgbClr val="000000"/>
              </a:solidFill>
              <a:latin typeface="Arial"/>
            </a:endParaRPr>
          </a:p>
        </p:txBody>
      </p:sp>
      <p:sp>
        <p:nvSpPr>
          <p:cNvPr id="6" name="PlaceHolder 2"/>
          <p:cNvSpPr>
            <a:spLocks noGrp="1"/>
          </p:cNvSpPr>
          <p:nvPr>
            <p:ph type="subTitle"/>
          </p:nvPr>
        </p:nvSpPr>
        <p:spPr>
          <a:xfrm>
            <a:off x="534240" y="1769760"/>
            <a:ext cx="9619200" cy="4386240"/>
          </a:xfrm>
          <a:prstGeom prst="rect">
            <a:avLst/>
          </a:prstGeom>
          <a:noFill/>
          <a:ln w="0">
            <a:noFill/>
          </a:ln>
        </p:spPr>
        <p:txBody>
          <a:bodyPr lIns="0" rIns="0" tIns="0" bIns="0" anchor="ctr">
            <a:noAutofit/>
          </a:bodyPr>
          <a:p>
            <a:pPr indent="0" algn="ctr">
              <a:spcBef>
                <a:spcPts val="62"/>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800" spc="-1" strike="noStrike">
              <a:solidFill>
                <a:srgbClr val="000000"/>
              </a:solidFill>
              <a:latin typeface="Arial"/>
            </a:endParaRPr>
          </a:p>
        </p:txBody>
      </p:sp>
      <p:sp>
        <p:nvSpPr>
          <p:cNvPr id="56" name="PlaceHolder 2"/>
          <p:cNvSpPr>
            <a:spLocks noGrp="1"/>
          </p:cNvSpPr>
          <p:nvPr>
            <p:ph/>
          </p:nvPr>
        </p:nvSpPr>
        <p:spPr>
          <a:xfrm>
            <a:off x="534240" y="1769760"/>
            <a:ext cx="4694040" cy="438624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57" name="PlaceHolder 3"/>
          <p:cNvSpPr>
            <a:spLocks noGrp="1"/>
          </p:cNvSpPr>
          <p:nvPr>
            <p:ph/>
          </p:nvPr>
        </p:nvSpPr>
        <p:spPr>
          <a:xfrm>
            <a:off x="5463360" y="1769760"/>
            <a:ext cx="469404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58" name="PlaceHolder 4"/>
          <p:cNvSpPr>
            <a:spLocks noGrp="1"/>
          </p:cNvSpPr>
          <p:nvPr>
            <p:ph/>
          </p:nvPr>
        </p:nvSpPr>
        <p:spPr>
          <a:xfrm>
            <a:off x="5463360" y="4060800"/>
            <a:ext cx="469404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800" spc="-1" strike="noStrike">
              <a:solidFill>
                <a:srgbClr val="000000"/>
              </a:solidFill>
              <a:latin typeface="Arial"/>
            </a:endParaRPr>
          </a:p>
        </p:txBody>
      </p:sp>
      <p:sp>
        <p:nvSpPr>
          <p:cNvPr id="60" name="PlaceHolder 2"/>
          <p:cNvSpPr>
            <a:spLocks noGrp="1"/>
          </p:cNvSpPr>
          <p:nvPr>
            <p:ph/>
          </p:nvPr>
        </p:nvSpPr>
        <p:spPr>
          <a:xfrm>
            <a:off x="534240" y="1769760"/>
            <a:ext cx="469404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61" name="PlaceHolder 3"/>
          <p:cNvSpPr>
            <a:spLocks noGrp="1"/>
          </p:cNvSpPr>
          <p:nvPr>
            <p:ph/>
          </p:nvPr>
        </p:nvSpPr>
        <p:spPr>
          <a:xfrm>
            <a:off x="5463360" y="1769760"/>
            <a:ext cx="469404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62" name="PlaceHolder 4"/>
          <p:cNvSpPr>
            <a:spLocks noGrp="1"/>
          </p:cNvSpPr>
          <p:nvPr>
            <p:ph/>
          </p:nvPr>
        </p:nvSpPr>
        <p:spPr>
          <a:xfrm>
            <a:off x="534240" y="4060800"/>
            <a:ext cx="961920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800" spc="-1" strike="noStrike">
              <a:solidFill>
                <a:srgbClr val="000000"/>
              </a:solidFill>
              <a:latin typeface="Arial"/>
            </a:endParaRPr>
          </a:p>
        </p:txBody>
      </p:sp>
      <p:sp>
        <p:nvSpPr>
          <p:cNvPr id="64" name="PlaceHolder 2"/>
          <p:cNvSpPr>
            <a:spLocks noGrp="1"/>
          </p:cNvSpPr>
          <p:nvPr>
            <p:ph/>
          </p:nvPr>
        </p:nvSpPr>
        <p:spPr>
          <a:xfrm>
            <a:off x="534240" y="1769760"/>
            <a:ext cx="961920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65" name="PlaceHolder 3"/>
          <p:cNvSpPr>
            <a:spLocks noGrp="1"/>
          </p:cNvSpPr>
          <p:nvPr>
            <p:ph/>
          </p:nvPr>
        </p:nvSpPr>
        <p:spPr>
          <a:xfrm>
            <a:off x="534240" y="4060800"/>
            <a:ext cx="961920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800" spc="-1" strike="noStrike">
              <a:solidFill>
                <a:srgbClr val="000000"/>
              </a:solidFill>
              <a:latin typeface="Arial"/>
            </a:endParaRPr>
          </a:p>
        </p:txBody>
      </p:sp>
      <p:sp>
        <p:nvSpPr>
          <p:cNvPr id="67" name="PlaceHolder 2"/>
          <p:cNvSpPr>
            <a:spLocks noGrp="1"/>
          </p:cNvSpPr>
          <p:nvPr>
            <p:ph/>
          </p:nvPr>
        </p:nvSpPr>
        <p:spPr>
          <a:xfrm>
            <a:off x="534240" y="1769760"/>
            <a:ext cx="469404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68" name="PlaceHolder 3"/>
          <p:cNvSpPr>
            <a:spLocks noGrp="1"/>
          </p:cNvSpPr>
          <p:nvPr>
            <p:ph/>
          </p:nvPr>
        </p:nvSpPr>
        <p:spPr>
          <a:xfrm>
            <a:off x="5463360" y="1769760"/>
            <a:ext cx="469404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69" name="PlaceHolder 4"/>
          <p:cNvSpPr>
            <a:spLocks noGrp="1"/>
          </p:cNvSpPr>
          <p:nvPr>
            <p:ph/>
          </p:nvPr>
        </p:nvSpPr>
        <p:spPr>
          <a:xfrm>
            <a:off x="534240" y="4060800"/>
            <a:ext cx="469404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70" name="PlaceHolder 5"/>
          <p:cNvSpPr>
            <a:spLocks noGrp="1"/>
          </p:cNvSpPr>
          <p:nvPr>
            <p:ph/>
          </p:nvPr>
        </p:nvSpPr>
        <p:spPr>
          <a:xfrm>
            <a:off x="5463360" y="4060800"/>
            <a:ext cx="469404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800" spc="-1" strike="noStrike">
              <a:solidFill>
                <a:srgbClr val="000000"/>
              </a:solidFill>
              <a:latin typeface="Arial"/>
            </a:endParaRPr>
          </a:p>
        </p:txBody>
      </p:sp>
      <p:sp>
        <p:nvSpPr>
          <p:cNvPr id="72" name="PlaceHolder 2"/>
          <p:cNvSpPr>
            <a:spLocks noGrp="1"/>
          </p:cNvSpPr>
          <p:nvPr>
            <p:ph/>
          </p:nvPr>
        </p:nvSpPr>
        <p:spPr>
          <a:xfrm>
            <a:off x="534240" y="1769760"/>
            <a:ext cx="309708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73" name="PlaceHolder 3"/>
          <p:cNvSpPr>
            <a:spLocks noGrp="1"/>
          </p:cNvSpPr>
          <p:nvPr>
            <p:ph/>
          </p:nvPr>
        </p:nvSpPr>
        <p:spPr>
          <a:xfrm>
            <a:off x="3786480" y="1769760"/>
            <a:ext cx="309708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74" name="PlaceHolder 4"/>
          <p:cNvSpPr>
            <a:spLocks noGrp="1"/>
          </p:cNvSpPr>
          <p:nvPr>
            <p:ph/>
          </p:nvPr>
        </p:nvSpPr>
        <p:spPr>
          <a:xfrm>
            <a:off x="7038720" y="1769760"/>
            <a:ext cx="309708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75" name="PlaceHolder 5"/>
          <p:cNvSpPr>
            <a:spLocks noGrp="1"/>
          </p:cNvSpPr>
          <p:nvPr>
            <p:ph/>
          </p:nvPr>
        </p:nvSpPr>
        <p:spPr>
          <a:xfrm>
            <a:off x="534240" y="4060800"/>
            <a:ext cx="309708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76" name="PlaceHolder 6"/>
          <p:cNvSpPr>
            <a:spLocks noGrp="1"/>
          </p:cNvSpPr>
          <p:nvPr>
            <p:ph/>
          </p:nvPr>
        </p:nvSpPr>
        <p:spPr>
          <a:xfrm>
            <a:off x="3786480" y="4060800"/>
            <a:ext cx="309708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77" name="PlaceHolder 7"/>
          <p:cNvSpPr>
            <a:spLocks noGrp="1"/>
          </p:cNvSpPr>
          <p:nvPr>
            <p:ph/>
          </p:nvPr>
        </p:nvSpPr>
        <p:spPr>
          <a:xfrm>
            <a:off x="7038720" y="4060800"/>
            <a:ext cx="309708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800" spc="-1" strike="noStrike">
              <a:solidFill>
                <a:srgbClr val="000000"/>
              </a:solidFill>
              <a:latin typeface="Arial"/>
            </a:endParaRPr>
          </a:p>
        </p:txBody>
      </p:sp>
      <p:sp>
        <p:nvSpPr>
          <p:cNvPr id="8" name="PlaceHolder 2"/>
          <p:cNvSpPr>
            <a:spLocks noGrp="1"/>
          </p:cNvSpPr>
          <p:nvPr>
            <p:ph/>
          </p:nvPr>
        </p:nvSpPr>
        <p:spPr>
          <a:xfrm>
            <a:off x="534240" y="1769760"/>
            <a:ext cx="9619200" cy="438624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800" spc="-1" strike="noStrike">
              <a:solidFill>
                <a:srgbClr val="000000"/>
              </a:solidFill>
              <a:latin typeface="Arial"/>
            </a:endParaRPr>
          </a:p>
        </p:txBody>
      </p:sp>
      <p:sp>
        <p:nvSpPr>
          <p:cNvPr id="10" name="PlaceHolder 2"/>
          <p:cNvSpPr>
            <a:spLocks noGrp="1"/>
          </p:cNvSpPr>
          <p:nvPr>
            <p:ph/>
          </p:nvPr>
        </p:nvSpPr>
        <p:spPr>
          <a:xfrm>
            <a:off x="534240" y="1769760"/>
            <a:ext cx="4694040" cy="438624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11" name="PlaceHolder 3"/>
          <p:cNvSpPr>
            <a:spLocks noGrp="1"/>
          </p:cNvSpPr>
          <p:nvPr>
            <p:ph/>
          </p:nvPr>
        </p:nvSpPr>
        <p:spPr>
          <a:xfrm>
            <a:off x="5463360" y="1769760"/>
            <a:ext cx="4694040" cy="438624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240" y="301680"/>
            <a:ext cx="9619200" cy="5853600"/>
          </a:xfrm>
          <a:prstGeom prst="rect">
            <a:avLst/>
          </a:prstGeom>
          <a:noFill/>
          <a:ln w="0">
            <a:noFill/>
          </a:ln>
        </p:spPr>
        <p:txBody>
          <a:bodyPr lIns="0" rIns="0" tIns="0" bIns="0" anchor="ctr">
            <a:noAutofit/>
          </a:bodyPr>
          <a:p>
            <a:pPr algn="ctr">
              <a:spcBef>
                <a:spcPts val="62"/>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800" spc="-1" strike="noStrike">
              <a:solidFill>
                <a:srgbClr val="000000"/>
              </a:solidFill>
              <a:latin typeface="Arial"/>
            </a:endParaRPr>
          </a:p>
        </p:txBody>
      </p:sp>
      <p:sp>
        <p:nvSpPr>
          <p:cNvPr id="15" name="PlaceHolder 2"/>
          <p:cNvSpPr>
            <a:spLocks noGrp="1"/>
          </p:cNvSpPr>
          <p:nvPr>
            <p:ph/>
          </p:nvPr>
        </p:nvSpPr>
        <p:spPr>
          <a:xfrm>
            <a:off x="534240" y="1769760"/>
            <a:ext cx="469404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16" name="PlaceHolder 3"/>
          <p:cNvSpPr>
            <a:spLocks noGrp="1"/>
          </p:cNvSpPr>
          <p:nvPr>
            <p:ph/>
          </p:nvPr>
        </p:nvSpPr>
        <p:spPr>
          <a:xfrm>
            <a:off x="5463360" y="1769760"/>
            <a:ext cx="4694040" cy="438624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17" name="PlaceHolder 4"/>
          <p:cNvSpPr>
            <a:spLocks noGrp="1"/>
          </p:cNvSpPr>
          <p:nvPr>
            <p:ph/>
          </p:nvPr>
        </p:nvSpPr>
        <p:spPr>
          <a:xfrm>
            <a:off x="534240" y="4060800"/>
            <a:ext cx="469404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800" spc="-1" strike="noStrike">
              <a:solidFill>
                <a:srgbClr val="000000"/>
              </a:solidFill>
              <a:latin typeface="Arial"/>
            </a:endParaRPr>
          </a:p>
        </p:txBody>
      </p:sp>
      <p:sp>
        <p:nvSpPr>
          <p:cNvPr id="19" name="PlaceHolder 2"/>
          <p:cNvSpPr>
            <a:spLocks noGrp="1"/>
          </p:cNvSpPr>
          <p:nvPr>
            <p:ph/>
          </p:nvPr>
        </p:nvSpPr>
        <p:spPr>
          <a:xfrm>
            <a:off x="534240" y="1769760"/>
            <a:ext cx="4694040" cy="438624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20" name="PlaceHolder 3"/>
          <p:cNvSpPr>
            <a:spLocks noGrp="1"/>
          </p:cNvSpPr>
          <p:nvPr>
            <p:ph/>
          </p:nvPr>
        </p:nvSpPr>
        <p:spPr>
          <a:xfrm>
            <a:off x="5463360" y="1769760"/>
            <a:ext cx="469404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21" name="PlaceHolder 4"/>
          <p:cNvSpPr>
            <a:spLocks noGrp="1"/>
          </p:cNvSpPr>
          <p:nvPr>
            <p:ph/>
          </p:nvPr>
        </p:nvSpPr>
        <p:spPr>
          <a:xfrm>
            <a:off x="5463360" y="4060800"/>
            <a:ext cx="469404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240" y="301680"/>
            <a:ext cx="9619200" cy="126252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800" spc="-1" strike="noStrike">
              <a:solidFill>
                <a:srgbClr val="000000"/>
              </a:solidFill>
              <a:latin typeface="Arial"/>
            </a:endParaRPr>
          </a:p>
        </p:txBody>
      </p:sp>
      <p:sp>
        <p:nvSpPr>
          <p:cNvPr id="23" name="PlaceHolder 2"/>
          <p:cNvSpPr>
            <a:spLocks noGrp="1"/>
          </p:cNvSpPr>
          <p:nvPr>
            <p:ph/>
          </p:nvPr>
        </p:nvSpPr>
        <p:spPr>
          <a:xfrm>
            <a:off x="534240" y="1769760"/>
            <a:ext cx="469404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24" name="PlaceHolder 3"/>
          <p:cNvSpPr>
            <a:spLocks noGrp="1"/>
          </p:cNvSpPr>
          <p:nvPr>
            <p:ph/>
          </p:nvPr>
        </p:nvSpPr>
        <p:spPr>
          <a:xfrm>
            <a:off x="5463360" y="1769760"/>
            <a:ext cx="469404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
        <p:nvSpPr>
          <p:cNvPr id="25" name="PlaceHolder 4"/>
          <p:cNvSpPr>
            <a:spLocks noGrp="1"/>
          </p:cNvSpPr>
          <p:nvPr>
            <p:ph/>
          </p:nvPr>
        </p:nvSpPr>
        <p:spPr>
          <a:xfrm>
            <a:off x="534240" y="4060800"/>
            <a:ext cx="9619200" cy="2091960"/>
          </a:xfrm>
          <a:prstGeom prst="rect">
            <a:avLst/>
          </a:prstGeom>
          <a:noFill/>
          <a:ln w="0">
            <a:noFill/>
          </a:ln>
        </p:spPr>
        <p:txBody>
          <a:bodyPr lIns="0" rIns="0" tIns="0" bIns="0" anchor="t">
            <a:normAutofit/>
          </a:bodyPr>
          <a:p>
            <a:pPr indent="0">
              <a:spcBef>
                <a:spcPts val="62"/>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1" descr="LOGO CONSORZIO CREDITO E FINANZA"/>
          <p:cNvPicPr/>
          <p:nvPr/>
        </p:nvPicPr>
        <p:blipFill>
          <a:blip r:embed="rId2"/>
          <a:stretch/>
        </p:blipFill>
        <p:spPr>
          <a:xfrm>
            <a:off x="8381880" y="6838920"/>
            <a:ext cx="2286000" cy="676440"/>
          </a:xfrm>
          <a:prstGeom prst="rect">
            <a:avLst/>
          </a:prstGeom>
          <a:ln w="0">
            <a:noFill/>
          </a:ln>
        </p:spPr>
      </p:pic>
      <p:graphicFrame>
        <p:nvGraphicFramePr>
          <p:cNvPr id="1" name="Object 87"/>
          <p:cNvGraphicFramePr/>
          <p:nvPr/>
        </p:nvGraphicFramePr>
        <p:xfrm>
          <a:off x="914400" y="2286000"/>
          <a:ext cx="4267080" cy="4102200"/>
        </p:xfrm>
        <a:graphic>
          <a:graphicData uri="http://schemas.openxmlformats.org/presentationml/2006/ole">
            <p:oleObj r:id="rId3" spid="">
              <p:embed/>
              <p:pic>
                <p:nvPicPr>
                  <p:cNvPr id="2" name="Object 87" descr=""/>
                  <p:cNvPicPr/>
                  <p:nvPr/>
                </p:nvPicPr>
                <p:blipFill>
                  <a:blip r:embed="rId4"/>
                  <a:stretch/>
                </p:blipFill>
                <p:spPr>
                  <a:xfrm>
                    <a:off x="914400" y="2286000"/>
                    <a:ext cx="4267080" cy="4102200"/>
                  </a:xfrm>
                  <a:prstGeom prst="rect">
                    <a:avLst/>
                  </a:prstGeom>
                  <a:ln w="0">
                    <a:noFill/>
                  </a:ln>
                </p:spPr>
              </p:pic>
            </p:oleObj>
          </a:graphicData>
        </a:graphic>
      </p:graphicFrame>
      <p:sp>
        <p:nvSpPr>
          <p:cNvPr id="3" name="Rectangle 88"/>
          <p:cNvSpPr/>
          <p:nvPr/>
        </p:nvSpPr>
        <p:spPr>
          <a:xfrm>
            <a:off x="457200" y="1066680"/>
            <a:ext cx="9829800" cy="76320"/>
          </a:xfrm>
          <a:prstGeom prst="rect">
            <a:avLst/>
          </a:prstGeom>
          <a:solidFill>
            <a:srgbClr val="c0c0c0"/>
          </a:solidFill>
          <a:ln w="9360">
            <a:solidFill>
              <a:srgbClr val="c0c0c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4" name="Rectangle 89"/>
          <p:cNvSpPr/>
          <p:nvPr/>
        </p:nvSpPr>
        <p:spPr>
          <a:xfrm>
            <a:off x="4970160" y="7004160"/>
            <a:ext cx="794880" cy="2440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670C-1B3B-48AE-B0FF-2B18F75C1E63}" type="slidenum">
              <a:rPr b="1" lang="en-US" sz="1000" spc="-1" strike="noStrike">
                <a:solidFill>
                  <a:srgbClr val="0066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CasellaDiTesto 5"/>
          <p:cNvSpPr/>
          <p:nvPr/>
        </p:nvSpPr>
        <p:spPr>
          <a:xfrm>
            <a:off x="1771560" y="566640"/>
            <a:ext cx="7788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Sostegno camerale per l’accesso al credito delle PM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15 e 16 luglio 2008</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1507680" y="4403880"/>
            <a:ext cx="7032600" cy="1992240"/>
          </a:xfrm>
          <a:prstGeom prst="rect">
            <a:avLst/>
          </a:prstGeom>
          <a:noFill/>
          <a:ln w="0">
            <a:noFill/>
          </a:ln>
        </p:spPr>
        <p:txBody>
          <a:bodyPr lIns="0" rIns="0" tIns="0" bIns="0" anchor="t">
            <a:noAutofit/>
          </a:bodyPr>
          <a:p>
            <a:pPr algn="ctr">
              <a:spcBef>
                <a:spcPts val="62"/>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it-IT" sz="200" spc="-1" strike="noStrike">
              <a:solidFill>
                <a:srgbClr val="000000"/>
              </a:solidFill>
              <a:latin typeface="CG Omega (W1)"/>
            </a:endParaRPr>
          </a:p>
        </p:txBody>
      </p:sp>
      <p:sp>
        <p:nvSpPr>
          <p:cNvPr id="86" name="Rectangle 4"/>
          <p:cNvSpPr/>
          <p:nvPr/>
        </p:nvSpPr>
        <p:spPr>
          <a:xfrm>
            <a:off x="436680" y="1924200"/>
            <a:ext cx="9774000" cy="1310040"/>
          </a:xfrm>
          <a:prstGeom prst="rect">
            <a:avLst/>
          </a:prstGeom>
          <a:noFill/>
          <a:ln w="0">
            <a:noFill/>
          </a:ln>
        </p:spPr>
        <p:style>
          <a:lnRef idx="0"/>
          <a:fillRef idx="0"/>
          <a:effectRef idx="0"/>
          <a:fontRef idx="minor"/>
        </p:style>
        <p:txBody>
          <a:bodyPr anchor="t">
            <a:spAutoFit/>
          </a:bodyPr>
          <a:p>
            <a:pPr algn="ctr">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a:ea typeface="Times New Roman"/>
              </a:rPr>
              <a:t>Gli interventi delle CCIAA a favore dei Confidi e la possibile evoluzione del sistema delle garanzie</a:t>
            </a:r>
            <a:endParaRPr b="0" lang="en-US" sz="3200" spc="-1" strike="noStrike">
              <a:solidFill>
                <a:srgbClr val="000000"/>
              </a:solidFill>
              <a:latin typeface="Arial"/>
            </a:endParaRPr>
          </a:p>
        </p:txBody>
      </p:sp>
      <p:grpSp>
        <p:nvGrpSpPr>
          <p:cNvPr id="87" name="Group 5"/>
          <p:cNvGrpSpPr/>
          <p:nvPr/>
        </p:nvGrpSpPr>
        <p:grpSpPr>
          <a:xfrm>
            <a:off x="1808280" y="1828800"/>
            <a:ext cx="7054560" cy="1676160"/>
            <a:chOff x="1808280" y="1828800"/>
            <a:chExt cx="7054560" cy="1676160"/>
          </a:xfrm>
        </p:grpSpPr>
        <p:sp>
          <p:nvSpPr>
            <p:cNvPr id="88" name="Line 6"/>
            <p:cNvSpPr/>
            <p:nvPr/>
          </p:nvSpPr>
          <p:spPr>
            <a:xfrm>
              <a:off x="1808280" y="1828800"/>
              <a:ext cx="7054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Line 7"/>
            <p:cNvSpPr/>
            <p:nvPr/>
          </p:nvSpPr>
          <p:spPr>
            <a:xfrm>
              <a:off x="1808280" y="3504960"/>
              <a:ext cx="70545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90" name="Text Box 8"/>
          <p:cNvSpPr/>
          <p:nvPr/>
        </p:nvSpPr>
        <p:spPr>
          <a:xfrm>
            <a:off x="1600200" y="5791320"/>
            <a:ext cx="7467480" cy="1068840"/>
          </a:xfrm>
          <a:prstGeom prst="rect">
            <a:avLst/>
          </a:prstGeom>
          <a:gradFill rotWithShape="0">
            <a:gsLst>
              <a:gs pos="0">
                <a:srgbClr val="00ccff"/>
              </a:gs>
              <a:gs pos="50000">
                <a:srgbClr val="ffffff"/>
              </a:gs>
              <a:gs pos="100000">
                <a:srgbClr val="00ccff"/>
              </a:gs>
            </a:gsLst>
            <a:lin ang="2700000"/>
          </a:gradFill>
          <a:ln w="9360">
            <a:solidFill>
              <a:srgbClr val="00cc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Massimiliano Gilard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Consorzio Camerale per il Credito e la Finanz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Milano, 15 Luglio 2008</a:t>
            </a:r>
            <a:endParaRPr b="0" lang="en-US" sz="1600" spc="-1" strike="noStrike">
              <a:solidFill>
                <a:srgbClr val="000000"/>
              </a:solidFill>
              <a:latin typeface="Arial"/>
            </a:endParaRPr>
          </a:p>
        </p:txBody>
      </p:sp>
      <p:graphicFrame>
        <p:nvGraphicFramePr>
          <p:cNvPr id="91" name="Object 10"/>
          <p:cNvGraphicFramePr/>
          <p:nvPr/>
        </p:nvGraphicFramePr>
        <p:xfrm>
          <a:off x="4648320" y="3809880"/>
          <a:ext cx="1371600" cy="1319400"/>
        </p:xfrm>
        <a:graphic>
          <a:graphicData uri="http://schemas.openxmlformats.org/presentationml/2006/ole">
            <p:oleObj r:id="rId1" spid="">
              <p:embed/>
              <p:pic>
                <p:nvPicPr>
                  <p:cNvPr id="92" name="Object 10" descr=""/>
                  <p:cNvPicPr/>
                  <p:nvPr/>
                </p:nvPicPr>
                <p:blipFill>
                  <a:blip r:embed="rId2"/>
                  <a:stretch/>
                </p:blipFill>
                <p:spPr>
                  <a:xfrm>
                    <a:off x="4648320" y="3809880"/>
                    <a:ext cx="1371600" cy="131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Gli interventi a favore dei Confidi (4)</a:t>
            </a:r>
            <a:endParaRPr b="1" i="1" lang="en-US" sz="3000" spc="-1" strike="noStrike">
              <a:solidFill>
                <a:srgbClr val="000000"/>
              </a:solidFill>
              <a:latin typeface="Arial"/>
            </a:endParaRPr>
          </a:p>
        </p:txBody>
      </p:sp>
      <p:sp>
        <p:nvSpPr>
          <p:cNvPr id="113" name="CasellaDiTesto 11"/>
          <p:cNvSpPr/>
          <p:nvPr/>
        </p:nvSpPr>
        <p:spPr>
          <a:xfrm>
            <a:off x="557280" y="1852560"/>
            <a:ext cx="9574200" cy="475740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cune Camere di commercio hanno predisposto appositi strumenti informativi per diffondere presso le imprese la conoscenza di questo strumento, presentandone e promuovendone i servizi. </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tre Camere di commercio hanno realizzato nel corso degli ultimi anni dei cicli di seminari a scopo informativo per illustrare gli effetti di Basilea 2 e per proporre gli strumenti a disposizione delle imprese per adeguare la propria struttura finanziaria alle nuove procedure di rating. In tale ottica, ovviamente, sono stati illustrati i servizi che i confidi possono offrire alle imprese e le procedure da seguire per accedervi</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no state inoltre promosse iniziative di formazione e informazione non “sui” confidi ma “per” il personale dei confidi (e di altri enti territoriali), per illustrare gli effetti di Basilea 2 sulla concessione del credito e sull’utilizzo delle garanzie</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fine, alcune Camere anno avviato osservatori sul credito e la finanza per l’analisi, il  confronto e la proposta sulle problematiche creditizie e finanziarie interessanti il sistema locale</a:t>
            </a:r>
            <a:endParaRPr b="0" lang="en-US" sz="1800" spc="-1" strike="noStrike">
              <a:solidFill>
                <a:srgbClr val="000000"/>
              </a:solidFill>
              <a:latin typeface="Arial"/>
            </a:endParaRPr>
          </a:p>
        </p:txBody>
      </p:sp>
      <p:sp>
        <p:nvSpPr>
          <p:cNvPr id="114"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5"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ervizi di formazione e informazi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Il coinvolgimento dei Confidi nei progetti CCIAA</a:t>
            </a:r>
            <a:endParaRPr b="1" i="1" lang="en-US" sz="3000" spc="-1" strike="noStrike">
              <a:solidFill>
                <a:srgbClr val="000000"/>
              </a:solidFill>
              <a:latin typeface="Arial"/>
            </a:endParaRPr>
          </a:p>
        </p:txBody>
      </p:sp>
      <p:sp>
        <p:nvSpPr>
          <p:cNvPr id="117" name="CasellaDiTesto 11"/>
          <p:cNvSpPr/>
          <p:nvPr/>
        </p:nvSpPr>
        <p:spPr>
          <a:xfrm>
            <a:off x="557280" y="1924200"/>
            <a:ext cx="9574200" cy="503172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quasi totalità delle Camere di commercio afferma di aver coinvolto i confidi della propria provincia in specifiche iniziative di sostegno finanziario promosse a favore delle PMI e delle imprese artigiane locali. Nella maggior parte dei casi si tratta della concessione di contributi per favorire l’abbattimento dei tassi di interesse o di interventi di credito agevolato.</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lessivamente, i fondi stanziati ammontano a più di 9 milioni di euro, di cui più di 8 milioni destinati all’abbattimento dei tassi di interesse su finanziamenti garantiti dai confidi, il resto sono invece destinati ad altre iniziative, quali operazioni di patrimonializzazione e ristrutturazione del debito, </a:t>
            </a:r>
            <a:r>
              <a:rPr b="0" lang="en-GB" sz="1800" spc="-1" strike="noStrike">
                <a:solidFill>
                  <a:srgbClr val="000000"/>
                </a:solidFill>
                <a:latin typeface="Arial"/>
              </a:rPr>
              <a:t>check</a:t>
            </a:r>
            <a:r>
              <a:rPr b="0" lang="it-IT" sz="1800" spc="-1" strike="noStrike">
                <a:solidFill>
                  <a:srgbClr val="000000"/>
                </a:solidFill>
                <a:latin typeface="Arial"/>
              </a:rPr>
              <a:t> up aziendali e progetti di definizione dei rating</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sso tali progetti sono stati attivati in collaborazione con gli enti locali (Provincia, Regione)</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19"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tributi camerali alle imprese per l’abbattimento dei tassi di interes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Il coinvolgimento dei Confidi nei progetti CCIAA (2)</a:t>
            </a:r>
            <a:endParaRPr b="1" i="1" lang="en-US" sz="3000" spc="-1" strike="noStrike">
              <a:solidFill>
                <a:srgbClr val="000000"/>
              </a:solidFill>
              <a:latin typeface="Arial"/>
            </a:endParaRPr>
          </a:p>
        </p:txBody>
      </p:sp>
      <p:sp>
        <p:nvSpPr>
          <p:cNvPr id="121"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2"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chema contributi camerali alle imprese per l’abbattimento dei tassi di interesse</a:t>
            </a:r>
            <a:endParaRPr b="0" lang="en-US" sz="1800" spc="-1" strike="noStrike">
              <a:solidFill>
                <a:srgbClr val="000000"/>
              </a:solidFill>
              <a:latin typeface="Arial"/>
            </a:endParaRPr>
          </a:p>
        </p:txBody>
      </p:sp>
      <p:graphicFrame>
        <p:nvGraphicFramePr>
          <p:cNvPr id="123" name=""/>
          <p:cNvGraphicFramePr/>
          <p:nvPr/>
        </p:nvGraphicFramePr>
        <p:xfrm>
          <a:off x="557280" y="1852560"/>
          <a:ext cx="9717120" cy="4908600"/>
        </p:xfrm>
        <a:graphic>
          <a:graphicData uri="http://schemas.openxmlformats.org/drawingml/2006/table">
            <a:tbl>
              <a:tblPr/>
              <a:tblGrid>
                <a:gridCol w="836640"/>
                <a:gridCol w="6308640"/>
                <a:gridCol w="785880"/>
                <a:gridCol w="1017360"/>
                <a:gridCol w="768600"/>
              </a:tblGrid>
              <a:tr h="274680">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Calibri"/>
                          <a:ea typeface="Times New Roman"/>
                        </a:rPr>
                        <a:t>Camera di commercio</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imes New Roman"/>
                          <a:ea typeface="Times New Roman"/>
                        </a:rPr>
                        <a:t>Intervento</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imes New Roman"/>
                          <a:ea typeface="Times New Roman"/>
                        </a:rPr>
                        <a:t>Anno</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imes New Roman"/>
                          <a:ea typeface="Times New Roman"/>
                        </a:rPr>
                        <a:t>Ammontare stanziato</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Calibri"/>
                          <a:ea typeface="Times New Roman"/>
                        </a:rPr>
                        <a:t>Ammontare utilizzato</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r>
              <a:tr h="137520">
                <a:tc rowSpan="2">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Bergamo</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Intervento per l’abbattimento dei tassi di interesse su prestiti a imprese industriali</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005</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100.000</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r>
              <a:tr h="1375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280" rIns="26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Intervento per l’abbattimento dei tassi di interesse su prestiti a imprese agricole </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005</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100.000</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r>
              <a:tr h="411840">
                <a:tc rowSpan="2">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Brescia</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Interventi contributivi per abbattimento tasso d’interesse - su finanziamenti garantiti dai Confidi  - tramite bandi di concorso a favore del settore artigiano (€  899.000), turismo (€ 200.000,00), commercio e servizi (€ 300.000,00), industria (€ 100.000,00), oltre a c/interesse per carenza di liquidità (€ 126.000,00)</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006</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1.625.000</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1.625.000</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r>
              <a:tr h="4118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280" rIns="26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Interventi contributivi per abbattimento tasso d’interesse - su finanziamenti garantiti dai Confidi - tramite bandi di concorso a favore del settore artigiano (€  898.788,00), commercio turismo e servizi (€ 450.000,00), industria (€ 100.000,00), c/interessi per carenza di liquidità (€ 280.000,00), c/interessi settore agricoltura (€ 20.000,00)</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005</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1.748.788</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1.748.788</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r>
              <a:tr h="137520">
                <a:tc rowSpan="2">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remona</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Abbattimento tassi</a:t>
                      </a:r>
                      <a:endParaRPr b="0" lang="en-US" sz="900" spc="-1" strike="noStrike">
                        <a:solidFill>
                          <a:srgbClr val="000000"/>
                        </a:solidFill>
                        <a:latin typeface="Arial"/>
                      </a:endParaRPr>
                    </a:p>
                  </a:txBody>
                  <a:tcPr anchor="t"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006</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46.371</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44.204</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r>
              <a:tr h="1375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280" rIns="26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Abbattimento tassi</a:t>
                      </a:r>
                      <a:endParaRPr b="0" lang="en-US" sz="900" spc="-1" strike="noStrike">
                        <a:solidFill>
                          <a:srgbClr val="000000"/>
                        </a:solidFill>
                        <a:latin typeface="Arial"/>
                      </a:endParaRPr>
                    </a:p>
                  </a:txBody>
                  <a:tcPr anchor="t"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005</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51.503</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51.503</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r>
              <a:tr h="137520">
                <a:tc rowSpan="2">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Lodi</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Abbattimento tassi</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006</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500.000</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In corso</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r>
              <a:tr h="1375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280" rIns="26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Abbattimento tassi</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005</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500.000</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417.196</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r>
              <a:tr h="137520">
                <a:tc rowSpan="2">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Mantova</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Abbattimento tassi</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006</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500.000</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79.954</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r>
              <a:tr h="1375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280" rIns="26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Abbattimento tassi</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005</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500.000</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412.368</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r>
              <a:tr h="274680">
                <a:tc rowSpan="2">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Milano</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Iniziativa a sostegno delle PMI della provincia di Milano: Realizzazione dei programmi di investimento – Contributi in conto abbattimento tassi - D.G. n. 9 del 23.01.2006</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006</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700.000</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280" rIns="26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Iniziativa a sostegno delle PMI. Realizzazione di operazioni di patrimonializzazione - Contributi in conto abbattimento tassi - D.G. n. 9 del 23.01.2006</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006</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600.000</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r>
              <a:tr h="137520">
                <a:tc rowSpan="2">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Sondrio</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ontributi in conto abbattimento tassi di interesse per le imprese (nell’ambito di un’iniziativa realizzata con la Provincia di Sondrio)</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005</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188.500</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r>
              <a:tr h="3031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280" rIns="26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Piano quinquennale per l’abbattimento tassi (in partnership con la Provincia)</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006</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700.000 (distribuiti su  5 anni)</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r>
              <a:tr h="549000">
                <a:tc rowSpan="3">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Varese</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a:noFill/>
                    </a:lnB>
                    <a:noFill/>
                  </a:tcPr>
                </a:tc>
                <a:tc>
                  <a:txBody>
                    <a:bodyPr lIns="26280" rIns="26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Interventi di credito agevolato per i settori artigianato, commercio, industria (deliberazione Giunta camerale n. 4 del 26.01.2006, integrata con deliberazione n. 48 del 03.04.2006) per l’abbattimento dei tassi di interesse</a:t>
                      </a:r>
                      <a:endParaRPr b="0" lang="en-US" sz="900" spc="-1" strike="noStrike">
                        <a:solidFill>
                          <a:srgbClr val="000000"/>
                        </a:solidFill>
                        <a:latin typeface="Arial"/>
                      </a:endParaRPr>
                    </a:p>
                  </a:txBody>
                  <a:tcPr anchor="t"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006</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650.000 </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07.794</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ontributo singolo: da 150 a 4.725</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280" rIns="26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Interventi di credito agevolato per il comparto agricolo (deliberazione Giunta camerale n. 153 del 16.12.2004, integrata con deliberazione n. 4 del 26.01.2006) per l’abbattimento dei tassi di interesse</a:t>
                      </a:r>
                      <a:endParaRPr b="0" lang="en-US" sz="900" spc="-1" strike="noStrike">
                        <a:solidFill>
                          <a:srgbClr val="000000"/>
                        </a:solidFill>
                        <a:latin typeface="Arial"/>
                      </a:endParaRPr>
                    </a:p>
                  </a:txBody>
                  <a:tcPr anchor="t"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005/2006</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 </a:t>
                      </a:r>
                      <a:r>
                        <a:rPr b="0" lang="it-IT" sz="900" spc="-1" strike="noStrike">
                          <a:solidFill>
                            <a:srgbClr val="000000"/>
                          </a:solidFill>
                          <a:latin typeface="Times New Roman"/>
                          <a:ea typeface="Times New Roman"/>
                        </a:rPr>
                        <a:t>40.000</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 </a:t>
                      </a:r>
                      <a:r>
                        <a:rPr b="0" lang="it-IT" sz="900" spc="-1" strike="noStrike">
                          <a:solidFill>
                            <a:srgbClr val="000000"/>
                          </a:solidFill>
                          <a:latin typeface="Times New Roman"/>
                          <a:ea typeface="Times New Roman"/>
                        </a:rPr>
                        <a:t>6.750 Contributo singolo: da € 150 a € 1.200</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r>
              <a:tr h="601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280" rIns="26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Interventi di credito agevolato finalizzati a operazioni di patrimonializzazione aziendale/ristrutturazione del debito (deliberazione Giunta camerale n. 160 del 16.12.2004) per l’abbattimento dei tassi di interesse</a:t>
                      </a:r>
                      <a:endParaRPr b="0" lang="en-US" sz="900" spc="-1" strike="noStrike">
                        <a:solidFill>
                          <a:srgbClr val="000000"/>
                        </a:solidFill>
                        <a:latin typeface="Arial"/>
                      </a:endParaRPr>
                    </a:p>
                  </a:txBody>
                  <a:tcPr anchor="t"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005</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omplessivo:  200.00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Contributo singolo: fino a 12.000</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c>
                  <a:txBody>
                    <a:bodyPr lIns="26280" rIns="26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imes New Roman"/>
                          <a:ea typeface="Times New Roman"/>
                        </a:rPr>
                        <a:t>200.000 </a:t>
                      </a:r>
                      <a:endParaRPr b="0" lang="en-US" sz="900" spc="-1" strike="noStrike">
                        <a:solidFill>
                          <a:srgbClr val="000000"/>
                        </a:solidFill>
                        <a:latin typeface="Arial"/>
                      </a:endParaRPr>
                    </a:p>
                  </a:txBody>
                  <a:tcPr anchor="ctr" marL="26280" marR="26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4" name="Connettore 1 14"/>
          <p:cNvSpPr/>
          <p:nvPr/>
        </p:nvSpPr>
        <p:spPr>
          <a:xfrm flipH="1" flipV="1">
            <a:off x="556920" y="6780240"/>
            <a:ext cx="857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Il coinvolgimento dei Confidi nei progetti CCIAA (3)</a:t>
            </a:r>
            <a:endParaRPr b="1" i="1" lang="en-US" sz="3000" spc="-1" strike="noStrike">
              <a:solidFill>
                <a:srgbClr val="000000"/>
              </a:solidFill>
              <a:latin typeface="Arial"/>
            </a:endParaRPr>
          </a:p>
        </p:txBody>
      </p:sp>
      <p:sp>
        <p:nvSpPr>
          <p:cNvPr id="126" name="CasellaDiTesto 11"/>
          <p:cNvSpPr/>
          <p:nvPr/>
        </p:nvSpPr>
        <p:spPr>
          <a:xfrm>
            <a:off x="557280" y="1852560"/>
            <a:ext cx="9574200" cy="393444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tratta di interventi per la patrimonializzazione e consolidamento del debito – tramite operazioni di aumento di capitale, conferimento soci e di passaggio dall’indaibtamento a breve termine a quello a medio e lungo –e contributi per la realizzazione di check up aziendali finalizzati a migliorare l’assetto finanziario delle imprese. </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intende favorire da un lato una maggiore solidità patrimoniale delle imprese e dall’altro la diffusione, presso le imprese, di una migliore cultura finanziaria basata anche sull’utilizzo sistematico di strumenti di pianificazione e analisi</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utte le iniziative sono finalizzate a favorire un adeguamento e un irrobustimento della struttura finanziaria delle PMI, spesso caratterizzate da una sottocapitalizzazione che incide in misura rilevante sulla posizione ai fini della valutazione del merito del credito bancario</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8"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getti di accompagnamento a Basilea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a valutazione delle CCIAA sul ruolo dei Confidi</a:t>
            </a:r>
            <a:endParaRPr b="1" i="1" lang="en-US" sz="3000" spc="-1" strike="noStrike">
              <a:solidFill>
                <a:srgbClr val="000000"/>
              </a:solidFill>
              <a:latin typeface="Arial"/>
            </a:endParaRPr>
          </a:p>
        </p:txBody>
      </p:sp>
      <p:sp>
        <p:nvSpPr>
          <p:cNvPr id="130" name="CasellaDiTesto 11"/>
          <p:cNvSpPr/>
          <p:nvPr/>
        </p:nvSpPr>
        <p:spPr>
          <a:xfrm>
            <a:off x="557280" y="1395360"/>
            <a:ext cx="9574200" cy="530604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complesso, la valutazione delle Camere sull’efficacia dei servizi offerti dai confidi è positiva</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Camere mettono in risalto, in particolare, il ruolo di interfaccia tra domanda e offerta di credito, non solo dal punto di vista finanziario ma anche e soprattutto per il contributo garantito ai fini del superamento di quel gap informativo tra imprese e banche che spesso rappresenta un ostacolo nell’accesso al credito</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 questo punto di vista, la conoscenza approfondita (e la disponibilità di dati e informazioni dirette) che i confidi hanno delle imprese associate e il rapporto fiduciario che essi hanno sviluppato con il sistema bancario locale ha finora permesso di mitigare – al di là delle garanzie presentate – la valutazione del merito del credito delle aziende da parte del sistema creditizio</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cune criticità, tipiche peraltro del sistema finanziario italiano, si riflettono anche sull’efficacia dell’azione dei confidi, che non sembrano essere in grado di ovviare alle difficoltà che le imprese meno strutturate – start up, PMI operanti in settori di frontiera e quindi più rischiosi – incontrano nell’accedere ai capitali necessari per finanziare i propri piani di sviluppo industriale</a:t>
            </a:r>
            <a:endParaRPr b="0" lang="en-US" sz="1800" spc="-1" strike="noStrike">
              <a:solidFill>
                <a:srgbClr val="000000"/>
              </a:solidFill>
              <a:latin typeface="Arial"/>
            </a:endParaRPr>
          </a:p>
        </p:txBody>
      </p:sp>
      <p:sp>
        <p:nvSpPr>
          <p:cNvPr id="131"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a valutazione delle CCIAA sul ruolo dei Confidi (2)</a:t>
            </a:r>
            <a:endParaRPr b="1" i="1" lang="en-US" sz="3000" spc="-1" strike="noStrike">
              <a:solidFill>
                <a:srgbClr val="000000"/>
              </a:solidFill>
              <a:latin typeface="Arial"/>
            </a:endParaRPr>
          </a:p>
        </p:txBody>
      </p:sp>
      <p:sp>
        <p:nvSpPr>
          <p:cNvPr id="133" name="CasellaDiTesto 11"/>
          <p:cNvSpPr/>
          <p:nvPr/>
        </p:nvSpPr>
        <p:spPr>
          <a:xfrm>
            <a:off x="557280" y="1371600"/>
            <a:ext cx="9574200" cy="503172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ltra parte, in alcuni casi si evidenzia anche l’eccessiva onerosità dell’accesso ai servizi offerti dai confidi. In questo caso, entrano probabilmente in gioco alcuni limiti organizzativi che caratterizzano parte del sistema e che finiscono per riflettersi sul “costo” del servizio che essi possono offrire alle imprese. </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osto delle garanzie, con Basilea 2, diventerà centrale ai fini della decisione delle imprese di rivolgersi o meno ai confidi</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Basilea 1, la ponderazione del rischio era pari al 100% qualunque fosse il merito del credito delle imprese prenditrici ed il ricorso alle garanzie dei confidi comportava, in qualunque caso, un miglioramento delle condizioni di accesso al credito che rendeva conveniente far ricorso alle garanzie offerte dai confidi</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Basilea 2 la situazione cambia: il costo del finanziamento concesso dalle banche dipende dal merito creditizio delle imprese. Nel momento in cui esse decideranno di accedere alle garanzie offerte dal confidi, dovranno valutare se il miglioramento ottenibile in termini di costo del finanziamento giustifichi  o meno i costi sostenuti per ottenere la garanzia</a:t>
            </a:r>
            <a:endParaRPr b="0" lang="en-US" sz="1800" spc="-1" strike="noStrike">
              <a:solidFill>
                <a:srgbClr val="000000"/>
              </a:solidFill>
              <a:latin typeface="Arial"/>
            </a:endParaRPr>
          </a:p>
        </p:txBody>
      </p:sp>
      <p:sp>
        <p:nvSpPr>
          <p:cNvPr id="134"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a valutazione delle CCIAA sul ruolo dei Confidi (3)</a:t>
            </a:r>
            <a:endParaRPr b="1" i="1" lang="en-US" sz="3000" spc="-1" strike="noStrike">
              <a:solidFill>
                <a:srgbClr val="000000"/>
              </a:solidFill>
              <a:latin typeface="Arial"/>
            </a:endParaRPr>
          </a:p>
        </p:txBody>
      </p:sp>
      <p:sp>
        <p:nvSpPr>
          <p:cNvPr id="136" name="CasellaDiTesto 11"/>
          <p:cNvSpPr/>
          <p:nvPr/>
        </p:nvSpPr>
        <p:spPr>
          <a:xfrm>
            <a:off x="557280" y="1371600"/>
            <a:ext cx="9574200" cy="420876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presenza sul territorio di confidi che operano in una logica avulsa dal “mutualismo” tipico del sistema e improntata al “mercato” potrebbe mettere in difficoltà quei soggetti che non siano in grado di garantire l’efficienza gestionale e il conseguente abbattimento dei costi e un miglioramento sostanziale del merito del credito delle imprese.</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silea 2 e l’apertura del mercato delle garanzie a soggetti “nuovi” incidono – più o meno in profondità – sulla realtà dei confidi lombardi</a:t>
            </a:r>
            <a:endParaRPr b="0" lang="en-US" sz="1800" spc="-1" strike="noStrike">
              <a:solidFill>
                <a:srgbClr val="000000"/>
              </a:solidFill>
              <a:latin typeface="Arial"/>
            </a:endParaRPr>
          </a:p>
          <a:p>
            <a:pPr marL="363600" indent="-363600">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corso degli ultimi anni, sono nate e si sono sviluppate realtà (si pensi a Eurofidi e  Unionfidi in Piemonte o a Neafidi in Veneto o ancora a FidiToscana) che si caratterizzano per una mission e una operatività non più ancorate a un substrato associativo o mutualistico tradizionale ma orientate a logiche di mercato</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uolo della garanzia cambia ed è integrato con servizi specialistici ad alto valore aggiunto che erodono il “mercato” di riferimento dei confidi tradizionali</a:t>
            </a:r>
            <a:endParaRPr b="0" lang="en-US" sz="1800" spc="-1" strike="noStrike">
              <a:solidFill>
                <a:srgbClr val="000000"/>
              </a:solidFill>
              <a:latin typeface="Arial"/>
            </a:endParaRPr>
          </a:p>
        </p:txBody>
      </p:sp>
      <p:sp>
        <p:nvSpPr>
          <p:cNvPr id="137"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a valutazione delle CCIAA sul ruolo dei Confidi (4)</a:t>
            </a:r>
            <a:endParaRPr b="1" i="1" lang="en-US" sz="3000" spc="-1" strike="noStrike">
              <a:solidFill>
                <a:srgbClr val="000000"/>
              </a:solidFill>
              <a:latin typeface="Arial"/>
            </a:endParaRPr>
          </a:p>
        </p:txBody>
      </p:sp>
      <p:sp>
        <p:nvSpPr>
          <p:cNvPr id="139" name="CasellaDiTesto 11"/>
          <p:cNvSpPr/>
          <p:nvPr/>
        </p:nvSpPr>
        <p:spPr>
          <a:xfrm>
            <a:off x="557280" y="1781280"/>
            <a:ext cx="9574200" cy="393444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Camere hanno rilevato l’avvio, seppur a rilento, di processi di aggregazione, generalmente basati sulla fusione di entità minori in soggetti di dimensioni tali da garantire la massa critica necessaria per ambire all’iscrizione nell’elenco previsto dall’art. 107 del TUB. In alcuni casi, i confidi sembrano concentrarsi anche sulla diversificazione  della propria offerta di servizi per coprire un maggior spettro di attività</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rocessi di adeguamento del sistema hanno avuto un’accelerazione con l’entrata in vigore dal 1° gennaio 2008 di Basilea 2 e col completamento del quadro normativo da parte di Banca d’Italia nel corso di quest’anno, </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istema appare comunque ancora molto frammentato e sempre più polarizzato tra Confidi che hanno i numeri ed ambiscono al passaggio a 107 ed i Confidi 106 che rischiano di non essere in grado di far fronte al mutato contesto operativo</a:t>
            </a:r>
            <a:endParaRPr b="0" lang="en-US" sz="1800" spc="-1" strike="noStrike">
              <a:solidFill>
                <a:srgbClr val="000000"/>
              </a:solidFill>
              <a:latin typeface="Arial"/>
            </a:endParaRPr>
          </a:p>
          <a:p>
            <a:pPr marL="363600" indent="-363600">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40"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1"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 prospet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a valutazione delle CCIAA sul ruolo dei Confidi (5)</a:t>
            </a:r>
            <a:endParaRPr b="1" i="1" lang="en-US" sz="3000" spc="-1" strike="noStrike">
              <a:solidFill>
                <a:srgbClr val="000000"/>
              </a:solidFill>
              <a:latin typeface="Arial"/>
            </a:endParaRPr>
          </a:p>
        </p:txBody>
      </p:sp>
      <p:sp>
        <p:nvSpPr>
          <p:cNvPr id="143" name="CasellaDiTesto 11"/>
          <p:cNvSpPr/>
          <p:nvPr/>
        </p:nvSpPr>
        <p:spPr>
          <a:xfrm>
            <a:off x="557280" y="1781280"/>
            <a:ext cx="9574200" cy="420876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ali sono le strategie di accompagnamento e di orientamento delle Camere di commercio indirizzate ai confidi operanti sul territorio?</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cune Camere affermano di aver implementato azioni in tal senso che rappresentano, per certi versi, tre diversi modelli di intervento con iniziative che mirano a:</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avorire e sostenere l’aggregazione dei confidi esistenti in organismi vigilati ai sensi dell’art. 107 del TUB</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centivare la diversificazione e l’affinamento degli strumenti e dei servizi alle imprese, per qualificare e potenziare  l’offerta dei confidi</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stenere i Confidi con azioni di formazione e informazione, per sensibilizzare i responsabili e i funzionari dei confidi sulle esigenze – ma anche sulle prospettive – aperte da Basilea 2</a:t>
            </a:r>
            <a:endParaRPr b="0" lang="en-US" sz="1800" spc="-1" strike="noStrike">
              <a:solidFill>
                <a:srgbClr val="000000"/>
              </a:solidFill>
              <a:latin typeface="Arial"/>
            </a:endParaRPr>
          </a:p>
        </p:txBody>
      </p:sp>
      <p:sp>
        <p:nvSpPr>
          <p:cNvPr id="144"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45"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 strategie camerali di accompagnamento dei confid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e possibili linee evolutive del sistema Confidi</a:t>
            </a:r>
            <a:endParaRPr b="1" i="1" lang="en-US" sz="3000" spc="-1" strike="noStrike">
              <a:solidFill>
                <a:srgbClr val="000000"/>
              </a:solidFill>
              <a:latin typeface="Arial"/>
            </a:endParaRPr>
          </a:p>
        </p:txBody>
      </p:sp>
      <p:sp>
        <p:nvSpPr>
          <p:cNvPr id="147" name="CasellaDiTesto 11"/>
          <p:cNvSpPr/>
          <p:nvPr/>
        </p:nvSpPr>
        <p:spPr>
          <a:xfrm>
            <a:off x="557280" y="1352520"/>
            <a:ext cx="9574200" cy="475740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effetti di Basilea 2, della Direttiva UE e della legge 326/2003 inducono i confidi a ripensare il proprio posizionamento strategico sul mercato delle garanzie e la propria struttura operativa e organizzativa</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diversi soggetti che, a vario titolo, operano sul territorio per sostenere lo sviluppo del tessuto produttivo lombardo hanno avviato da tempo una riflessione sulle possibili soluzioni da adottare per favorire, supportare o indirizzare l’evoluzione del sistema dei confidi. Ciò al fine di rendere più rapido l’adeguamento strutturale al nuovo contesto normativo e di mercato e di garantire una maggior efficienza ed efficacia a tutto il sistema</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corso degli ultimi tempi sono state presentate o ipotizzate soluzioni diverse che hanno visto coinvolti la Regione, le Camere di commercio  e i confidi più dinamici</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Premessa</a:t>
            </a:r>
            <a:endParaRPr b="1" i="1" lang="en-US" sz="3000" spc="-1" strike="noStrike">
              <a:solidFill>
                <a:srgbClr val="000000"/>
              </a:solidFill>
              <a:latin typeface="Arial"/>
            </a:endParaRPr>
          </a:p>
        </p:txBody>
      </p:sp>
      <p:sp>
        <p:nvSpPr>
          <p:cNvPr id="94" name="CasellaDiTesto 11"/>
          <p:cNvSpPr/>
          <p:nvPr/>
        </p:nvSpPr>
        <p:spPr>
          <a:xfrm>
            <a:off x="557280" y="1424160"/>
            <a:ext cx="9574200" cy="475740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anto riportato nella presentazione odierna è estratto da un lavoro di ricerca sui Confidi lombardi realizzato dal Consorzio Camerale per il Credito e la Finanza per conto di Unioncamere Lombardia dal titolo “Il sistema dei Confidi lombardi e il ruolo delle Camere di Commercio nel sostegno alle imprese” realizzato nel novembre 2006</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stato chiesto alle Camere di commercio lombarde di indicare il tipo di rapporto esistente con i confidi del proprio territorio, da un punto di vista operativo  e finanziario, e di tratteggiare le politiche per accompagnare i confidi</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tratta di un primo tentativo di sistematizzazione degli  interventi camerali, suscettibile di imprecisioni, per certi versi inevitabili, in una fase in cui si sommano interventi e iniziative di varia natura che vedono coinvolti, direttamente o indirettamente, i confidi del territorio</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tratta di una fotografia che, in quanto non recentissima, rappresenta un quadro che ora è sicuramente mutato, ma che comunque mantiene il suo valore in quanto costituisce la prima volta in cui si sono messe a confronto le esperienze del sistema camerale lombardo per quanto riguarda il tema della garanz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e possibili linee evolutive del sistema Confidi (2)</a:t>
            </a:r>
            <a:endParaRPr b="1" i="1" lang="en-US" sz="3000" spc="-1" strike="noStrike">
              <a:solidFill>
                <a:srgbClr val="000000"/>
              </a:solidFill>
              <a:latin typeface="Arial"/>
            </a:endParaRPr>
          </a:p>
        </p:txBody>
      </p:sp>
      <p:sp>
        <p:nvSpPr>
          <p:cNvPr id="150" name="CasellaDiTesto 11"/>
          <p:cNvSpPr/>
          <p:nvPr/>
        </p:nvSpPr>
        <p:spPr>
          <a:xfrm>
            <a:off x="628560" y="1852560"/>
            <a:ext cx="9574200" cy="475740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do di garanzia, alimentato dalla Regione con una specifica voce di bilancio. Funzione di concedere garanzie alle imprese in  co-garanzia con i confidi o concedendo contro-garanzie. </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garanzie rilasciate assumerebbero il rating attribuito al soggetto gestore del fondo (sempre che questi rilasci una garanzia personale illimitata a favore del fondo). La ponderazione del capitale da sottoporre a vigilanza sarebbe pari al 20% (in quanto la garanzia è rilasciata da ente – il soggetto controllato dalla Regione – del settore pubblico)</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i confidi co-garanti spetterebbe di fatto un intervento sussidiario nella copertura del rischio di insolvenza</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ndo sia a livello territoriale sia a livello settoriale, si opera la diversificazione  – e riduzione  – del rischio</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riticità: il rischio di alterare il mercato delle garanzie, con l’intervento di un soggetto pubblico mosso da obiettivi e con disponibilità ben diversi rispetto agli altri confidi.</a:t>
            </a:r>
            <a:endParaRPr b="0" lang="en-US" sz="1800" spc="-1" strike="noStrike">
              <a:solidFill>
                <a:srgbClr val="000000"/>
              </a:solidFill>
              <a:latin typeface="Arial"/>
            </a:endParaRPr>
          </a:p>
        </p:txBody>
      </p:sp>
      <p:sp>
        <p:nvSpPr>
          <p:cNvPr id="151"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2"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l ruolo della Regi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e possibili linee evolutive del sistema Confidi (3)</a:t>
            </a:r>
            <a:endParaRPr b="1" i="1" lang="en-US" sz="3000" spc="-1" strike="noStrike">
              <a:solidFill>
                <a:srgbClr val="000000"/>
              </a:solidFill>
              <a:latin typeface="Arial"/>
            </a:endParaRPr>
          </a:p>
        </p:txBody>
      </p:sp>
      <p:sp>
        <p:nvSpPr>
          <p:cNvPr id="154"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5"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chema di sintesi dell’operatività di un fondo di garanzia regionale</a:t>
            </a:r>
            <a:endParaRPr b="0" lang="en-US" sz="1800" spc="-1" strike="noStrike">
              <a:solidFill>
                <a:srgbClr val="000000"/>
              </a:solidFill>
              <a:latin typeface="Arial"/>
            </a:endParaRPr>
          </a:p>
        </p:txBody>
      </p:sp>
      <p:grpSp>
        <p:nvGrpSpPr>
          <p:cNvPr id="156" name="Group 17"/>
          <p:cNvGrpSpPr/>
          <p:nvPr/>
        </p:nvGrpSpPr>
        <p:grpSpPr>
          <a:xfrm>
            <a:off x="853920" y="1890720"/>
            <a:ext cx="9062640" cy="4605120"/>
            <a:chOff x="853920" y="1890720"/>
            <a:chExt cx="9062640" cy="4605120"/>
          </a:xfrm>
        </p:grpSpPr>
        <p:sp>
          <p:nvSpPr>
            <p:cNvPr id="157" name="AutoShape 8"/>
            <p:cNvSpPr/>
            <p:nvPr/>
          </p:nvSpPr>
          <p:spPr>
            <a:xfrm>
              <a:off x="853920" y="1890720"/>
              <a:ext cx="1446480" cy="4420440"/>
            </a:xfrm>
            <a:custGeom>
              <a:avLst/>
              <a:gdLst>
                <a:gd name="textAreaLeft" fmla="*/ 70560 w 1446480"/>
                <a:gd name="textAreaRight" fmla="*/ 1375920 w 1446480"/>
                <a:gd name="textAreaTop" fmla="*/ 70560 h 4420440"/>
                <a:gd name="textAreaBottom" fmla="*/ 4349880 h 4420440"/>
              </a:gdLst>
              <a:ahLst/>
              <a:rect l="textAreaLeft" t="textAreaTop" r="textAreaRight" b="textAreaBottom"/>
              <a:pathLst>
                <a:path w="21600" h="65999">
                  <a:moveTo>
                    <a:pt x="3600" y="0"/>
                  </a:moveTo>
                  <a:arcTo wR="3600" hR="3600" stAng="16200000" swAng="-5400000"/>
                  <a:lnTo>
                    <a:pt x="0" y="62399"/>
                  </a:lnTo>
                  <a:arcTo wR="3600" hR="3600" stAng="10800000" swAng="-5400000"/>
                  <a:lnTo>
                    <a:pt x="18000" y="65999"/>
                  </a:lnTo>
                  <a:arcTo wR="3600" hR="3600" stAng="5400000" swAng="-5400000"/>
                  <a:lnTo>
                    <a:pt x="21600" y="3600"/>
                  </a:lnTo>
                  <a:arcTo wR="3600" hR="3600" stAng="0" swAng="-5400000"/>
                  <a:close/>
                </a:path>
              </a:pathLst>
            </a:custGeom>
            <a:solidFill>
              <a:srgbClr val="ffcc00"/>
            </a:solidFill>
            <a:ln w="9360">
              <a:solidFill>
                <a:srgbClr val="ffcc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Fondo di garanzia regiona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gestito da una </a:t>
              </a:r>
              <a:r>
                <a:rPr b="1" lang="it-IT" sz="1000" spc="-1" strike="noStrike">
                  <a:solidFill>
                    <a:srgbClr val="000000"/>
                  </a:solidFill>
                  <a:latin typeface="Arial"/>
                </a:rPr>
                <a:t>finanziaria</a:t>
              </a:r>
              <a:r>
                <a:rPr b="1" lang="it-IT" sz="1200" spc="-1" strike="noStrike">
                  <a:solidFill>
                    <a:srgbClr val="000000"/>
                  </a:solidFill>
                  <a:latin typeface="Arial"/>
                </a:rPr>
                <a:t>)</a:t>
              </a:r>
              <a:endParaRPr b="0" lang="en-US" sz="1200" spc="-1" strike="noStrike">
                <a:solidFill>
                  <a:srgbClr val="000000"/>
                </a:solidFill>
                <a:latin typeface="Arial"/>
              </a:endParaRPr>
            </a:p>
          </p:txBody>
        </p:sp>
        <p:sp>
          <p:nvSpPr>
            <p:cNvPr id="158" name="AutoShape 9"/>
            <p:cNvSpPr/>
            <p:nvPr/>
          </p:nvSpPr>
          <p:spPr>
            <a:xfrm>
              <a:off x="8468280" y="1890720"/>
              <a:ext cx="1448280" cy="4605120"/>
            </a:xfrm>
            <a:custGeom>
              <a:avLst/>
              <a:gdLst>
                <a:gd name="textAreaLeft" fmla="*/ 70560 w 1448280"/>
                <a:gd name="textAreaRight" fmla="*/ 1377720 w 1448280"/>
                <a:gd name="textAreaTop" fmla="*/ 70560 h 4605120"/>
                <a:gd name="textAreaBottom" fmla="*/ 4534560 h 4605120"/>
              </a:gdLst>
              <a:ahLst/>
              <a:rect l="textAreaLeft" t="textAreaTop" r="textAreaRight" b="textAreaBottom"/>
              <a:pathLst>
                <a:path w="21600" h="68670">
                  <a:moveTo>
                    <a:pt x="3600" y="0"/>
                  </a:moveTo>
                  <a:arcTo wR="3600" hR="3600" stAng="16200000" swAng="-5400000"/>
                  <a:lnTo>
                    <a:pt x="0" y="65070"/>
                  </a:lnTo>
                  <a:arcTo wR="3600" hR="3600" stAng="10800000" swAng="-5400000"/>
                  <a:lnTo>
                    <a:pt x="18000" y="68670"/>
                  </a:lnTo>
                  <a:arcTo wR="3600" hR="3600" stAng="5400000" swAng="-5400000"/>
                  <a:lnTo>
                    <a:pt x="21600" y="3600"/>
                  </a:lnTo>
                  <a:arcTo wR="3600" hR="3600" stAng="0" swAng="-5400000"/>
                  <a:close/>
                </a:path>
              </a:pathLst>
            </a:cu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istema bancario</a:t>
              </a:r>
              <a:endParaRPr b="0" lang="en-US" sz="1200" spc="-1" strike="noStrike">
                <a:solidFill>
                  <a:srgbClr val="000000"/>
                </a:solidFill>
                <a:latin typeface="Arial"/>
              </a:endParaRPr>
            </a:p>
          </p:txBody>
        </p:sp>
        <p:sp>
          <p:nvSpPr>
            <p:cNvPr id="159" name="AutoShape 10"/>
            <p:cNvSpPr/>
            <p:nvPr/>
          </p:nvSpPr>
          <p:spPr>
            <a:xfrm>
              <a:off x="2481480" y="1890720"/>
              <a:ext cx="5623920" cy="1289520"/>
            </a:xfrm>
            <a:prstGeom prst="pie">
              <a:avLst/>
            </a:prstGeom>
            <a:gradFill rotWithShape="0">
              <a:gsLst>
                <a:gs pos="0">
                  <a:srgbClr val="ffcc00"/>
                </a:gs>
                <a:gs pos="100000">
                  <a:srgbClr val="fff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Arial"/>
                </a:rPr>
                <a:t>Garanzie dirette </a:t>
              </a:r>
              <a:endParaRPr b="0" lang="en-US" sz="1000" spc="-1" strike="noStrike">
                <a:solidFill>
                  <a:srgbClr val="000000"/>
                </a:solidFill>
                <a:latin typeface="Arial"/>
              </a:endParaRPr>
            </a:p>
          </p:txBody>
        </p:sp>
        <p:sp>
          <p:nvSpPr>
            <p:cNvPr id="160" name="AutoShape 11"/>
            <p:cNvSpPr/>
            <p:nvPr/>
          </p:nvSpPr>
          <p:spPr>
            <a:xfrm>
              <a:off x="4840200" y="3364200"/>
              <a:ext cx="1814040" cy="1104840"/>
            </a:xfrm>
            <a:prstGeom prst="roundRect">
              <a:avLst>
                <a:gd name="adj" fmla="val 16667"/>
              </a:avLst>
            </a:prstGeom>
            <a:solidFill>
              <a:srgbClr val="00ff00"/>
            </a:solidFill>
            <a:ln w="93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fid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x art. 106</a:t>
              </a:r>
              <a:endParaRPr b="0" lang="en-US" sz="1200" spc="-1" strike="noStrike">
                <a:solidFill>
                  <a:srgbClr val="000000"/>
                </a:solidFill>
                <a:latin typeface="Arial"/>
              </a:endParaRPr>
            </a:p>
          </p:txBody>
        </p:sp>
        <p:sp>
          <p:nvSpPr>
            <p:cNvPr id="161" name="AutoShape 12"/>
            <p:cNvSpPr/>
            <p:nvPr/>
          </p:nvSpPr>
          <p:spPr>
            <a:xfrm>
              <a:off x="2481480" y="3361680"/>
              <a:ext cx="2176920" cy="1289520"/>
            </a:xfrm>
            <a:prstGeom prst="pie">
              <a:avLst/>
            </a:prstGeom>
            <a:gradFill rotWithShape="0">
              <a:gsLst>
                <a:gs pos="0">
                  <a:srgbClr val="ffcc00"/>
                </a:gs>
                <a:gs pos="100000">
                  <a:srgbClr val="00f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Arial"/>
                </a:rPr>
                <a:t>Co-garanzie </a:t>
              </a:r>
              <a:endParaRPr b="0" lang="en-US" sz="1000" spc="-1" strike="noStrike">
                <a:solidFill>
                  <a:srgbClr val="000000"/>
                </a:solidFill>
                <a:latin typeface="Arial"/>
              </a:endParaRPr>
            </a:p>
          </p:txBody>
        </p:sp>
        <p:sp>
          <p:nvSpPr>
            <p:cNvPr id="162" name="AutoShape 13"/>
            <p:cNvSpPr/>
            <p:nvPr/>
          </p:nvSpPr>
          <p:spPr>
            <a:xfrm>
              <a:off x="6835320" y="3364200"/>
              <a:ext cx="1451160" cy="1289520"/>
            </a:xfrm>
            <a:prstGeom prst="pie">
              <a:avLst/>
            </a:prstGeom>
            <a:gradFill rotWithShape="0">
              <a:gsLst>
                <a:gs pos="0">
                  <a:srgbClr val="00ff00"/>
                </a:gs>
                <a:gs pos="100000">
                  <a:srgbClr val="fff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AutoShape 14"/>
            <p:cNvSpPr/>
            <p:nvPr/>
          </p:nvSpPr>
          <p:spPr>
            <a:xfrm>
              <a:off x="4840200" y="4843080"/>
              <a:ext cx="1814040" cy="1104840"/>
            </a:xfrm>
            <a:prstGeom prst="roundRect">
              <a:avLst>
                <a:gd name="adj"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fid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ex art. 107</a:t>
              </a:r>
              <a:endParaRPr b="0" lang="en-US" sz="1200" spc="-1" strike="noStrike">
                <a:solidFill>
                  <a:srgbClr val="000000"/>
                </a:solidFill>
                <a:latin typeface="Arial"/>
              </a:endParaRPr>
            </a:p>
          </p:txBody>
        </p:sp>
        <p:sp>
          <p:nvSpPr>
            <p:cNvPr id="164" name="AutoShape 15"/>
            <p:cNvSpPr/>
            <p:nvPr/>
          </p:nvSpPr>
          <p:spPr>
            <a:xfrm>
              <a:off x="2481480" y="4837680"/>
              <a:ext cx="2176920" cy="1289520"/>
            </a:xfrm>
            <a:prstGeom prst="pie">
              <a:avLst/>
            </a:prstGeom>
            <a:gradFill rotWithShape="0">
              <a:gsLst>
                <a:gs pos="0">
                  <a:srgbClr val="ffcc00"/>
                </a:gs>
                <a:gs pos="100000">
                  <a:srgbClr val="cc99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Arial"/>
                </a:rPr>
                <a:t>Controgaranzie </a:t>
              </a:r>
              <a:endParaRPr b="0" lang="en-US" sz="1000" spc="-1" strike="noStrike">
                <a:solidFill>
                  <a:srgbClr val="000000"/>
                </a:solidFill>
                <a:latin typeface="Arial"/>
              </a:endParaRPr>
            </a:p>
          </p:txBody>
        </p:sp>
        <p:sp>
          <p:nvSpPr>
            <p:cNvPr id="165" name="AutoShape 16"/>
            <p:cNvSpPr/>
            <p:nvPr/>
          </p:nvSpPr>
          <p:spPr>
            <a:xfrm>
              <a:off x="6835320" y="4843080"/>
              <a:ext cx="1451160" cy="1289520"/>
            </a:xfrm>
            <a:prstGeom prst="pie">
              <a:avLst/>
            </a:prstGeom>
            <a:gradFill rotWithShape="0">
              <a:gsLst>
                <a:gs pos="0">
                  <a:srgbClr val="cc99ff"/>
                </a:gs>
                <a:gs pos="100000">
                  <a:srgbClr val="fff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e possibili linee evolutive del sistema Confidi (4)</a:t>
            </a:r>
            <a:endParaRPr b="1" i="1" lang="en-US" sz="3000" spc="-1" strike="noStrike">
              <a:solidFill>
                <a:srgbClr val="000000"/>
              </a:solidFill>
              <a:latin typeface="Arial"/>
            </a:endParaRPr>
          </a:p>
        </p:txBody>
      </p:sp>
      <p:sp>
        <p:nvSpPr>
          <p:cNvPr id="167"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68"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stituzione di un fondo di contro-garanzia regionale</a:t>
            </a:r>
            <a:endParaRPr b="0" lang="en-US" sz="1800" spc="-1" strike="noStrike">
              <a:solidFill>
                <a:srgbClr val="000000"/>
              </a:solidFill>
              <a:latin typeface="Arial"/>
            </a:endParaRPr>
          </a:p>
        </p:txBody>
      </p:sp>
      <p:sp>
        <p:nvSpPr>
          <p:cNvPr id="169" name="CasellaDiTesto 18"/>
          <p:cNvSpPr/>
          <p:nvPr/>
        </p:nvSpPr>
        <p:spPr>
          <a:xfrm>
            <a:off x="557280" y="1781280"/>
            <a:ext cx="9574200" cy="530604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do di contro-garanzia a sostegno dell’azione dei confidi sul territorio. Il rating della Regione andrebbe a “coprire” le operazioni garantite dal fondo e sostituirebbe di fatto il rating (o la PD equivalente) attribuito alle imprese. Le banche godrebbero, quindi, di un abbattimento del capitale di vigilanza per la quota garantita dal fondo</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egione dovrebbe assumere l’impegno di assicurare al fondo i mezzi necessari per onorare le garanzie eventualmente eccedenti la dotazione patrimoniale. In caso contrario, la garanzia verrebbe riconosciuta solo nei limiti di disponibilità del fondo e non sull’insieme delle garanzie prestate</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riticità: il valore del fondo e gli impegni potenziali, legati alla clausola di salvaguardia con cui la Regione si impegna a ricostituire il fondo in caso di incapienza, andrebbero  iscritti a bilancio e inciderebbero, quindi, sul rating della Regione. L’intervento della Regione potrebbe rappresentare un ostacolo al processo di razionalizzazione del sistema dei confidi che, disponendo della copertura della Regione ai fini del ripianamento di eventuali perdite, potrebbero essere indotti a dilazionare i tempi previsti per il proprio riposizionamento operativo e strategico</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e possibili linee evolutive del sistema Confidi (5)</a:t>
            </a:r>
            <a:endParaRPr b="1" i="1" lang="en-US" sz="3000" spc="-1" strike="noStrike">
              <a:solidFill>
                <a:srgbClr val="000000"/>
              </a:solidFill>
              <a:latin typeface="Arial"/>
            </a:endParaRPr>
          </a:p>
        </p:txBody>
      </p:sp>
      <p:sp>
        <p:nvSpPr>
          <p:cNvPr id="171"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2"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tro-garanzia prestata direttamente dalla Regione</a:t>
            </a:r>
            <a:endParaRPr b="0" lang="en-US" sz="1800" spc="-1" strike="noStrike">
              <a:solidFill>
                <a:srgbClr val="000000"/>
              </a:solidFill>
              <a:latin typeface="Arial"/>
            </a:endParaRPr>
          </a:p>
        </p:txBody>
      </p:sp>
      <p:sp>
        <p:nvSpPr>
          <p:cNvPr id="173" name="CasellaDiTesto 18"/>
          <p:cNvSpPr/>
          <p:nvPr/>
        </p:nvSpPr>
        <p:spPr>
          <a:xfrm>
            <a:off x="557280" y="1852560"/>
            <a:ext cx="9574200" cy="393444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egione agisce come contro-garante a favore dei confidi. </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questo caso, la quota del prestito garantita dal soggetto pubblico godrebbe di un abbattimento pari al 100% del capitale di vigilanza, mentre per la parte rimanente potrebbe esservi un abbattimento parziale nel caso in cui il confidi garante sia iscritto, in qualità di intermediario finanziario vigilato, nell’elenco ex art. 107</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riticità: il valore del fondo e gli impegni potenziali, legati alla clausola di salvaguardia con cui la Regione si impegna a ricostituire il fondo in caso di incapienza, andrebbero  iscritti a bilancio e inciderebbero, quindi, sul rating della Regione. L’intervento della Regione potrebbe rappresentare un ostacolo al processo di razionalizzazione del sistema dei confidi che, disponendo della copertura della Regione ai fini del ripianamento di eventuali perdite, potrebbero essere indotti a dilazionare i tempi previsti per il proprio riposizionamento operativo e strateg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e possibili linee evolutive del sistema Confidi (6)</a:t>
            </a:r>
            <a:endParaRPr b="1" i="1" lang="en-US" sz="3000" spc="-1" strike="noStrike">
              <a:solidFill>
                <a:srgbClr val="000000"/>
              </a:solidFill>
              <a:latin typeface="Arial"/>
            </a:endParaRPr>
          </a:p>
        </p:txBody>
      </p:sp>
      <p:sp>
        <p:nvSpPr>
          <p:cNvPr id="175"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76"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l ruolo del sistema camerale  -  ipotesi di aggregazione territoriale</a:t>
            </a:r>
            <a:endParaRPr b="0" lang="en-US" sz="1800" spc="-1" strike="noStrike">
              <a:solidFill>
                <a:srgbClr val="000000"/>
              </a:solidFill>
              <a:latin typeface="Arial"/>
            </a:endParaRPr>
          </a:p>
        </p:txBody>
      </p:sp>
      <p:sp>
        <p:nvSpPr>
          <p:cNvPr id="177" name="CasellaDiTesto 18"/>
          <p:cNvSpPr/>
          <p:nvPr/>
        </p:nvSpPr>
        <p:spPr>
          <a:xfrm>
            <a:off x="628560" y="1852560"/>
            <a:ext cx="9574200" cy="420876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seguito alcune delle ipotesi emerse che non esauriscono chiaramente le opzioni possibili</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cisione condivisa di più strutture di piccole dimensioni di aggregarsi per dare vita a un soggetto forte</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bilità di un processo di aggregazione attorno a confidi-leader presenti sul territorio, che per le dimensioni e la massa critica di cui già dispongono potrebbero svolgere una funzione di calamita sulle altre strutture. Potrebbe essere, ad esempio, il caso dei confidi che già dispongono o verranno a disporre nel prossimo futuro delle dimensioni utili (o vincolanti, secondo i punti di vista) per l’iscrizione all’elenco speciale ex art. 107 </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ggregazione territoriale con la costituzione di un unico confidi, multi-settoriale, in grado di aspirare con successo all’iscrizione nell’elenco previsto dall’art. 107 o alla trasformazione in banca di garanz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e possibili linee evolutive del sistema Confidi (7)</a:t>
            </a:r>
            <a:endParaRPr b="1" i="1" lang="en-US" sz="3000" spc="-1" strike="noStrike">
              <a:solidFill>
                <a:srgbClr val="000000"/>
              </a:solidFill>
              <a:latin typeface="Arial"/>
            </a:endParaRPr>
          </a:p>
        </p:txBody>
      </p:sp>
      <p:sp>
        <p:nvSpPr>
          <p:cNvPr id="179"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0"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l ruolo del sistema camerale  -  ipotesi di aggregazione territoriale (2)</a:t>
            </a:r>
            <a:endParaRPr b="0" lang="en-US" sz="1800" spc="-1" strike="noStrike">
              <a:solidFill>
                <a:srgbClr val="000000"/>
              </a:solidFill>
              <a:latin typeface="Arial"/>
            </a:endParaRPr>
          </a:p>
        </p:txBody>
      </p:sp>
      <p:sp>
        <p:nvSpPr>
          <p:cNvPr id="181" name="CasellaDiTesto 18"/>
          <p:cNvSpPr/>
          <p:nvPr/>
        </p:nvSpPr>
        <p:spPr>
          <a:xfrm>
            <a:off x="628560" y="1852560"/>
            <a:ext cx="9574200" cy="420876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bili vantaggi: </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ggior solidità patrimoniale, in grado di migliorare notevolmente la valutazione del confidi così costituito rispetto ai singoli confidi territoriali</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aggiungimento di una massa critica adeguata, con le relative economie di scala e di struttura, per cogliere le opportunità di sviluppo offerte dalla nuova normativa </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maggior capacità negoziale nei confronti del sistema bancario e pubblico e, potenzialmente, una maggior capacità di attrazione verso le imprese</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possibilità di unificare alcuni servizi strumentali, quali la predisposizione degli strumenti informatici e la definizione di procedure omogenee per la gestione delle pratiche</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possibilità di offrire un più ampio spettro di servizi alle imprese,  soprattutto di tipo consulenziale, grazie alla maggior disponibilità di risorse e professionalità</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prossimità geografica dei soggetti promotori, con la relativa condivisione del contesto economico, sociale e culturale di base</a:t>
            </a:r>
            <a:endParaRPr b="0" lang="en-US" sz="1800" spc="-1" strike="noStrike">
              <a:solidFill>
                <a:srgbClr val="000000"/>
              </a:solidFill>
              <a:latin typeface="Arial"/>
            </a:endParaRPr>
          </a:p>
          <a:p>
            <a:pPr marL="363600" indent="-363600">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e possibili linee evolutive del sistema Confidi (8)</a:t>
            </a:r>
            <a:endParaRPr b="1" i="1" lang="en-US" sz="3000" spc="-1" strike="noStrike">
              <a:solidFill>
                <a:srgbClr val="000000"/>
              </a:solidFill>
              <a:latin typeface="Arial"/>
            </a:endParaRPr>
          </a:p>
        </p:txBody>
      </p:sp>
      <p:sp>
        <p:nvSpPr>
          <p:cNvPr id="183"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4"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l ruolo del sistema camerale  -  ipotesi di aggregazione territoriale (3)</a:t>
            </a:r>
            <a:endParaRPr b="0" lang="en-US" sz="1800" spc="-1" strike="noStrike">
              <a:solidFill>
                <a:srgbClr val="000000"/>
              </a:solidFill>
              <a:latin typeface="Arial"/>
            </a:endParaRPr>
          </a:p>
        </p:txBody>
      </p:sp>
      <p:sp>
        <p:nvSpPr>
          <p:cNvPr id="185" name="CasellaDiTesto 18"/>
          <p:cNvSpPr/>
          <p:nvPr/>
        </p:nvSpPr>
        <p:spPr>
          <a:xfrm>
            <a:off x="628560" y="1852560"/>
            <a:ext cx="9574200" cy="475740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cune criticità :</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reazione di una struttura solo formalmente unitaria ma operante, di fatto, a compartimenti stagnii</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sistenze che possono sorgere dalle singole associazioni datoriali, locali o regionali, che spesso preferiscono operare con soggetti che siano organici alla propria associazione e motivati a rappresentare, quando necessario, gli interessi di categoria</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stenza di legami operativi e funzionali (reti territoriali, personale condiviso, società di servizi convenzionate) tra confidi e associazioni di categoria </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sistenze a sciogliere lo stretto legame tra confidi settoriale locale e soggetti locali (in primis le banche locali), con cui esiste spesso un rapporto di conoscenza personale diretta</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terogeneità delle situazioni economiche, patrimoniali, organizzative dei diversi confidi che possono creare problemi notevoli al momento di gestire la fusione</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damentale l’intervento di uno o più soggetti terzi – Camera di commercio, Regione, istituti bancari – in grado di creare consenso verso l’iniziati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e possibili linee evolutive del sistema Confidi (9)</a:t>
            </a:r>
            <a:endParaRPr b="1" i="1" lang="en-US" sz="3000" spc="-1" strike="noStrike">
              <a:solidFill>
                <a:srgbClr val="000000"/>
              </a:solidFill>
              <a:latin typeface="Arial"/>
            </a:endParaRPr>
          </a:p>
        </p:txBody>
      </p:sp>
      <p:sp>
        <p:nvSpPr>
          <p:cNvPr id="187"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8"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l ruolo del sistema camerale -  Il modello holding</a:t>
            </a:r>
            <a:endParaRPr b="0" lang="en-US" sz="1800" spc="-1" strike="noStrike">
              <a:solidFill>
                <a:srgbClr val="000000"/>
              </a:solidFill>
              <a:latin typeface="Arial"/>
            </a:endParaRPr>
          </a:p>
        </p:txBody>
      </p:sp>
      <p:sp>
        <p:nvSpPr>
          <p:cNvPr id="189" name="CasellaDiTesto 18"/>
          <p:cNvSpPr/>
          <p:nvPr/>
        </p:nvSpPr>
        <p:spPr>
          <a:xfrm>
            <a:off x="557280" y="1924200"/>
            <a:ext cx="9574200" cy="448308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bile soluzione per ovviare alle resistenze che potrebbero sorgere dal sistema dei confidi e per garantire al contempo la sopravvivenza quantomeno formale delle precedenti strutture è rappresentata dal cosiddetto modello “holding”</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questo modello, i confidi locali partecipano alla costituzione di una  holding a cui conferiscono il proprio capitale trasformandosi, di fatto, in unità operative territoriali</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confidi-holding assumerebbe così la massa critica e la struttura organizzativa per ambire all’iscrizione nell’elenco ex art 107 (o per trasformarsi in banca di garanzia), valorizzando di conseguenza la propria offerta di garanzie e diversificando l’offerta di servizi specialistici a favore delle imprese</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arantirebbe unitarietà di indirizzo e di  rappresentanza presso il sistema creditizio, aumentando anche la capacità di negoziazione del “sistema” sottostante. Interverrebbero, d’altra parte, quei vantaggi di struttura e organizzativi che già sono stati evidenziati in merito ai progetti di aggregazi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e possibili linee evolutive del sistema Confidi (10)</a:t>
            </a:r>
            <a:endParaRPr b="1" i="1" lang="en-US" sz="3000" spc="-1" strike="noStrike">
              <a:solidFill>
                <a:srgbClr val="000000"/>
              </a:solidFill>
              <a:latin typeface="Arial"/>
            </a:endParaRPr>
          </a:p>
        </p:txBody>
      </p:sp>
      <p:sp>
        <p:nvSpPr>
          <p:cNvPr id="191"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2"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l ruolo del sistema camerale -  Il modello holding (2)</a:t>
            </a:r>
            <a:endParaRPr b="0" lang="en-US" sz="1800" spc="-1" strike="noStrike">
              <a:solidFill>
                <a:srgbClr val="000000"/>
              </a:solidFill>
              <a:latin typeface="Arial"/>
            </a:endParaRPr>
          </a:p>
        </p:txBody>
      </p:sp>
      <p:sp>
        <p:nvSpPr>
          <p:cNvPr id="193" name="CasellaDiTesto 18"/>
          <p:cNvSpPr/>
          <p:nvPr/>
        </p:nvSpPr>
        <p:spPr>
          <a:xfrm>
            <a:off x="557280" y="1924200"/>
            <a:ext cx="9574200" cy="503172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unità territoriali, per contro, pur riconoscendo al confidi-holding la direzione e l’indirizzo generale del sistema associato, manterrebbero, grazie anche a “deleghe” di responsabilità da parte della holding, una propria autonomia operativa, sia pure limitata</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unità locali continuano a gestire per conto della holding il rapporto con i clienti e a occuparsi del marketing, a istruire le pratiche da trasmettere alla holding per la valutazione finale e a mantenere una funzione di rappresentanza verso il sistema bancario e associativo locale</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elativa autonomia concessa alle diverse unità locali favorisce ipotesi di aggregazione</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riticità: l’eterogeneità dei confidi afferenti, degli interessi di cui sono portatori e delle differenti esigenze provenienti dalle diverse categorie di riferimento possono in qualche modo creare squilibri all’interno della struttura, sia a livello centralizzato, sia nella sua articolazione territoriale</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ipropongono, in sostanza, le criticità che già sono state evidenziate in precedenza per l’ipotesi di fusione tra confidi territoriali, anche se attenuate dalla hol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e possibili linee evolutive del sistema Confidi (11)</a:t>
            </a:r>
            <a:endParaRPr b="1" i="1" lang="en-US" sz="3000" spc="-1" strike="noStrike">
              <a:solidFill>
                <a:srgbClr val="000000"/>
              </a:solidFill>
              <a:latin typeface="Arial"/>
            </a:endParaRPr>
          </a:p>
        </p:txBody>
      </p:sp>
      <p:sp>
        <p:nvSpPr>
          <p:cNvPr id="195"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6"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chema di sintesi dell’operatività di un confidi - holding</a:t>
            </a:r>
            <a:endParaRPr b="0" lang="en-US" sz="1800" spc="-1" strike="noStrike">
              <a:solidFill>
                <a:srgbClr val="000000"/>
              </a:solidFill>
              <a:latin typeface="Arial"/>
            </a:endParaRPr>
          </a:p>
        </p:txBody>
      </p:sp>
      <p:sp>
        <p:nvSpPr>
          <p:cNvPr id="197" name="Text Box 2"/>
          <p:cNvSpPr/>
          <p:nvPr/>
        </p:nvSpPr>
        <p:spPr>
          <a:xfrm>
            <a:off x="1643040" y="1995480"/>
            <a:ext cx="3652920" cy="253836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Confidi - holding</a:t>
            </a:r>
            <a:endParaRPr b="0" lang="en-US" sz="11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Rappresentanza istituzionale e legale</a:t>
            </a: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oncessione delle garanzie </a:t>
            </a: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estione centralizzata  del rischio</a:t>
            </a: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estione del sistema informatico </a:t>
            </a: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redisposizione e offerta di servizi sussidiari e integrativi</a:t>
            </a:r>
            <a:endParaRPr b="0" lang="en-US" sz="1000" spc="-1" strike="noStrike">
              <a:solidFill>
                <a:srgbClr val="000000"/>
              </a:solidFill>
              <a:latin typeface="Arial"/>
            </a:endParaRPr>
          </a:p>
        </p:txBody>
      </p:sp>
      <p:sp>
        <p:nvSpPr>
          <p:cNvPr id="198" name="AutoShape 3"/>
          <p:cNvSpPr/>
          <p:nvPr/>
        </p:nvSpPr>
        <p:spPr>
          <a:xfrm>
            <a:off x="6512040" y="2852640"/>
            <a:ext cx="2190600" cy="773280"/>
          </a:xfrm>
          <a:prstGeom prst="roundRect">
            <a:avLst>
              <a:gd name="adj" fmla="val 16667"/>
            </a:avLst>
          </a:prstGeom>
          <a:solidFill>
            <a:srgbClr val="00ff00"/>
          </a:solidFill>
          <a:ln w="25560">
            <a:solidFill>
              <a:srgbClr val="00ff00"/>
            </a:solidFill>
            <a:miter/>
          </a:ln>
        </p:spPr>
        <p:style>
          <a:lnRef idx="0"/>
          <a:fillRef idx="0"/>
          <a:effectRef idx="0"/>
          <a:fontRef idx="minor"/>
        </p:style>
        <p:txBody>
          <a:bodyPr lIns="90000" rIns="90000" tIns="46800" bIns="46800" anchor="t">
            <a:no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Aderisce all’elenco ex art. 107 o si trasforma in Banca di garanzia</a:t>
            </a:r>
            <a:endParaRPr b="0" lang="en-US" sz="800" spc="-1" strike="noStrike">
              <a:solidFill>
                <a:srgbClr val="000000"/>
              </a:solidFill>
              <a:latin typeface="Arial"/>
            </a:endParaRPr>
          </a:p>
        </p:txBody>
      </p:sp>
      <p:sp>
        <p:nvSpPr>
          <p:cNvPr id="199" name="AutoShape 4"/>
          <p:cNvSpPr/>
          <p:nvPr/>
        </p:nvSpPr>
        <p:spPr>
          <a:xfrm flipV="1" rot="10800000">
            <a:off x="1628640" y="4777200"/>
            <a:ext cx="1314720" cy="1932120"/>
          </a:xfrm>
          <a:prstGeom prst="borderCallout1">
            <a:avLst>
              <a:gd name="adj1" fmla="val 18750"/>
              <a:gd name="adj2" fmla="val -8333"/>
              <a:gd name="adj3" fmla="val 128337"/>
              <a:gd name="adj4" fmla="val -34074"/>
            </a:avLst>
          </a:prstGeom>
          <a:solidFill>
            <a:srgbClr val="ff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Confidi (sportello) territoria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arketing c/o impre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re-istruttori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Rapporti con soggetti locali</a:t>
            </a:r>
            <a:endParaRPr b="0" lang="en-US" sz="1000" spc="-1" strike="noStrike">
              <a:solidFill>
                <a:srgbClr val="000000"/>
              </a:solidFill>
              <a:latin typeface="Arial"/>
            </a:endParaRPr>
          </a:p>
        </p:txBody>
      </p:sp>
      <p:sp>
        <p:nvSpPr>
          <p:cNvPr id="200" name="AutoShape 5"/>
          <p:cNvSpPr/>
          <p:nvPr/>
        </p:nvSpPr>
        <p:spPr>
          <a:xfrm flipV="1" rot="10800000">
            <a:off x="3171600" y="4777200"/>
            <a:ext cx="1314360" cy="1932120"/>
          </a:xfrm>
          <a:prstGeom prst="borderCallout1">
            <a:avLst>
              <a:gd name="adj1" fmla="val 18750"/>
              <a:gd name="adj2" fmla="val -8333"/>
              <a:gd name="adj3" fmla="val 128337"/>
              <a:gd name="adj4" fmla="val -34074"/>
            </a:avLst>
          </a:prstGeom>
          <a:solidFill>
            <a:srgbClr val="ff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Confidi (sportello) territoria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arketing c/o impre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re-istruttori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Rapporti con soggetti locali</a:t>
            </a:r>
            <a:endParaRPr b="0" lang="en-US" sz="1000" spc="-1" strike="noStrike">
              <a:solidFill>
                <a:srgbClr val="000000"/>
              </a:solidFill>
              <a:latin typeface="Arial"/>
            </a:endParaRPr>
          </a:p>
        </p:txBody>
      </p:sp>
      <p:sp>
        <p:nvSpPr>
          <p:cNvPr id="201" name="AutoShape 6"/>
          <p:cNvSpPr/>
          <p:nvPr/>
        </p:nvSpPr>
        <p:spPr>
          <a:xfrm flipV="1" rot="10800000">
            <a:off x="4673160" y="4777200"/>
            <a:ext cx="1314360" cy="1932120"/>
          </a:xfrm>
          <a:prstGeom prst="borderCallout1">
            <a:avLst>
              <a:gd name="adj1" fmla="val 18750"/>
              <a:gd name="adj2" fmla="val -8333"/>
              <a:gd name="adj3" fmla="val 128337"/>
              <a:gd name="adj4" fmla="val -34074"/>
            </a:avLst>
          </a:prstGeom>
          <a:solidFill>
            <a:srgbClr val="ff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Confidi (sportello) territoria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arketing c/o impre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re-istruttori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Rapporti con soggetti locali</a:t>
            </a:r>
            <a:endParaRPr b="0" lang="en-US" sz="1000" spc="-1" strike="noStrike">
              <a:solidFill>
                <a:srgbClr val="000000"/>
              </a:solidFill>
              <a:latin typeface="Arial"/>
            </a:endParaRPr>
          </a:p>
        </p:txBody>
      </p:sp>
      <p:sp>
        <p:nvSpPr>
          <p:cNvPr id="202" name="AutoShape 7"/>
          <p:cNvSpPr/>
          <p:nvPr/>
        </p:nvSpPr>
        <p:spPr>
          <a:xfrm>
            <a:off x="5468760" y="1995480"/>
            <a:ext cx="876600" cy="2571840"/>
          </a:xfrm>
          <a:prstGeom prst="pie">
            <a:avLst/>
          </a:prstGeom>
          <a:gradFill rotWithShape="0">
            <a:gsLst>
              <a:gs pos="0">
                <a:srgbClr val="ffff00"/>
              </a:gs>
              <a:gs pos="100000">
                <a:srgbClr val="00ff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Connettore 1 14"/>
          <p:cNvSpPr/>
          <p:nvPr/>
        </p:nvSpPr>
        <p:spPr>
          <a:xfrm flipH="1">
            <a:off x="2286000" y="4533840"/>
            <a:ext cx="1184400" cy="244440"/>
          </a:xfrm>
          <a:prstGeom prst="line">
            <a:avLst/>
          </a:prstGeom>
          <a:ln w="9360">
            <a:solidFill>
              <a:srgbClr val="eac11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Connettore 1 20"/>
          <p:cNvSpPr/>
          <p:nvPr/>
        </p:nvSpPr>
        <p:spPr>
          <a:xfrm>
            <a:off x="3470400" y="4533840"/>
            <a:ext cx="358560" cy="244440"/>
          </a:xfrm>
          <a:prstGeom prst="line">
            <a:avLst/>
          </a:prstGeom>
          <a:ln w="9360">
            <a:solidFill>
              <a:srgbClr val="eac11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Connettore 1 23"/>
          <p:cNvSpPr/>
          <p:nvPr/>
        </p:nvSpPr>
        <p:spPr>
          <a:xfrm>
            <a:off x="3470400" y="4533840"/>
            <a:ext cx="1860480" cy="244440"/>
          </a:xfrm>
          <a:prstGeom prst="line">
            <a:avLst/>
          </a:prstGeom>
          <a:ln w="9360">
            <a:solidFill>
              <a:srgbClr val="eac11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Premessa (2)</a:t>
            </a:r>
            <a:endParaRPr b="1" i="1" lang="en-US" sz="3000" spc="-1" strike="noStrike">
              <a:solidFill>
                <a:srgbClr val="000000"/>
              </a:solidFill>
              <a:latin typeface="Arial"/>
            </a:endParaRPr>
          </a:p>
        </p:txBody>
      </p:sp>
      <p:sp>
        <p:nvSpPr>
          <p:cNvPr id="96" name="CasellaDiTesto 11"/>
          <p:cNvSpPr/>
          <p:nvPr/>
        </p:nvSpPr>
        <p:spPr>
          <a:xfrm>
            <a:off x="557280" y="1424160"/>
            <a:ext cx="9574200" cy="530604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eneralmente, oltre il 50% dei fondi di garanzia di cui dispongono i confidi è di origine pubblica e proviene dallo Stato, dalle Regioni e dall’Unione Europea</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ntributi pubblici sono cresciuti progressivamente al crescere dell’importanza del ruolo rivestito dai confidi di “facilitatori” dell’accesso al credito delle  PMI</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legame che si è venuto a creare tra i confidi e gli  attori pubblici e semi-pubblici, in primis le Camere di commercio,  può diventare uno strumento per riuscire a incentivarne e indirizzarne il riposizionamento strategico,  favorendo un più rapido adattamento al nuovo contesto normativo e operativo</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uolo importante svolto nel favorire l’accesso al credito per le PMI</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ononostante, i finanziamenti garantiti dai confidi rappresentano ancora una quota parte relativamente ridotta del volume complessivo di prestiti concessi dal sistema bancario a favore delle imprese</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e possibili linee evolutive del sistema Confidi (12)</a:t>
            </a:r>
            <a:endParaRPr b="1" i="1" lang="en-US" sz="3000" spc="-1" strike="noStrike">
              <a:solidFill>
                <a:srgbClr val="000000"/>
              </a:solidFill>
              <a:latin typeface="Arial"/>
            </a:endParaRPr>
          </a:p>
        </p:txBody>
      </p:sp>
      <p:sp>
        <p:nvSpPr>
          <p:cNvPr id="207"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8"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l ruolo delle associazioni - Il modello baricentro</a:t>
            </a:r>
            <a:endParaRPr b="0" lang="en-US" sz="1800" spc="-1" strike="noStrike">
              <a:solidFill>
                <a:srgbClr val="000000"/>
              </a:solidFill>
              <a:latin typeface="Arial"/>
            </a:endParaRPr>
          </a:p>
        </p:txBody>
      </p:sp>
      <p:sp>
        <p:nvSpPr>
          <p:cNvPr id="209" name="CasellaDiTesto 14"/>
          <p:cNvSpPr/>
          <p:nvPr/>
        </p:nvSpPr>
        <p:spPr>
          <a:xfrm>
            <a:off x="557280" y="1924200"/>
            <a:ext cx="9574200" cy="503172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il progetto di aggregazione previsto da Fedart Fidi, federazione nazionale dei confidi artigiani. </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ello operativo che, basato su un progetto di aggregazione finalizzato a costituire un confidi “baricentro” iscritto all’elenco speciale ex art. 107, prevede la possibilità di conservare una autonomia quanto meno formale per le strutture “106”, affiancate a veri e propri sportelli direttamente dipendenti dal “107”</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truttura “107” gestirebbe unitariamente le garanzie e i servizi specialistici per le imprese, fornirebbe i servizi strumentali per l’attività delle unità territoriali e pianificherebbe le procedure di gestione delle pratiche. </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unità territoriali  continuerebbero a garantire il presidio del territorio, gestendo, per conto del confidi baricentro, i rapporti diretti con le imprese, promuovendo azioni di marketing, istruendo le pratiche e muovendosi di fatto come strutture commerciali</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progetto Fedart, d’altra parte, è previsto un terzo livello, nazionale, di coordinamento e indirizz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e possibili linee evolutive del sistema Confidi (13)</a:t>
            </a:r>
            <a:endParaRPr b="1" i="1" lang="en-US" sz="3000" spc="-1" strike="noStrike">
              <a:solidFill>
                <a:srgbClr val="000000"/>
              </a:solidFill>
              <a:latin typeface="Arial"/>
            </a:endParaRPr>
          </a:p>
        </p:txBody>
      </p:sp>
      <p:sp>
        <p:nvSpPr>
          <p:cNvPr id="211"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12"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chema di sintesi dell’operatività di un confidi - baricentro</a:t>
            </a:r>
            <a:endParaRPr b="0" lang="en-US" sz="1800" spc="-1" strike="noStrike">
              <a:solidFill>
                <a:srgbClr val="000000"/>
              </a:solidFill>
              <a:latin typeface="Arial"/>
            </a:endParaRPr>
          </a:p>
        </p:txBody>
      </p:sp>
      <p:sp>
        <p:nvSpPr>
          <p:cNvPr id="213" name="AutoShape 1"/>
          <p:cNvSpPr/>
          <p:nvPr/>
        </p:nvSpPr>
        <p:spPr>
          <a:xfrm>
            <a:off x="4629240" y="3681360"/>
            <a:ext cx="1714320" cy="687600"/>
          </a:xfrm>
          <a:prstGeom prst="roundRect">
            <a:avLst>
              <a:gd name="adj" fmla="val 16667"/>
            </a:avLst>
          </a:prstGeom>
          <a:solidFill>
            <a:srgbClr val="00ff00"/>
          </a:solidFill>
          <a:ln w="25560">
            <a:solidFill>
              <a:srgbClr val="00ff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derisce all’elenco ex art. 107 o si trasforma in Banca di garanzia</a:t>
            </a:r>
            <a:endParaRPr b="0" lang="en-US" sz="1000" spc="-1" strike="noStrike">
              <a:solidFill>
                <a:srgbClr val="000000"/>
              </a:solidFill>
              <a:latin typeface="Arial"/>
            </a:endParaRPr>
          </a:p>
        </p:txBody>
      </p:sp>
      <p:sp>
        <p:nvSpPr>
          <p:cNvPr id="214" name="AutoShape 2"/>
          <p:cNvSpPr/>
          <p:nvPr/>
        </p:nvSpPr>
        <p:spPr>
          <a:xfrm flipV="1" rot="10800000">
            <a:off x="2271600" y="5460840"/>
            <a:ext cx="1028880" cy="1678320"/>
          </a:xfrm>
          <a:prstGeom prst="borderCallout1">
            <a:avLst>
              <a:gd name="adj1" fmla="val 18750"/>
              <a:gd name="adj2" fmla="val -8333"/>
              <a:gd name="adj3" fmla="val 131449"/>
              <a:gd name="adj4" fmla="val -134074"/>
            </a:avLst>
          </a:prstGeom>
          <a:solidFill>
            <a:srgbClr val="ffcc00"/>
          </a:solid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Confidi (sportello) territoriale</a:t>
            </a: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arketing c/o imprese</a:t>
            </a: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re-istruttoria</a:t>
            </a: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Rapporti con soggetti locali</a:t>
            </a:r>
            <a:endParaRPr b="0" lang="en-US" sz="1000" spc="-1" strike="noStrike">
              <a:solidFill>
                <a:srgbClr val="000000"/>
              </a:solidFill>
              <a:latin typeface="Arial"/>
            </a:endParaRPr>
          </a:p>
        </p:txBody>
      </p:sp>
      <p:sp>
        <p:nvSpPr>
          <p:cNvPr id="215" name="AutoShape 3"/>
          <p:cNvSpPr/>
          <p:nvPr/>
        </p:nvSpPr>
        <p:spPr>
          <a:xfrm>
            <a:off x="3714840" y="3338640"/>
            <a:ext cx="685800" cy="1942920"/>
          </a:xfrm>
          <a:prstGeom prst="pie">
            <a:avLst/>
          </a:prstGeom>
          <a:gradFill rotWithShape="0">
            <a:gsLst>
              <a:gs pos="0">
                <a:srgbClr val="ffff00"/>
              </a:gs>
              <a:gs pos="100000">
                <a:srgbClr val="00ff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AutoShape 4"/>
          <p:cNvSpPr/>
          <p:nvPr/>
        </p:nvSpPr>
        <p:spPr>
          <a:xfrm flipV="1" rot="10800000">
            <a:off x="3943080" y="5460840"/>
            <a:ext cx="1028520" cy="1678320"/>
          </a:xfrm>
          <a:prstGeom prst="borderCallout1">
            <a:avLst>
              <a:gd name="adj1" fmla="val 18750"/>
              <a:gd name="adj2" fmla="val -8333"/>
              <a:gd name="adj3" fmla="val 99958"/>
              <a:gd name="adj4" fmla="val -124245"/>
            </a:avLst>
          </a:prstGeom>
          <a:solidFill>
            <a:srgbClr val="ffcc00"/>
          </a:solid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Confidi (sportello) territoriale</a:t>
            </a: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arketing c/o imprese</a:t>
            </a: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re-istruttoria</a:t>
            </a: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Rapporti con soggetti locali</a:t>
            </a:r>
            <a:endParaRPr b="0" lang="en-US" sz="1000" spc="-1" strike="noStrike">
              <a:solidFill>
                <a:srgbClr val="000000"/>
              </a:solidFill>
              <a:latin typeface="Arial"/>
            </a:endParaRPr>
          </a:p>
        </p:txBody>
      </p:sp>
      <p:sp>
        <p:nvSpPr>
          <p:cNvPr id="217" name="AutoShape 5"/>
          <p:cNvSpPr/>
          <p:nvPr/>
        </p:nvSpPr>
        <p:spPr>
          <a:xfrm flipV="1" rot="10800000">
            <a:off x="5601960" y="5460840"/>
            <a:ext cx="1028520" cy="1678320"/>
          </a:xfrm>
          <a:prstGeom prst="borderCallout1">
            <a:avLst>
              <a:gd name="adj1" fmla="val 18750"/>
              <a:gd name="adj2" fmla="val -8333"/>
              <a:gd name="adj3" fmla="val 132092"/>
              <a:gd name="adj4" fmla="val -212101"/>
            </a:avLst>
          </a:prstGeom>
          <a:solidFill>
            <a:srgbClr val="ffcc00"/>
          </a:solid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Confidi “106” territoriale</a:t>
            </a: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arketing c/o imprese</a:t>
            </a: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re-istruttoria</a:t>
            </a: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Rapporti con soggetti locali</a:t>
            </a:r>
            <a:endParaRPr b="0" lang="en-US" sz="1000" spc="-1" strike="noStrike">
              <a:solidFill>
                <a:srgbClr val="000000"/>
              </a:solidFill>
              <a:latin typeface="Arial"/>
            </a:endParaRPr>
          </a:p>
        </p:txBody>
      </p:sp>
      <p:sp>
        <p:nvSpPr>
          <p:cNvPr id="218" name="Text Box 6"/>
          <p:cNvSpPr/>
          <p:nvPr/>
        </p:nvSpPr>
        <p:spPr>
          <a:xfrm>
            <a:off x="628560" y="1852560"/>
            <a:ext cx="2857680" cy="1357200"/>
          </a:xfrm>
          <a:prstGeom prst="rect">
            <a:avLst/>
          </a:prstGeom>
          <a:solidFill>
            <a:srgbClr val="cc99ff"/>
          </a:solidFill>
          <a:ln w="9360">
            <a:solidFill>
              <a:srgbClr val="cc99ff"/>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Coordinamento regionale/nazionale</a:t>
            </a:r>
            <a:endParaRPr b="0" lang="en-US" sz="11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Rappresentanza istituzionale</a:t>
            </a: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Definizione linee strategiche generali</a:t>
            </a: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estione centralizzata del rischio </a:t>
            </a: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estione del sistema informatico</a:t>
            </a: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9" name="AutoShape 7"/>
          <p:cNvSpPr/>
          <p:nvPr/>
        </p:nvSpPr>
        <p:spPr>
          <a:xfrm>
            <a:off x="4629240" y="2066760"/>
            <a:ext cx="1714320" cy="800280"/>
          </a:xfrm>
          <a:prstGeom prst="roundRect">
            <a:avLst>
              <a:gd name="adj" fmla="val 16667"/>
            </a:avLst>
          </a:prstGeom>
          <a:solidFill>
            <a:srgbClr val="00ff00"/>
          </a:solidFill>
          <a:ln w="25560">
            <a:solidFill>
              <a:srgbClr val="00ff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n sono previste funzioni operative di contro-garanzia per i livelli inferiori.</a:t>
            </a:r>
            <a:endParaRPr b="0" lang="en-US" sz="1000" spc="-1" strike="noStrike">
              <a:solidFill>
                <a:srgbClr val="000000"/>
              </a:solidFill>
              <a:latin typeface="Arial"/>
            </a:endParaRPr>
          </a:p>
        </p:txBody>
      </p:sp>
      <p:sp>
        <p:nvSpPr>
          <p:cNvPr id="220" name="AutoShape 8"/>
          <p:cNvSpPr/>
          <p:nvPr/>
        </p:nvSpPr>
        <p:spPr>
          <a:xfrm>
            <a:off x="3714840" y="1852560"/>
            <a:ext cx="685800" cy="1357200"/>
          </a:xfrm>
          <a:prstGeom prst="pie">
            <a:avLst/>
          </a:prstGeom>
          <a:gradFill rotWithShape="0">
            <a:gsLst>
              <a:gs pos="0">
                <a:srgbClr val="cc99ff"/>
              </a:gs>
              <a:gs pos="100000">
                <a:srgbClr val="00ff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AutoShape 9"/>
          <p:cNvSpPr/>
          <p:nvPr/>
        </p:nvSpPr>
        <p:spPr>
          <a:xfrm flipV="1" rot="10800000">
            <a:off x="969480" y="3337560"/>
            <a:ext cx="2629080" cy="1942920"/>
          </a:xfrm>
          <a:prstGeom prst="borderCallout1">
            <a:avLst>
              <a:gd name="adj1" fmla="val 18750"/>
              <a:gd name="adj2" fmla="val -8333"/>
              <a:gd name="adj3" fmla="val 128245"/>
              <a:gd name="adj4" fmla="val -13430"/>
            </a:avLst>
          </a:prstGeom>
          <a:solidFill>
            <a:srgbClr val="ffff00"/>
          </a:solid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Confidi baricentro</a:t>
            </a:r>
            <a:endParaRPr b="0" lang="en-US" sz="11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arketing provinciale/regionale</a:t>
            </a: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oncessione delle garanzie </a:t>
            </a: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Gestione del rischio di competenza</a:t>
            </a: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oordinamento degli sportelli/confidi del livello inferiore</a:t>
            </a:r>
            <a:endParaRPr b="0" lang="en-US" sz="10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Predisposizione e offerta di servizi sussidiari e integrativi</a:t>
            </a:r>
            <a:endParaRPr b="0" lang="en-US" sz="1000" spc="-1" strike="noStrike">
              <a:solidFill>
                <a:srgbClr val="000000"/>
              </a:solidFill>
              <a:latin typeface="Arial"/>
            </a:endParaRPr>
          </a:p>
        </p:txBody>
      </p:sp>
      <p:sp>
        <p:nvSpPr>
          <p:cNvPr id="222" name="Connettore 1 22"/>
          <p:cNvSpPr/>
          <p:nvPr/>
        </p:nvSpPr>
        <p:spPr>
          <a:xfrm>
            <a:off x="2056680" y="3209760"/>
            <a:ext cx="227160" cy="12888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Connettore 1 25"/>
          <p:cNvSpPr/>
          <p:nvPr/>
        </p:nvSpPr>
        <p:spPr>
          <a:xfrm>
            <a:off x="2283840" y="5281560"/>
            <a:ext cx="501480" cy="179280"/>
          </a:xfrm>
          <a:prstGeom prst="line">
            <a:avLst/>
          </a:prstGeom>
          <a:ln w="9360">
            <a:solidFill>
              <a:srgbClr val="e5b01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Connettore 1 27"/>
          <p:cNvSpPr/>
          <p:nvPr/>
        </p:nvSpPr>
        <p:spPr>
          <a:xfrm>
            <a:off x="2283840" y="5281560"/>
            <a:ext cx="2173320" cy="179280"/>
          </a:xfrm>
          <a:prstGeom prst="line">
            <a:avLst/>
          </a:prstGeom>
          <a:ln w="9360">
            <a:solidFill>
              <a:srgbClr val="e5b01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Connettore 1 29"/>
          <p:cNvSpPr/>
          <p:nvPr/>
        </p:nvSpPr>
        <p:spPr>
          <a:xfrm>
            <a:off x="2283840" y="5281560"/>
            <a:ext cx="3832200" cy="179280"/>
          </a:xfrm>
          <a:prstGeom prst="line">
            <a:avLst/>
          </a:prstGeom>
          <a:ln w="9360">
            <a:solidFill>
              <a:srgbClr val="eac11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e possibili linee evolutive del sistema Confidi (14)</a:t>
            </a:r>
            <a:endParaRPr b="1" i="1" lang="en-US" sz="3000" spc="-1" strike="noStrike">
              <a:solidFill>
                <a:srgbClr val="000000"/>
              </a:solidFill>
              <a:latin typeface="Arial"/>
            </a:endParaRPr>
          </a:p>
        </p:txBody>
      </p:sp>
      <p:sp>
        <p:nvSpPr>
          <p:cNvPr id="227"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28"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l ruolo delle associazioni - ipotesi di aggregazione settoriale</a:t>
            </a:r>
            <a:endParaRPr b="0" lang="en-US" sz="1800" spc="-1" strike="noStrike">
              <a:solidFill>
                <a:srgbClr val="000000"/>
              </a:solidFill>
              <a:latin typeface="Arial"/>
            </a:endParaRPr>
          </a:p>
        </p:txBody>
      </p:sp>
      <p:sp>
        <p:nvSpPr>
          <p:cNvPr id="229" name="CasellaDiTesto 14"/>
          <p:cNvSpPr/>
          <p:nvPr/>
        </p:nvSpPr>
        <p:spPr>
          <a:xfrm>
            <a:off x="628560" y="1781280"/>
            <a:ext cx="9574200" cy="448308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pzione dell’aggregazione settoriale è, al momento, il percorso lungo il quale sono avviate le associazioni datoriali, soprattutto in campo agricolo e manifatturiero </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ggregazioni che, peraltro, non sono riuscite finora, con l’eccezione di Confapi, a superare alcune logiche localistiche che hanno favorito la nascita di progetti di aggregazione paralleli</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esperienze di Confidi Province Lombarde e Confidi  Lombardia nel campo confindustriale, Agrifidi e COFAL in quello agricolo sono esempi concreti di questi processi, anche se la coesistenza di poli di aggregazione diversi all’interno dello stesso settore evidenziano le difficoltà che ancora vanno affrontate per ovviare ai problemi di equilibrio legati alla governance e alle peculiarità territoriali. </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bilità  di forme di aggregazione tra confidi appartenenti a regioni diverse che permetterebbe di ovviare, almeno in parte, ai problemi di diversificazione del rischio (almeno territoriale) e ai problemi di governance del teorico soggetto unitari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e possibili linee evolutive del sistema Confidi (15)</a:t>
            </a:r>
            <a:endParaRPr b="1" i="1" lang="en-US" sz="3000" spc="-1" strike="noStrike">
              <a:solidFill>
                <a:srgbClr val="000000"/>
              </a:solidFill>
              <a:latin typeface="Arial"/>
            </a:endParaRPr>
          </a:p>
        </p:txBody>
      </p:sp>
      <p:sp>
        <p:nvSpPr>
          <p:cNvPr id="231"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32"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l ruolo delle associazioni - ipotesi di aggregazione settoriale (2)</a:t>
            </a:r>
            <a:endParaRPr b="0" lang="en-US" sz="1800" spc="-1" strike="noStrike">
              <a:solidFill>
                <a:srgbClr val="000000"/>
              </a:solidFill>
              <a:latin typeface="Arial"/>
            </a:endParaRPr>
          </a:p>
        </p:txBody>
      </p:sp>
      <p:sp>
        <p:nvSpPr>
          <p:cNvPr id="233" name="CasellaDiTesto 14"/>
          <p:cNvSpPr/>
          <p:nvPr/>
        </p:nvSpPr>
        <p:spPr>
          <a:xfrm>
            <a:off x="628560" y="1781280"/>
            <a:ext cx="9574200" cy="448308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cuni vantaggi:</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arantisce l’identità associativa del confidi e la condivisione di obiettivi e strategie omogenee con gli interessi di categoria </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zza le collaborazioni già in atto tra confidi simili, coinvolgendo e unificando soggetti omogenei tra loro</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conomie di scala e di struttura, il raggiungimento di una massa critica adeguata e la condivisione di infrastrutture e servizi strumentali </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riticità:</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egrazione di confidi appartenenti alla stessa categoria professionale conduce alla costituzione di un portafoglio-garanzie tendenzialmente omogeneo e correlato e quindi più sensibile a eventuali shock settoriali</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a logica strettamente settoriale limita di fatto l’operatività di un potenziale confidi di categoria, circoscrivendone l’ambito d’azione alle imprese di settore e disincentivando politiche di espansione e consolidamento sul territorio</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e possibili linee evolutive del sistema Confidi (16)</a:t>
            </a:r>
            <a:endParaRPr b="1" i="1" lang="en-US" sz="3000" spc="-1" strike="noStrike">
              <a:solidFill>
                <a:srgbClr val="000000"/>
              </a:solidFill>
              <a:latin typeface="Arial"/>
            </a:endParaRPr>
          </a:p>
        </p:txBody>
      </p:sp>
      <p:sp>
        <p:nvSpPr>
          <p:cNvPr id="235"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36" name="CasellaDiTesto 4"/>
          <p:cNvSpPr/>
          <p:nvPr/>
        </p:nvSpPr>
        <p:spPr>
          <a:xfrm>
            <a:off x="533520" y="1905120"/>
            <a:ext cx="9574200" cy="5031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 salvaguardare l’autonomia dei confidi di I grado operanti sul territorio è stata avanzata l’ipotesi di creare un confidi di II grado unitario, che svolga la funzione di contro-garanzia a favore dei confidi tradizionali</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reazione di un confidi di II grado assicurerebbe:</a:t>
            </a:r>
            <a:endParaRPr b="0" lang="en-US" sz="1800" spc="-1" strike="noStrike">
              <a:solidFill>
                <a:srgbClr val="000000"/>
              </a:solidFill>
              <a:latin typeface="Arial"/>
            </a:endParaRPr>
          </a:p>
          <a:p>
            <a:pPr lvl="1" marL="914400" indent="-457200">
              <a:lnSpc>
                <a:spcPct val="100000"/>
              </a:lnSpc>
              <a:buClr>
                <a:srgbClr val="000000"/>
              </a:buClr>
              <a:buFont typeface="Arial"/>
              <a:buAutoNum type="arabicPeriod"/>
              <a:tabLst>
                <a:tab algn="l" pos="3636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livello di capitalizzazione maggiore, garantito non solo dai conferimenti dei confidi soci ma anche da soggetti esterni (Camere di commercio, Enti pubblici,  istituti di credito)</a:t>
            </a:r>
            <a:endParaRPr b="0" lang="en-US" sz="1800" spc="-1" strike="noStrike">
              <a:solidFill>
                <a:srgbClr val="000000"/>
              </a:solidFill>
              <a:latin typeface="Arial"/>
            </a:endParaRPr>
          </a:p>
          <a:p>
            <a:pPr lvl="1" marL="914400" indent="-457200">
              <a:lnSpc>
                <a:spcPct val="100000"/>
              </a:lnSpc>
              <a:buClr>
                <a:srgbClr val="000000"/>
              </a:buClr>
              <a:buFont typeface="Arial"/>
              <a:buAutoNum type="arabicPeriod"/>
              <a:tabLst>
                <a:tab algn="l" pos="3636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ssa critica, capacità organizzativa e finanziaria, maggior solvibilità, da un lato, e flessibilità e autonomia per i confidi soci</a:t>
            </a:r>
            <a:endParaRPr b="0" lang="en-US" sz="1800" spc="-1" strike="noStrike">
              <a:solidFill>
                <a:srgbClr val="000000"/>
              </a:solidFill>
              <a:latin typeface="Arial"/>
            </a:endParaRPr>
          </a:p>
          <a:p>
            <a:pPr lvl="1" marL="914400" indent="-457200">
              <a:lnSpc>
                <a:spcPct val="100000"/>
              </a:lnSpc>
              <a:buClr>
                <a:srgbClr val="000000"/>
              </a:buClr>
              <a:buFont typeface="Arial"/>
              <a:buAutoNum type="arabicPeriod"/>
              <a:tabLst>
                <a:tab algn="l" pos="3636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ggior diversificazione territoriale e settoriale del portafoglio-garanzie, meno soggette in tal modo a shock sistemici in quanto caratterizzate da una scarsa correlazione tra i prestiti garantiti sul territorio</a:t>
            </a:r>
            <a:endParaRPr b="0" lang="en-US" sz="1800" spc="-1" strike="noStrike">
              <a:solidFill>
                <a:srgbClr val="000000"/>
              </a:solidFill>
              <a:latin typeface="Arial"/>
            </a:endParaRPr>
          </a:p>
          <a:p>
            <a:pPr lvl="1" marL="914400" indent="-457200">
              <a:lnSpc>
                <a:spcPct val="100000"/>
              </a:lnSpc>
              <a:buClr>
                <a:srgbClr val="000000"/>
              </a:buClr>
              <a:buFont typeface="Arial"/>
              <a:buAutoNum type="arabicPeriod"/>
              <a:tabLst>
                <a:tab algn="l" pos="3636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ggior potere contrattuale con le banche</a:t>
            </a:r>
            <a:endParaRPr b="0" lang="en-US" sz="1800" spc="-1" strike="noStrike">
              <a:solidFill>
                <a:srgbClr val="000000"/>
              </a:solidFill>
              <a:latin typeface="Arial"/>
            </a:endParaRPr>
          </a:p>
          <a:p>
            <a:pPr lvl="1" marL="914400" indent="-457200">
              <a:lnSpc>
                <a:spcPct val="100000"/>
              </a:lnSpc>
              <a:buClr>
                <a:srgbClr val="000000"/>
              </a:buClr>
              <a:buFont typeface="Arial"/>
              <a:buAutoNum type="arabicPeriod"/>
              <a:tabLst>
                <a:tab algn="l" pos="3636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otazione e gestione centralizzata di sistemi informatici adeguati alle esigenze della vigilanza, dando per scontato che tale struttura aderisca all’elenco ex art. 107, e alla necessità di garantire un efficiente sistema di comunicazione interno tra i tutti i confidi soci</a:t>
            </a:r>
            <a:endParaRPr b="0" lang="en-US" sz="1800" spc="-1" strike="noStrike">
              <a:solidFill>
                <a:srgbClr val="000000"/>
              </a:solidFill>
              <a:latin typeface="Arial"/>
            </a:endParaRPr>
          </a:p>
        </p:txBody>
      </p:sp>
      <p:sp>
        <p:nvSpPr>
          <p:cNvPr id="237"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costituzione di un confidi di secondo grado</a:t>
            </a:r>
            <a:r>
              <a:rPr b="1" lang="it-IT"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Le possibili linee evolutive del sistema Confidi (17)</a:t>
            </a:r>
            <a:endParaRPr b="1" i="1" lang="en-US" sz="3000" spc="-1" strike="noStrike">
              <a:solidFill>
                <a:srgbClr val="000000"/>
              </a:solidFill>
              <a:latin typeface="Arial"/>
            </a:endParaRPr>
          </a:p>
        </p:txBody>
      </p:sp>
      <p:sp>
        <p:nvSpPr>
          <p:cNvPr id="239"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40" name="CasellaDiTesto 4"/>
          <p:cNvSpPr/>
          <p:nvPr/>
        </p:nvSpPr>
        <p:spPr>
          <a:xfrm>
            <a:off x="533520" y="1828800"/>
            <a:ext cx="9574200" cy="5306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ll’altro lato, i confidi di I grado potrebbero mantenere il proprio ancoraggio sul territorio e continuerebbero a svolgere la propria funzione operativa e commerciale e a concedere garanzie alle imprese di cui sarebbero, comunque, l’interlocutore diretto.</a:t>
            </a:r>
            <a:endParaRPr b="0" lang="en-US" sz="1800" spc="-1" strike="noStrike">
              <a:solidFill>
                <a:srgbClr val="000000"/>
              </a:solidFill>
              <a:latin typeface="Arial"/>
            </a:endParaRPr>
          </a:p>
          <a:p>
            <a:pPr marL="457200" indent="-457200">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riticità: </a:t>
            </a:r>
            <a:endParaRPr b="0" lang="en-US" sz="1800" spc="-1" strike="noStrike">
              <a:solidFill>
                <a:srgbClr val="000000"/>
              </a:solidFill>
              <a:latin typeface="Arial"/>
            </a:endParaRPr>
          </a:p>
          <a:p>
            <a:pPr lvl="1" marL="914400" indent="-457200">
              <a:lnSpc>
                <a:spcPct val="100000"/>
              </a:lnSpc>
              <a:buClr>
                <a:srgbClr val="000000"/>
              </a:buClr>
              <a:buFont typeface="Arial"/>
              <a:buAutoNum type="arabicPeriod"/>
              <a:tabLst>
                <a:tab algn="l" pos="3636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riconoscimento delle contro-garanzie. Allo stato attuale, escludendo il caso dell’approccio IRB avanzato, dove sono le banche a proporre gli standard di valutazione delle garanzie utilizzabili per la mitigazione del rischio, sono ammessi come contro-garanti gli Stati, le Agenzie multilaterali di sviluppo, gli Enti locali o altri Enti del settore pubblico.  Non sono citati dalla normativa  gli intermediari finanziari, le banche, i confidi di II grado e i fondi interconsortili, a meno che non siano a loro volta “garantiti” dai soggetti specificatamente ammessi come contro-garanti</a:t>
            </a:r>
            <a:endParaRPr b="0" lang="en-US" sz="1800" spc="-1" strike="noStrike">
              <a:solidFill>
                <a:srgbClr val="000000"/>
              </a:solidFill>
              <a:latin typeface="Arial"/>
            </a:endParaRPr>
          </a:p>
          <a:p>
            <a:pPr lvl="1" marL="914400" indent="-457200">
              <a:lnSpc>
                <a:spcPct val="100000"/>
              </a:lnSpc>
              <a:buClr>
                <a:srgbClr val="000000"/>
              </a:buClr>
              <a:buFont typeface="Arial"/>
              <a:buAutoNum type="arabicPeriod"/>
              <a:tabLst>
                <a:tab algn="l" pos="3636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governance di un confidi di II grado. Secondo la normativa nazionale, non possono partecipare al capitale dei confidi, di I o II grado, enti pubblici o privati e imprese di  grandi dimensioni, a meno che non fossero già soci al momento dell’entrata in vigore della legge. Ciò significa che le banche, piuttosto che gli enti camerali possono solo fornire contributi o garanzie senza potersi configurare in alcun modo come soci finanziatori, ipotesi a cui si era pensato in vista della trasformazione dei confidi in intermediari ex art 107</a:t>
            </a:r>
            <a:endParaRPr b="0" lang="en-US" sz="1800" spc="-1" strike="noStrike">
              <a:solidFill>
                <a:srgbClr val="000000"/>
              </a:solidFill>
              <a:latin typeface="Arial"/>
            </a:endParaRPr>
          </a:p>
        </p:txBody>
      </p:sp>
      <p:sp>
        <p:nvSpPr>
          <p:cNvPr id="241"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costituzione di un confidi di secondo grado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Conclusioni</a:t>
            </a:r>
            <a:endParaRPr b="1" i="1" lang="en-US" sz="3000" spc="-1" strike="noStrike">
              <a:solidFill>
                <a:srgbClr val="000000"/>
              </a:solidFill>
              <a:latin typeface="Arial"/>
            </a:endParaRPr>
          </a:p>
        </p:txBody>
      </p:sp>
      <p:sp>
        <p:nvSpPr>
          <p:cNvPr id="243"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44" name="CasellaDiTesto 4"/>
          <p:cNvSpPr/>
          <p:nvPr/>
        </p:nvSpPr>
        <p:spPr>
          <a:xfrm>
            <a:off x="533520" y="1359000"/>
            <a:ext cx="9574200" cy="5031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nuova regolamentazione prudenziale propone novità per il sistema delle garanzie ma impone, al tempo stesso, un percorso di riposizionamento strategico, di riorganizzazione interna e di ripensamento funzionale che richiede notevoli risorse, non solo economiche </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Banca d’Italia ha stimato in almeno 500.000 euro annui il costo di adeguamento allo status di intermediario finanziario vigilato ex art. 107, status che rappresenta una sorta di conditio sine qua non per poter continuare a operare con efficacia sul mercato delle garanzie</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tratta, evidentemente, di uno sforzo che pochi confidi possono o vogliono affrontare e che impone una scelta tra il continuare a operare come confidi “normale”, iscrivendosi all’elenco previsto dall’art. 106 del TUB, e l’intraprendere un percorso di aggregazione in un nuovo soggetto o di adesione a strutture già operanti sul territorio</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o stato attuale, solo pochi soggetti  - Federfidi e Artigiancredit tra i confidi di II grado, Confidi Province Lombarde, Confidi Lombardia (in considerazione del completamento del processo di aggregazione in corso) e Artigianfidi Varese tra quelli di I grado - del sistema lombardo potrebbero aderire all’elenco ex art 1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Conclusioni (2)</a:t>
            </a:r>
            <a:endParaRPr b="1" i="1" lang="en-US" sz="3000" spc="-1" strike="noStrike">
              <a:solidFill>
                <a:srgbClr val="000000"/>
              </a:solidFill>
              <a:latin typeface="Arial"/>
            </a:endParaRPr>
          </a:p>
        </p:txBody>
      </p:sp>
      <p:sp>
        <p:nvSpPr>
          <p:cNvPr id="246"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47" name="CasellaDiTesto 4"/>
          <p:cNvSpPr/>
          <p:nvPr/>
        </p:nvSpPr>
        <p:spPr>
          <a:xfrm>
            <a:off x="533520" y="1359000"/>
            <a:ext cx="9574200" cy="5580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normativa è, d’altra parte, esplicita sulle conseguenze a cui andrebbero incontro quei confidi che, pur tenuti all’iscrizione all’elenco ex art. 107 da un punto di vista “quantitativo” non provvedessero ad adeguarsi alle regole prudenziali previste dalla Banca d’Italia. A partire dal momento di entrata in vigore del decreto attuativo, infatti, disporrebbero di 12 mesi per rientrare nei parametri prudenziali richiesti. Scaduto tale termine, i confidi “non virtuosi” sarebbero tenuti, entro 6 mesi, a ricondurre il proprio volume di attività finanziaria al di sotto dei 75 milioni di euro. In caso di ulteriore inadempienza, tali confidi non solo non rientrerebbero nell’elenco speciale ex art. 107, ma sarebbero anche cancellati dall’elenco generale ex art. 106</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ffetto combinato dei costi richiesti dal passaggio obbligato al modello “107” e delle conseguenze possibili in caso di inadempienza ha favorito il diffondersi tra alcuni addetti ai lavori di ipotesi – più o meno realistiche –  di ridimensionamento “spontaneo” di alcuni confidi maggiori, in attesa di valutare, sul campo,  le possibili soluzioni una volta entrato a regime Basilea 2</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ambiamenti imposti da Basilea 2, dalla direttiva europea e dalla legge quadro vanno a incidere, inevitabilmente, anche sui rapporti, istituzionali, finanziari, operativi che nel corso degli anni si sono andati consolidando tra il sistema camerale e il sistema dei confid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Conclusioni (3)</a:t>
            </a:r>
            <a:endParaRPr b="1" i="1" lang="en-US" sz="3000" spc="-1" strike="noStrike">
              <a:solidFill>
                <a:srgbClr val="000000"/>
              </a:solidFill>
              <a:latin typeface="Arial"/>
            </a:endParaRPr>
          </a:p>
        </p:txBody>
      </p:sp>
      <p:sp>
        <p:nvSpPr>
          <p:cNvPr id="249"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50" name="CasellaDiTesto 4"/>
          <p:cNvSpPr/>
          <p:nvPr/>
        </p:nvSpPr>
        <p:spPr>
          <a:xfrm>
            <a:off x="533520" y="1359000"/>
            <a:ext cx="9574200" cy="4757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sistema camerale può sostenere e incentivare il percorso di trasformazione e razionalizzazione del sistema, per metterlo nelle condizioni di operare con efficienza sul mercato delle garanzie ma anche per preservarne e consolidarne il ruolo di accompagnamento delle imprese sul mercato del credito </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le funzione può svolgersi su due diversi livelli:</a:t>
            </a:r>
            <a:endParaRPr b="0" lang="en-US" sz="1800" spc="-1" strike="noStrike">
              <a:solidFill>
                <a:srgbClr val="000000"/>
              </a:solidFill>
              <a:latin typeface="Arial"/>
            </a:endParaRPr>
          </a:p>
          <a:p>
            <a:pPr lvl="1" marL="914400" indent="-457200">
              <a:lnSpc>
                <a:spcPct val="100000"/>
              </a:lnSpc>
              <a:buClr>
                <a:srgbClr val="000000"/>
              </a:buClr>
              <a:buFont typeface="Arial"/>
              <a:buAutoNum type="arabicPeriod"/>
              <a:tabLst>
                <a:tab algn="l" pos="3636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livello di coordinamento e condivisione di proposte</a:t>
            </a:r>
            <a:endParaRPr b="0" lang="en-US" sz="1800" spc="-1" strike="noStrike">
              <a:solidFill>
                <a:srgbClr val="000000"/>
              </a:solidFill>
              <a:latin typeface="Arial"/>
            </a:endParaRPr>
          </a:p>
          <a:p>
            <a:pPr lvl="1" marL="914400" indent="-457200">
              <a:lnSpc>
                <a:spcPct val="100000"/>
              </a:lnSpc>
              <a:buClr>
                <a:srgbClr val="000000"/>
              </a:buClr>
              <a:buFont typeface="Arial"/>
              <a:buAutoNum type="arabicPeriod"/>
              <a:tabLst>
                <a:tab algn="l" pos="3636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livello di indirizzo e di accompagnamento operativo</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primo caso, il sistema camerale favorisce la comunicazione tra i diversi attori che, direttamente o indirettamente, operano sul mercato delle garanzie. Si tratta di svolgere la funzione di canale di dialogo, di confronto, di relazioni che permetta di superare il gap informativo e comunicativo che ha finora caratterizzato i rapporti tra questi soggetti. </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tratta di tentare di superare quella logica settoriale e/o localistica che caratterizza generalmente i rapporti tra Camere, Associazioni, confidi,  favorendo invece un approccio intersettoriale e basato su una visione su scala regionale del fenome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Conclusioni (4)</a:t>
            </a:r>
            <a:endParaRPr b="1" i="1" lang="en-US" sz="3000" spc="-1" strike="noStrike">
              <a:solidFill>
                <a:srgbClr val="000000"/>
              </a:solidFill>
              <a:latin typeface="Arial"/>
            </a:endParaRPr>
          </a:p>
        </p:txBody>
      </p:sp>
      <p:sp>
        <p:nvSpPr>
          <p:cNvPr id="252"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53" name="CasellaDiTesto 4"/>
          <p:cNvSpPr/>
          <p:nvPr/>
        </p:nvSpPr>
        <p:spPr>
          <a:xfrm>
            <a:off x="533520" y="1359000"/>
            <a:ext cx="9574200" cy="25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secondo caso, le Camere di commercio possono cercare di indirizzare il processo di riposizionamento strategico dei confidi, facendo leva, ad esempio, sullo strumento dei contributi finanziari  che costituiscono uno dei principali strumenti di sostegno per il sistema delle garanzie </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può, dunque, tentare di delineare, pur con tutte le cautele del caso e con la consapevolezza di non esaurire affatto le possibili alternative sul tappeto, alcune ipotetiche linee di indirizzo, che tengono conto delle suggestioni, dei commenti e delle proposte emerse nel corso dei colloqui e delle interviste effettuati nel corso dell’indag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Finalità e risultati dei contributi</a:t>
            </a:r>
            <a:endParaRPr b="1" i="1" lang="en-US" sz="3000" spc="-1" strike="noStrike">
              <a:solidFill>
                <a:srgbClr val="000000"/>
              </a:solidFill>
              <a:latin typeface="Arial"/>
            </a:endParaRPr>
          </a:p>
        </p:txBody>
      </p:sp>
      <p:sp>
        <p:nvSpPr>
          <p:cNvPr id="98" name="CasellaDiTesto 11"/>
          <p:cNvSpPr/>
          <p:nvPr/>
        </p:nvSpPr>
        <p:spPr>
          <a:xfrm>
            <a:off x="557280" y="1424160"/>
            <a:ext cx="9574200" cy="530604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interventi del sistema camerale sono stati modulati sulla base di specifici obiettivi, riformulati nel corso degli anni, secondo strategie basate su:</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siderazioni di ordine economico e/o sistemico: gli interventi a supporto dei confidi sono decisi in base a considerazioni legate ai trend economico-finanziari locali, ad esempio tenendo conto delle dinamiche del tessuto produttivo locale, dell’andamento dei tassi di interesse o, più in generale, delle condizioni di accesso al credito imposte dalle banche </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utazioni di merito sull’efficacia e l’efficienza dei confidi, finalizzate a  premiare i confidi “virtuosi” dal punto di vista del volume di garanzie concesse, del moltiplicatore, del contenimento dei costi e delle commissioni richieste alle aziende che accedono ai servizi dei confidi</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alcuni casi, invece, gli interventi del sistema camerale sono basati su meccanismi standardizzati, nell’ottica di strategie a medio-lungo termine che puntano a garantire un sostegno efficace e continuativo nel tempo alla totalità del sistema delle garanzie</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genere, gli interventi a favore dei confidi sembrano aver garantito le condizioni  essenziali per permettere a queste strutture di operare con efficacia a favore del sistema delle PMI e delle imprese artigi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Conclusioni (5)</a:t>
            </a:r>
            <a:endParaRPr b="1" i="1" lang="en-US" sz="3000" spc="-1" strike="noStrike">
              <a:solidFill>
                <a:srgbClr val="000000"/>
              </a:solidFill>
              <a:latin typeface="Arial"/>
            </a:endParaRPr>
          </a:p>
        </p:txBody>
      </p:sp>
      <p:sp>
        <p:nvSpPr>
          <p:cNvPr id="255"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56"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cessione di contributi ai confidi 107</a:t>
            </a:r>
            <a:endParaRPr b="0" lang="en-US" sz="1800" spc="-1" strike="noStrike">
              <a:solidFill>
                <a:srgbClr val="000000"/>
              </a:solidFill>
              <a:latin typeface="Arial"/>
            </a:endParaRPr>
          </a:p>
        </p:txBody>
      </p:sp>
      <p:sp>
        <p:nvSpPr>
          <p:cNvPr id="257" name="CasellaDiTesto 4"/>
          <p:cNvSpPr/>
          <p:nvPr/>
        </p:nvSpPr>
        <p:spPr>
          <a:xfrm>
            <a:off x="533520" y="1828800"/>
            <a:ext cx="9574200" cy="4757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nfidi 106, operando in maniera autonoma, vedrebbero le proprie garanzie private, di fatto, della capacità di mitigare il rischio delle imprese e sarebbero destinati a un progressivo declino </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Camere di commercio potrebbero quindi decidere di destinare i propri contributi unicamente al sostegno dell’operatività di confidi iscritti all’elenco speciale ex art. 107</a:t>
            </a:r>
            <a:endParaRPr b="0" lang="en-US" sz="1800" spc="-1" strike="noStrike">
              <a:solidFill>
                <a:srgbClr val="000000"/>
              </a:solidFill>
              <a:latin typeface="Arial"/>
            </a:endParaRPr>
          </a:p>
          <a:p>
            <a:pPr marL="457200" indent="-457200">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centivo per i confidi 106 a intraprendere un percorso di aggregazione/fusione/crescita </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ffre la possibilità di concentrare (aumentandone l’efficacia) gli interventi su pochi soggetti-target, potenziandone e consolidandone la capacità di intervento a  favore delle imprese</a:t>
            </a:r>
            <a:endParaRPr b="0" lang="en-US" sz="1800" spc="-1" strike="noStrike">
              <a:solidFill>
                <a:srgbClr val="000000"/>
              </a:solidFill>
              <a:latin typeface="Arial"/>
            </a:endParaRPr>
          </a:p>
          <a:p>
            <a:pPr marL="457200" indent="-457200">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Camere di commercio, stante la normativa attuale, non potrebbero proporsi come “azionisti” di questi confidi ma potrebbero comunque offrire una copertura “politica”, oltre che finanziaria, che questi confidi potrebbero utilizzare nei rapporti con il sistema banc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Conclusioni (6)</a:t>
            </a:r>
            <a:endParaRPr b="1" i="1" lang="en-US" sz="3000" spc="-1" strike="noStrike">
              <a:solidFill>
                <a:srgbClr val="000000"/>
              </a:solidFill>
              <a:latin typeface="Arial"/>
            </a:endParaRPr>
          </a:p>
        </p:txBody>
      </p:sp>
      <p:sp>
        <p:nvSpPr>
          <p:cNvPr id="259"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60"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cessione di contributi ai confidi 107 (2)</a:t>
            </a:r>
            <a:endParaRPr b="0" lang="en-US" sz="1800" spc="-1" strike="noStrike">
              <a:solidFill>
                <a:srgbClr val="000000"/>
              </a:solidFill>
              <a:latin typeface="Arial"/>
            </a:endParaRPr>
          </a:p>
        </p:txBody>
      </p:sp>
      <p:sp>
        <p:nvSpPr>
          <p:cNvPr id="261" name="CasellaDiTesto 4"/>
          <p:cNvSpPr/>
          <p:nvPr/>
        </p:nvSpPr>
        <p:spPr>
          <a:xfrm>
            <a:off x="533520" y="1828800"/>
            <a:ext cx="9574200" cy="2837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celta di premiare i confidi una volta che siano in possesso dei requisiti previsti per il modello 107 potrebbe apparire penalizzante (e per certi versi ostile, alzando di fatto le barriere all’entrata nel “mercato”) per quei progetti di aggregazione/fusione che ancora non abbiano raggiunto la soglia critica e che beneficerebbero, invece, di un sostegno camerale</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o stesso tempo, bisogna considerare la variabile esterna costituita dai due confidi extraregionali: applicando in maniera neutrale questa regola, i contributi andrebbero concessi anche a questi due soggetti, in quanto operanti comunque in Lombardia e a favore di imprese lombarde, penalizzando i confidi del territori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Conclusioni (7)</a:t>
            </a:r>
            <a:endParaRPr b="1" i="1" lang="en-US" sz="3000" spc="-1" strike="noStrike">
              <a:solidFill>
                <a:srgbClr val="000000"/>
              </a:solidFill>
              <a:latin typeface="Arial"/>
            </a:endParaRPr>
          </a:p>
        </p:txBody>
      </p:sp>
      <p:sp>
        <p:nvSpPr>
          <p:cNvPr id="263"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64"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cessione di contributi finalizzati a programmi di aggregazione</a:t>
            </a:r>
            <a:endParaRPr b="0" lang="en-US" sz="1800" spc="-1" strike="noStrike">
              <a:solidFill>
                <a:srgbClr val="000000"/>
              </a:solidFill>
              <a:latin typeface="Arial"/>
            </a:endParaRPr>
          </a:p>
        </p:txBody>
      </p:sp>
      <p:sp>
        <p:nvSpPr>
          <p:cNvPr id="265" name="CasellaDiTesto 4"/>
          <p:cNvSpPr/>
          <p:nvPr/>
        </p:nvSpPr>
        <p:spPr>
          <a:xfrm>
            <a:off x="533520" y="1828800"/>
            <a:ext cx="9574200" cy="5306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questa fase di transizione, le Camere di commercio potrebbero decidere di utilizzare la leva dei contributi finanziari per incentivare i progetti di aggregazione,  garantendone il flusso solo verso quei confidi che si siano attivamente impegnati in questo percorso </a:t>
            </a:r>
            <a:endParaRPr b="0" lang="en-US" sz="1800" spc="-1" strike="noStrike">
              <a:solidFill>
                <a:srgbClr val="000000"/>
              </a:solidFill>
              <a:latin typeface="Arial"/>
            </a:endParaRPr>
          </a:p>
          <a:p>
            <a:pPr marL="457200" indent="-457200">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le scelta potrebbe avere un duplice effetto:</a:t>
            </a:r>
            <a:endParaRPr b="0" lang="en-US" sz="1800" spc="-1" strike="noStrike">
              <a:solidFill>
                <a:srgbClr val="000000"/>
              </a:solidFill>
              <a:latin typeface="Arial"/>
            </a:endParaRPr>
          </a:p>
          <a:p>
            <a:pPr lvl="1" marL="914400" indent="-457200">
              <a:lnSpc>
                <a:spcPct val="100000"/>
              </a:lnSpc>
              <a:buClr>
                <a:srgbClr val="000000"/>
              </a:buClr>
              <a:buFont typeface="Arial"/>
              <a:buAutoNum type="arabicPeriod"/>
              <a:tabLst>
                <a:tab algn="l" pos="3636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 un lato, sostenere e incoraggiare gli sforzi dei confidi che si stanno adeguando ai nuovi parametri, alimentandone i fondi rischi e permettendo di migliorarne la capienza, la redditività  e la capacità di negoziazione e di marketing (a questo proposito rimane comunque aperta la questione del vincolo di destinazione dei fondi concessi dal sistema camerale)</a:t>
            </a:r>
            <a:endParaRPr b="0" lang="en-US" sz="1800" spc="-1" strike="noStrike">
              <a:solidFill>
                <a:srgbClr val="000000"/>
              </a:solidFill>
              <a:latin typeface="Arial"/>
            </a:endParaRPr>
          </a:p>
          <a:p>
            <a:pPr lvl="1" marL="914400" indent="-457200">
              <a:lnSpc>
                <a:spcPct val="100000"/>
              </a:lnSpc>
              <a:buClr>
                <a:srgbClr val="000000"/>
              </a:buClr>
              <a:buFont typeface="Arial"/>
              <a:buAutoNum type="arabicPeriod"/>
              <a:tabLst>
                <a:tab algn="l" pos="3636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all’altro,  esercitare una sorta di “moral suasion” verso quei confidi che ancora non abbiano intrapreso seri programmi di riposizionamento e di riorganizzazione</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Camere di commercio potrebbero, d’altra parte, cercare di indirizzare i progetti di aggregazione verso soluzioni che siano capaci di consolidare le fondamenta (finanziarie) del sistema. Allo stato attuale, infatti, le aggregazioni avvengono tendenzialmente solo a livello intra-settoriale (talvolta senza una visione unitaria, ma puntando a costruire poli alternativi di aggregazione, si pensi al caso dei confidi industriali o di quelli agricoli) e non invece su base territor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Conclusioni (8)</a:t>
            </a:r>
            <a:endParaRPr b="1" i="1" lang="en-US" sz="3000" spc="-1" strike="noStrike">
              <a:solidFill>
                <a:srgbClr val="000000"/>
              </a:solidFill>
              <a:latin typeface="Arial"/>
            </a:endParaRPr>
          </a:p>
        </p:txBody>
      </p:sp>
      <p:sp>
        <p:nvSpPr>
          <p:cNvPr id="267"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68"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cessione di contributi finalizzati a programmi di aggregazione (2)</a:t>
            </a:r>
            <a:endParaRPr b="0" lang="en-US" sz="1800" spc="-1" strike="noStrike">
              <a:solidFill>
                <a:srgbClr val="000000"/>
              </a:solidFill>
              <a:latin typeface="Arial"/>
            </a:endParaRPr>
          </a:p>
        </p:txBody>
      </p:sp>
      <p:sp>
        <p:nvSpPr>
          <p:cNvPr id="269" name="CasellaDiTesto 4"/>
          <p:cNvSpPr/>
          <p:nvPr/>
        </p:nvSpPr>
        <p:spPr>
          <a:xfrm>
            <a:off x="533520" y="1828800"/>
            <a:ext cx="957420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ggregazione per settori, come si è avuto modo di affermare nel capitolo precedente, se presenta il vantaggio di basarsi su un tessuto sociale, relazionale, associativo condiviso che potrebbe favorire il processo, evidenzia anche criticità </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pericolo è che processi di aggregazione di questo tipo accentuino la correlazione tra le performances economiche e finanziarie delle imprese garantite, aumentando il rischio, quanto meno teorico, di default</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un processo di aggregazione intersettoriale il grado di correlazione tra le imprese diminuisce e si diversifica di conseguenza il portafoglio-rischi dei confidi</a:t>
            </a:r>
            <a:endParaRPr b="0" lang="en-US" sz="1800" spc="-1" strike="noStrike">
              <a:solidFill>
                <a:srgbClr val="000000"/>
              </a:solidFill>
              <a:latin typeface="Arial"/>
            </a:endParaRPr>
          </a:p>
          <a:p>
            <a:pPr marL="457200" indent="-457200">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Camere di commercio potrebbero pertanto favorire e incentivare percorsi di convergenza tra confidi appartenenti a categorie e associazioni diverse, al fine di creare strutture finanziariamente sol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Conclusioni (9)</a:t>
            </a:r>
            <a:endParaRPr b="1" i="1" lang="en-US" sz="3000" spc="-1" strike="noStrike">
              <a:solidFill>
                <a:srgbClr val="000000"/>
              </a:solidFill>
              <a:latin typeface="Arial"/>
            </a:endParaRPr>
          </a:p>
        </p:txBody>
      </p:sp>
      <p:sp>
        <p:nvSpPr>
          <p:cNvPr id="271"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72" name="CasellaDiTesto 5"/>
          <p:cNvSpPr/>
          <p:nvPr/>
        </p:nvSpPr>
        <p:spPr>
          <a:xfrm>
            <a:off x="557280" y="1424160"/>
            <a:ext cx="9574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chema relativo alla concessione di contributi finalizzati a sostenere processi di aggregazione</a:t>
            </a:r>
            <a:endParaRPr b="0" lang="en-US" sz="1800" spc="-1" strike="noStrike">
              <a:solidFill>
                <a:srgbClr val="000000"/>
              </a:solidFill>
              <a:latin typeface="Arial"/>
            </a:endParaRPr>
          </a:p>
        </p:txBody>
      </p:sp>
      <p:grpSp>
        <p:nvGrpSpPr>
          <p:cNvPr id="273" name=""/>
          <p:cNvGrpSpPr/>
          <p:nvPr/>
        </p:nvGrpSpPr>
        <p:grpSpPr>
          <a:xfrm>
            <a:off x="853920" y="2095560"/>
            <a:ext cx="8746920" cy="4380840"/>
            <a:chOff x="853920" y="2095560"/>
            <a:chExt cx="8746920" cy="4380840"/>
          </a:xfrm>
        </p:grpSpPr>
        <p:sp>
          <p:nvSpPr>
            <p:cNvPr id="274" name=""/>
            <p:cNvSpPr/>
            <p:nvPr/>
          </p:nvSpPr>
          <p:spPr>
            <a:xfrm>
              <a:off x="853920" y="2381040"/>
              <a:ext cx="1619640" cy="3557520"/>
            </a:xfrm>
            <a:custGeom>
              <a:avLst/>
              <a:gdLst>
                <a:gd name="textAreaLeft" fmla="*/ 78840 w 1619640"/>
                <a:gd name="textAreaRight" fmla="*/ 1540800 w 1619640"/>
                <a:gd name="textAreaTop" fmla="*/ 78840 h 3557520"/>
                <a:gd name="textAreaBottom" fmla="*/ 3478680 h 3557520"/>
              </a:gdLst>
              <a:ahLst/>
              <a:rect l="textAreaLeft" t="textAreaTop" r="textAreaRight" b="textAreaBottom"/>
              <a:pathLst>
                <a:path w="21600" h="47438">
                  <a:moveTo>
                    <a:pt x="3600" y="0"/>
                  </a:moveTo>
                  <a:arcTo wR="3600" hR="3600" stAng="16200000" swAng="-5400000"/>
                  <a:lnTo>
                    <a:pt x="0" y="43838"/>
                  </a:lnTo>
                  <a:arcTo wR="3600" hR="3600" stAng="10800000" swAng="-5400000"/>
                  <a:lnTo>
                    <a:pt x="18000" y="47438"/>
                  </a:lnTo>
                  <a:arcTo wR="3600" hR="3600" stAng="5400000" swAng="-5400000"/>
                  <a:lnTo>
                    <a:pt x="21600" y="3600"/>
                  </a:lnTo>
                  <a:arcTo wR="3600" hR="3600" stAng="0" swAng="-5400000"/>
                  <a:close/>
                </a:path>
              </a:pathLst>
            </a:custGeom>
            <a:solidFill>
              <a:srgbClr val="ffff00"/>
            </a:solidFill>
            <a:ln w="0">
              <a:noFill/>
            </a:ln>
          </p:spPr>
          <p:style>
            <a:lnRef idx="0"/>
            <a:fillRef idx="0"/>
            <a:effectRef idx="0"/>
            <a:fontRef idx="minor"/>
          </p:style>
          <p:txBody>
            <a:bodyPr lIns="90000" rIns="90000" tIns="82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amera d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mmercio</a:t>
              </a:r>
              <a:endParaRPr b="0" lang="en-US" sz="1200" spc="-1" strike="noStrike">
                <a:solidFill>
                  <a:srgbClr val="000000"/>
                </a:solidFill>
                <a:latin typeface="Arial"/>
              </a:endParaRPr>
            </a:p>
          </p:txBody>
        </p:sp>
        <p:sp>
          <p:nvSpPr>
            <p:cNvPr id="275" name=""/>
            <p:cNvSpPr/>
            <p:nvPr/>
          </p:nvSpPr>
          <p:spPr>
            <a:xfrm>
              <a:off x="2797560" y="2502000"/>
              <a:ext cx="1619640" cy="839520"/>
            </a:xfrm>
            <a:custGeom>
              <a:avLst/>
              <a:gdLst>
                <a:gd name="textAreaLeft" fmla="*/ 253080 w 1619640"/>
                <a:gd name="textAreaRight" fmla="*/ 1417320 w 1619640"/>
                <a:gd name="textAreaTop" fmla="*/ 209880 h 839520"/>
                <a:gd name="textAreaBottom" fmla="*/ 629640 h 839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6" name=""/>
            <p:cNvSpPr/>
            <p:nvPr/>
          </p:nvSpPr>
          <p:spPr>
            <a:xfrm>
              <a:off x="2959920" y="2095560"/>
              <a:ext cx="1943640" cy="59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Contributi per</a:t>
              </a:r>
              <a:endParaRPr b="0" lang="en-US" sz="1200" spc="-1" strike="noStrike">
                <a:solidFill>
                  <a:srgbClr val="000000"/>
                </a:solidFill>
                <a:latin typeface="Arial"/>
              </a:endParaRPr>
            </a:p>
          </p:txBody>
        </p:sp>
        <p:sp>
          <p:nvSpPr>
            <p:cNvPr id="277" name=""/>
            <p:cNvSpPr/>
            <p:nvPr/>
          </p:nvSpPr>
          <p:spPr>
            <a:xfrm>
              <a:off x="4741200" y="2578320"/>
              <a:ext cx="2267640" cy="118584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ocessi d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ggregazion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inter-settoriale</a:t>
              </a:r>
              <a:endParaRPr b="0" lang="en-US" sz="1200" spc="-1" strike="noStrike">
                <a:solidFill>
                  <a:srgbClr val="000000"/>
                </a:solidFill>
                <a:latin typeface="Arial"/>
              </a:endParaRPr>
            </a:p>
          </p:txBody>
        </p:sp>
        <p:sp>
          <p:nvSpPr>
            <p:cNvPr id="278" name=""/>
            <p:cNvSpPr/>
            <p:nvPr/>
          </p:nvSpPr>
          <p:spPr>
            <a:xfrm>
              <a:off x="7171200" y="2578320"/>
              <a:ext cx="2267640" cy="118332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Si diversifica il portafoglio-rischi riducendo la correlazione tra le imprese garantit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9" name=""/>
            <p:cNvSpPr/>
            <p:nvPr/>
          </p:nvSpPr>
          <p:spPr>
            <a:xfrm>
              <a:off x="7333200" y="4698000"/>
              <a:ext cx="2267640" cy="177840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fidi 106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on ancora coinvolti in progetti di aggregazione </a:t>
              </a:r>
              <a:endParaRPr b="0" lang="en-US" sz="1200" spc="-1" strike="noStrike">
                <a:solidFill>
                  <a:srgbClr val="000000"/>
                </a:solidFill>
                <a:latin typeface="Arial"/>
              </a:endParaRPr>
            </a:p>
          </p:txBody>
        </p:sp>
        <p:sp>
          <p:nvSpPr>
            <p:cNvPr id="280" name=""/>
            <p:cNvSpPr/>
            <p:nvPr/>
          </p:nvSpPr>
          <p:spPr>
            <a:xfrm>
              <a:off x="3121560" y="4895640"/>
              <a:ext cx="4049640" cy="1383840"/>
            </a:xfrm>
            <a:prstGeom prst="rect">
              <a:avLst/>
            </a:prstGeom>
            <a:solidFill>
              <a:srgbClr val="ccffcc"/>
            </a:solidFill>
            <a:ln w="0">
              <a:noFill/>
            </a:ln>
          </p:spPr>
          <p:style>
            <a:lnRef idx="0"/>
            <a:fillRef idx="0"/>
            <a:effectRef idx="0"/>
            <a:fontRef idx="minor"/>
          </p:style>
          <p:txBody>
            <a:bodyPr lIns="90000" rIns="90000" tIns="82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Si incoraggiano i processi di aggregazione esercitando una “moral suasion” verso i  confidi che non hanno ancora avviato il processo di riposizionamento sul mercato delle garanzi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Conclusioni (10)</a:t>
            </a:r>
            <a:endParaRPr b="1" i="1" lang="en-US" sz="3000" spc="-1" strike="noStrike">
              <a:solidFill>
                <a:srgbClr val="000000"/>
              </a:solidFill>
              <a:latin typeface="Arial"/>
            </a:endParaRPr>
          </a:p>
        </p:txBody>
      </p:sp>
      <p:sp>
        <p:nvSpPr>
          <p:cNvPr id="282"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83"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ferimento di contributi in un fondo camerale regionale di garanzia</a:t>
            </a:r>
            <a:endParaRPr b="0" lang="en-US" sz="1800" spc="-1" strike="noStrike">
              <a:solidFill>
                <a:srgbClr val="000000"/>
              </a:solidFill>
              <a:latin typeface="Arial"/>
            </a:endParaRPr>
          </a:p>
        </p:txBody>
      </p:sp>
      <p:sp>
        <p:nvSpPr>
          <p:cNvPr id="284" name="CasellaDiTesto 15"/>
          <p:cNvSpPr/>
          <p:nvPr/>
        </p:nvSpPr>
        <p:spPr>
          <a:xfrm>
            <a:off x="533520" y="1828800"/>
            <a:ext cx="9574200" cy="3660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ar confluire i contributi finanziari delle Camere di commercio in un unico fondo regionale di garanzia </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ascuna Camera di commercio manterrebbe, secondo procedure da definire, il potere di vincolare l’utilizzo dei propri fondi conferiti al sostegno di determinate aree/settori, ma si gioverebbe di un moltiplicatore molto maggiore grazie alle dimensioni raggiunte dal fondo </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esta opzione estremizza l’ipotesi precedente e permettebbe di ridurre ulteriormente la correlazione tra le imprese e conseguentemente il rischio sistemico</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Questo fondo potrebbe anche configurarsi come intermediario di II livello, prestatore di co- e contro-garanzi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Conclusioni (11)</a:t>
            </a:r>
            <a:endParaRPr b="1" i="1" lang="en-US" sz="3000" spc="-1" strike="noStrike">
              <a:solidFill>
                <a:srgbClr val="000000"/>
              </a:solidFill>
              <a:latin typeface="Arial"/>
            </a:endParaRPr>
          </a:p>
        </p:txBody>
      </p:sp>
      <p:sp>
        <p:nvSpPr>
          <p:cNvPr id="286"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87"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ferimento di contributi in un fondo camerale regionale di garanzia (2)</a:t>
            </a:r>
            <a:endParaRPr b="0" lang="en-US" sz="1800" spc="-1" strike="noStrike">
              <a:solidFill>
                <a:srgbClr val="000000"/>
              </a:solidFill>
              <a:latin typeface="Arial"/>
            </a:endParaRPr>
          </a:p>
        </p:txBody>
      </p:sp>
      <p:sp>
        <p:nvSpPr>
          <p:cNvPr id="288" name="CasellaDiTesto 15"/>
          <p:cNvSpPr/>
          <p:nvPr/>
        </p:nvSpPr>
        <p:spPr>
          <a:xfrm>
            <a:off x="533520" y="1828800"/>
            <a:ext cx="957420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potesi ambiziosa e di difficile realizzazione, tenuto conto delle resistenze che si può essere chiamati ad affrontare operando su un piano tanto vasto come quello regionale</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ccorre tener conto del diverso peso che assumerebbero, inevitabilmente, nell’ambito del fondo le diverse Camere di commercio e la difficoltà di messa a punto del modello di governance</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bile alternativa all’ipotesi di costituzione di un fondo di garanzia regionale potrebbe consistere nel favorire una fusione tra gli attuali confidi di II grado operanti in regione  e conferendo all’unico confidi che ne deriverebbe i contributi camerali</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tal modo, l’operazione sarebbe più snella, basandosi sull’aggregazione di strutture di  II livello operanti già a livello regionale e potrebbe garantire la sopravvivenza dei confidi 106 più struttur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Conclusioni (12)</a:t>
            </a:r>
            <a:endParaRPr b="1" i="1" lang="en-US" sz="3000" spc="-1" strike="noStrike">
              <a:solidFill>
                <a:srgbClr val="000000"/>
              </a:solidFill>
              <a:latin typeface="Arial"/>
            </a:endParaRPr>
          </a:p>
        </p:txBody>
      </p:sp>
      <p:sp>
        <p:nvSpPr>
          <p:cNvPr id="290"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91" name="CasellaDiTesto 5"/>
          <p:cNvSpPr/>
          <p:nvPr/>
        </p:nvSpPr>
        <p:spPr>
          <a:xfrm>
            <a:off x="557280" y="1424160"/>
            <a:ext cx="9574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chema realtivo al conferimento di contributi camerali in un unico fondo di garanzia regionale</a:t>
            </a:r>
            <a:endParaRPr b="0" lang="en-US" sz="1800" spc="-1" strike="noStrike">
              <a:solidFill>
                <a:srgbClr val="000000"/>
              </a:solidFill>
              <a:latin typeface="Arial"/>
            </a:endParaRPr>
          </a:p>
        </p:txBody>
      </p:sp>
      <p:grpSp>
        <p:nvGrpSpPr>
          <p:cNvPr id="292" name=""/>
          <p:cNvGrpSpPr/>
          <p:nvPr/>
        </p:nvGrpSpPr>
        <p:grpSpPr>
          <a:xfrm>
            <a:off x="380880" y="2362320"/>
            <a:ext cx="9371880" cy="3504240"/>
            <a:chOff x="380880" y="2362320"/>
            <a:chExt cx="9371880" cy="3504240"/>
          </a:xfrm>
        </p:grpSpPr>
        <p:sp>
          <p:nvSpPr>
            <p:cNvPr id="293" name=""/>
            <p:cNvSpPr/>
            <p:nvPr/>
          </p:nvSpPr>
          <p:spPr>
            <a:xfrm>
              <a:off x="1232640" y="2362320"/>
              <a:ext cx="1193040" cy="1226880"/>
            </a:xfrm>
            <a:prstGeom prst="ellipse">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CCIAA</a:t>
              </a:r>
              <a:endParaRPr b="0" lang="en-US" sz="1000" spc="-1" strike="noStrike">
                <a:solidFill>
                  <a:srgbClr val="000000"/>
                </a:solidFill>
                <a:latin typeface="Arial"/>
              </a:endParaRPr>
            </a:p>
          </p:txBody>
        </p:sp>
        <p:sp>
          <p:nvSpPr>
            <p:cNvPr id="294" name=""/>
            <p:cNvSpPr/>
            <p:nvPr/>
          </p:nvSpPr>
          <p:spPr>
            <a:xfrm>
              <a:off x="1062360" y="4640400"/>
              <a:ext cx="1192320" cy="1226160"/>
            </a:xfrm>
            <a:prstGeom prst="ellipse">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CCIAA</a:t>
              </a:r>
              <a:endParaRPr b="0" lang="en-US" sz="1000" spc="-1" strike="noStrike">
                <a:solidFill>
                  <a:srgbClr val="000000"/>
                </a:solidFill>
                <a:latin typeface="Arial"/>
              </a:endParaRPr>
            </a:p>
          </p:txBody>
        </p:sp>
        <p:sp>
          <p:nvSpPr>
            <p:cNvPr id="295" name=""/>
            <p:cNvSpPr/>
            <p:nvPr/>
          </p:nvSpPr>
          <p:spPr>
            <a:xfrm>
              <a:off x="380880" y="3462120"/>
              <a:ext cx="1192320" cy="1226880"/>
            </a:xfrm>
            <a:prstGeom prst="ellipse">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CCIAA</a:t>
              </a:r>
              <a:endParaRPr b="0" lang="en-US" sz="1000" spc="-1" strike="noStrike">
                <a:solidFill>
                  <a:srgbClr val="000000"/>
                </a:solidFill>
                <a:latin typeface="Arial"/>
              </a:endParaRPr>
            </a:p>
          </p:txBody>
        </p:sp>
        <p:sp>
          <p:nvSpPr>
            <p:cNvPr id="296" name=""/>
            <p:cNvSpPr/>
            <p:nvPr/>
          </p:nvSpPr>
          <p:spPr>
            <a:xfrm>
              <a:off x="1914120" y="3413520"/>
              <a:ext cx="2215440" cy="1401840"/>
            </a:xfrm>
            <a:custGeom>
              <a:avLst/>
              <a:gdLst>
                <a:gd name="textAreaLeft" fmla="*/ 345960 w 2215440"/>
                <a:gd name="textAreaRight" fmla="*/ 1939680 w 2215440"/>
                <a:gd name="textAreaTop" fmla="*/ 376560 h 1401840"/>
                <a:gd name="textAreaBottom" fmla="*/ 1025280 h 1401840"/>
              </a:gdLst>
              <a:ahLst/>
              <a:rect l="textAreaLeft" t="textAreaTop" r="textAreaRight" b="textAreaBottom"/>
              <a:pathLst>
                <a:path w="21600" h="21600">
                  <a:moveTo>
                    <a:pt x="3375" y="5805"/>
                  </a:moveTo>
                  <a:lnTo>
                    <a:pt x="15785" y="5805"/>
                  </a:lnTo>
                  <a:lnTo>
                    <a:pt x="15785" y="0"/>
                  </a:lnTo>
                  <a:lnTo>
                    <a:pt x="21600" y="10800"/>
                  </a:lnTo>
                  <a:lnTo>
                    <a:pt x="15785" y="21600"/>
                  </a:lnTo>
                  <a:lnTo>
                    <a:pt x="15785" y="15795"/>
                  </a:lnTo>
                  <a:lnTo>
                    <a:pt x="3375" y="15795"/>
                  </a:lnTo>
                  <a:close/>
                </a:path>
                <a:path w="21600" h="21600">
                  <a:moveTo>
                    <a:pt x="0" y="5805"/>
                  </a:moveTo>
                  <a:lnTo>
                    <a:pt x="675" y="5805"/>
                  </a:lnTo>
                  <a:lnTo>
                    <a:pt x="675" y="15795"/>
                  </a:lnTo>
                  <a:lnTo>
                    <a:pt x="0" y="15795"/>
                  </a:lnTo>
                  <a:close/>
                </a:path>
                <a:path w="21600" h="21600">
                  <a:moveTo>
                    <a:pt x="1350" y="5805"/>
                  </a:moveTo>
                  <a:lnTo>
                    <a:pt x="2700" y="5805"/>
                  </a:lnTo>
                  <a:lnTo>
                    <a:pt x="2700" y="15795"/>
                  </a:lnTo>
                  <a:lnTo>
                    <a:pt x="1350" y="15795"/>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4299840" y="3589200"/>
              <a:ext cx="2215440" cy="105120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Fondo di garanzia regionale intercamerale</a:t>
              </a:r>
              <a:endParaRPr b="0" lang="en-US" sz="1200" spc="-1" strike="noStrike">
                <a:solidFill>
                  <a:srgbClr val="000000"/>
                </a:solidFill>
                <a:latin typeface="Arial"/>
              </a:endParaRPr>
            </a:p>
          </p:txBody>
        </p:sp>
        <p:sp>
          <p:nvSpPr>
            <p:cNvPr id="298" name=""/>
            <p:cNvSpPr/>
            <p:nvPr/>
          </p:nvSpPr>
          <p:spPr>
            <a:xfrm>
              <a:off x="6685560" y="2888280"/>
              <a:ext cx="3067200" cy="227772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Le CCIAA mantengono il potere di vincolare l’utilizzo pro-quota del fondo per interventi mirati a livello geografico o settorial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Le dimensioni complessive del fondo influiscono positivamente sulla valutazione, da parte delle banche, delle garanzie prestat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Conclusioni (13)</a:t>
            </a:r>
            <a:endParaRPr b="1" i="1" lang="en-US" sz="3000" spc="-1" strike="noStrike">
              <a:solidFill>
                <a:srgbClr val="000000"/>
              </a:solidFill>
              <a:latin typeface="Arial"/>
            </a:endParaRPr>
          </a:p>
        </p:txBody>
      </p:sp>
      <p:sp>
        <p:nvSpPr>
          <p:cNvPr id="300"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01" name="CasellaDiTesto 5"/>
          <p:cNvSpPr/>
          <p:nvPr/>
        </p:nvSpPr>
        <p:spPr>
          <a:xfrm>
            <a:off x="557280" y="1424160"/>
            <a:ext cx="9574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chema relativo al conferimento di contributi camerali in un unico confidi regionale di II grado</a:t>
            </a:r>
            <a:endParaRPr b="0" lang="en-US" sz="1800" spc="-1" strike="noStrike">
              <a:solidFill>
                <a:srgbClr val="000000"/>
              </a:solidFill>
              <a:latin typeface="Arial"/>
            </a:endParaRPr>
          </a:p>
        </p:txBody>
      </p:sp>
      <p:grpSp>
        <p:nvGrpSpPr>
          <p:cNvPr id="302" name=""/>
          <p:cNvGrpSpPr/>
          <p:nvPr/>
        </p:nvGrpSpPr>
        <p:grpSpPr>
          <a:xfrm>
            <a:off x="609480" y="2057400"/>
            <a:ext cx="9067680" cy="4274640"/>
            <a:chOff x="609480" y="2057400"/>
            <a:chExt cx="9067680" cy="4274640"/>
          </a:xfrm>
        </p:grpSpPr>
        <p:sp>
          <p:nvSpPr>
            <p:cNvPr id="303" name=""/>
            <p:cNvSpPr/>
            <p:nvPr/>
          </p:nvSpPr>
          <p:spPr>
            <a:xfrm>
              <a:off x="1418760" y="3165840"/>
              <a:ext cx="1133640" cy="110772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CCIAA</a:t>
              </a:r>
              <a:endParaRPr b="0" lang="en-US" sz="1000" spc="-1" strike="noStrike">
                <a:solidFill>
                  <a:srgbClr val="000000"/>
                </a:solidFill>
                <a:latin typeface="Arial"/>
              </a:endParaRPr>
            </a:p>
          </p:txBody>
        </p:sp>
        <p:sp>
          <p:nvSpPr>
            <p:cNvPr id="304" name=""/>
            <p:cNvSpPr/>
            <p:nvPr/>
          </p:nvSpPr>
          <p:spPr>
            <a:xfrm>
              <a:off x="1257120" y="5223600"/>
              <a:ext cx="1132920" cy="110844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CCIAA</a:t>
              </a:r>
              <a:endParaRPr b="0" lang="en-US" sz="1000" spc="-1" strike="noStrike">
                <a:solidFill>
                  <a:srgbClr val="000000"/>
                </a:solidFill>
                <a:latin typeface="Arial"/>
              </a:endParaRPr>
            </a:p>
          </p:txBody>
        </p:sp>
        <p:sp>
          <p:nvSpPr>
            <p:cNvPr id="305" name=""/>
            <p:cNvSpPr/>
            <p:nvPr/>
          </p:nvSpPr>
          <p:spPr>
            <a:xfrm>
              <a:off x="609480" y="4159440"/>
              <a:ext cx="1132920" cy="110772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CCIAA</a:t>
              </a:r>
              <a:endParaRPr b="0" lang="en-US" sz="1000" spc="-1" strike="noStrike">
                <a:solidFill>
                  <a:srgbClr val="000000"/>
                </a:solidFill>
                <a:latin typeface="Arial"/>
              </a:endParaRPr>
            </a:p>
          </p:txBody>
        </p:sp>
        <p:sp>
          <p:nvSpPr>
            <p:cNvPr id="306" name=""/>
            <p:cNvSpPr/>
            <p:nvPr/>
          </p:nvSpPr>
          <p:spPr>
            <a:xfrm>
              <a:off x="2066400" y="4115520"/>
              <a:ext cx="2105280" cy="1266480"/>
            </a:xfrm>
            <a:custGeom>
              <a:avLst/>
              <a:gdLst>
                <a:gd name="textAreaLeft" fmla="*/ 328680 w 2105280"/>
                <a:gd name="textAreaRight" fmla="*/ 1843200 w 2105280"/>
                <a:gd name="textAreaTop" fmla="*/ 340200 h 1266480"/>
                <a:gd name="textAreaBottom" fmla="*/ 926280 h 1266480"/>
              </a:gdLst>
              <a:ahLst/>
              <a:rect l="textAreaLeft" t="textAreaTop" r="textAreaRight" b="textAreaBottom"/>
              <a:pathLst>
                <a:path w="21600" h="21600">
                  <a:moveTo>
                    <a:pt x="3375" y="5805"/>
                  </a:moveTo>
                  <a:lnTo>
                    <a:pt x="15785" y="5805"/>
                  </a:lnTo>
                  <a:lnTo>
                    <a:pt x="15785" y="0"/>
                  </a:lnTo>
                  <a:lnTo>
                    <a:pt x="21600" y="10800"/>
                  </a:lnTo>
                  <a:lnTo>
                    <a:pt x="15785" y="21600"/>
                  </a:lnTo>
                  <a:lnTo>
                    <a:pt x="15785" y="15795"/>
                  </a:lnTo>
                  <a:lnTo>
                    <a:pt x="3375" y="15795"/>
                  </a:lnTo>
                  <a:close/>
                </a:path>
                <a:path w="21600" h="21600">
                  <a:moveTo>
                    <a:pt x="0" y="5805"/>
                  </a:moveTo>
                  <a:lnTo>
                    <a:pt x="675" y="5805"/>
                  </a:lnTo>
                  <a:lnTo>
                    <a:pt x="675" y="15795"/>
                  </a:lnTo>
                  <a:lnTo>
                    <a:pt x="0" y="15795"/>
                  </a:lnTo>
                  <a:close/>
                </a:path>
                <a:path w="21600" h="21600">
                  <a:moveTo>
                    <a:pt x="1350" y="5805"/>
                  </a:moveTo>
                  <a:lnTo>
                    <a:pt x="2700" y="5805"/>
                  </a:lnTo>
                  <a:lnTo>
                    <a:pt x="2700" y="15795"/>
                  </a:lnTo>
                  <a:lnTo>
                    <a:pt x="1350" y="15795"/>
                  </a:lnTo>
                  <a:close/>
                </a:path>
              </a:pathLst>
            </a:custGeom>
            <a:solidFill>
              <a:srgbClr val="00ff00"/>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7" name=""/>
            <p:cNvSpPr/>
            <p:nvPr/>
          </p:nvSpPr>
          <p:spPr>
            <a:xfrm>
              <a:off x="2552400" y="4432320"/>
              <a:ext cx="1295280" cy="633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tributi</a:t>
              </a:r>
              <a:endParaRPr b="0" lang="en-US" sz="1200" spc="-1" strike="noStrike">
                <a:solidFill>
                  <a:srgbClr val="000000"/>
                </a:solidFill>
                <a:latin typeface="Arial"/>
              </a:endParaRPr>
            </a:p>
          </p:txBody>
        </p:sp>
        <p:sp>
          <p:nvSpPr>
            <p:cNvPr id="308" name=""/>
            <p:cNvSpPr/>
            <p:nvPr/>
          </p:nvSpPr>
          <p:spPr>
            <a:xfrm>
              <a:off x="4333320" y="4273560"/>
              <a:ext cx="2105280" cy="94968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fidi regionale di II grado</a:t>
              </a:r>
              <a:endParaRPr b="0" lang="en-US" sz="1200" spc="-1" strike="noStrike">
                <a:solidFill>
                  <a:srgbClr val="000000"/>
                </a:solidFill>
                <a:latin typeface="Arial"/>
              </a:endParaRPr>
            </a:p>
          </p:txBody>
        </p:sp>
        <p:sp>
          <p:nvSpPr>
            <p:cNvPr id="309" name=""/>
            <p:cNvSpPr/>
            <p:nvPr/>
          </p:nvSpPr>
          <p:spPr>
            <a:xfrm>
              <a:off x="6762600" y="4115520"/>
              <a:ext cx="2914560" cy="174096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Minori problemi di governance del nuovo confid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Strutture già esistenti che facilitano l’integrazione delle funzion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0" name=""/>
            <p:cNvSpPr/>
            <p:nvPr/>
          </p:nvSpPr>
          <p:spPr>
            <a:xfrm>
              <a:off x="2876400" y="2057400"/>
              <a:ext cx="2104560" cy="949680"/>
            </a:xfrm>
            <a:prstGeom prst="rect">
              <a:avLst/>
            </a:prstGeom>
            <a:solidFill>
              <a:srgbClr val="cc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rtigiancredit</a:t>
              </a:r>
              <a:endParaRPr b="0" lang="en-US" sz="1200" spc="-1" strike="noStrike">
                <a:solidFill>
                  <a:srgbClr val="000000"/>
                </a:solidFill>
                <a:latin typeface="Arial"/>
              </a:endParaRPr>
            </a:p>
          </p:txBody>
        </p:sp>
        <p:sp>
          <p:nvSpPr>
            <p:cNvPr id="311" name=""/>
            <p:cNvSpPr/>
            <p:nvPr/>
          </p:nvSpPr>
          <p:spPr>
            <a:xfrm>
              <a:off x="5466960" y="2057400"/>
              <a:ext cx="2104560" cy="949680"/>
            </a:xfrm>
            <a:prstGeom prst="rect">
              <a:avLst/>
            </a:prstGeom>
            <a:solidFill>
              <a:srgbClr val="cc99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Federfidi</a:t>
              </a:r>
              <a:endParaRPr b="0" lang="en-US" sz="1200" spc="-1" strike="noStrike">
                <a:solidFill>
                  <a:srgbClr val="000000"/>
                </a:solidFill>
                <a:latin typeface="Arial"/>
              </a:endParaRPr>
            </a:p>
          </p:txBody>
        </p:sp>
        <p:sp>
          <p:nvSpPr>
            <p:cNvPr id="312" name=""/>
            <p:cNvSpPr/>
            <p:nvPr/>
          </p:nvSpPr>
          <p:spPr>
            <a:xfrm>
              <a:off x="4980960" y="2215800"/>
              <a:ext cx="486000" cy="474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
              </a:r>
              <a:endParaRPr b="0" lang="en-US" sz="1800" spc="-1" strike="noStrike">
                <a:solidFill>
                  <a:srgbClr val="000000"/>
                </a:solidFill>
                <a:latin typeface="Arial"/>
              </a:endParaRPr>
            </a:p>
          </p:txBody>
        </p:sp>
        <p:sp>
          <p:nvSpPr>
            <p:cNvPr id="313" name=""/>
            <p:cNvSpPr/>
            <p:nvPr/>
          </p:nvSpPr>
          <p:spPr>
            <a:xfrm rot="5400000">
              <a:off x="4748760" y="1292760"/>
              <a:ext cx="949680" cy="4695480"/>
            </a:xfrm>
            <a:custGeom>
              <a:avLst/>
              <a:gdLst>
                <a:gd name="textAreaLeft" fmla="*/ 0 w 949680"/>
                <a:gd name="textAreaRight" fmla="*/ 950040 w 949680"/>
                <a:gd name="textAreaTop" fmla="*/ 0 h 4695480"/>
                <a:gd name="textAreaBottom" fmla="*/ 4695840 h 4695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99ff">
                <a:alpha val="3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14" name=""/>
          <p:cNvSpPr/>
          <p:nvPr/>
        </p:nvSpPr>
        <p:spPr>
          <a:xfrm>
            <a:off x="4343400" y="342900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ggregazion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Conclusioni (14)</a:t>
            </a:r>
            <a:endParaRPr b="1" i="1" lang="en-US" sz="3000" spc="-1" strike="noStrike">
              <a:solidFill>
                <a:srgbClr val="000000"/>
              </a:solidFill>
              <a:latin typeface="Arial"/>
            </a:endParaRPr>
          </a:p>
        </p:txBody>
      </p:sp>
      <p:sp>
        <p:nvSpPr>
          <p:cNvPr id="316"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17"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bolizione dei contributi ai confidi</a:t>
            </a:r>
            <a:endParaRPr b="0" lang="en-US" sz="1800" spc="-1" strike="noStrike">
              <a:solidFill>
                <a:srgbClr val="000000"/>
              </a:solidFill>
              <a:latin typeface="Arial"/>
            </a:endParaRPr>
          </a:p>
        </p:txBody>
      </p:sp>
      <p:sp>
        <p:nvSpPr>
          <p:cNvPr id="318" name="CasellaDiTesto 6"/>
          <p:cNvSpPr/>
          <p:nvPr/>
        </p:nvSpPr>
        <p:spPr>
          <a:xfrm>
            <a:off x="533520" y="1828800"/>
            <a:ext cx="957420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la nuova normativa, la concessione di contributi a tutti i confidi, modello 106 e 107, risulta inefficace e dispersiva, poiché l’ammontare dei contributi non è comunque sufficiente a garantire un salto di qualità determinante ai fini dell’efficacia delle garanzie</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ferma dei contributi al sistema rappresenterebbe un disincentivo ad avviare seri programmi di riposizionamento strategico, poiché i confidi, soprattutto i meno attrezzati, sarebbero indotti a mantenere una presenza indipendente sul territorio avulsa da valutazioni di utilità per le imprese</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urofidi e Unionfidi, che possono aspirare alla concessione di contributi in conto rischi, possono anche essi accedere ai contributi e, considerate le dimensioni di questi confidi, una quota notevole dei contributi andrebbe assegnata a loro, peggiorando ulteriormente la posizione competitiva dei confidi lombardi. L’esclusione dai contributi di questi due confidi configura invece una grave distorsione della concorrenz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Monitoraggio e valutazione dei risultati</a:t>
            </a:r>
            <a:endParaRPr b="1" i="1" lang="en-US" sz="3000" spc="-1" strike="noStrike">
              <a:solidFill>
                <a:srgbClr val="000000"/>
              </a:solidFill>
              <a:latin typeface="Arial"/>
            </a:endParaRPr>
          </a:p>
        </p:txBody>
      </p:sp>
      <p:sp>
        <p:nvSpPr>
          <p:cNvPr id="100" name="CasellaDiTesto 11"/>
          <p:cNvSpPr/>
          <p:nvPr/>
        </p:nvSpPr>
        <p:spPr>
          <a:xfrm>
            <a:off x="557280" y="1424160"/>
            <a:ext cx="9574200" cy="311148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 sono previsti, nella maggioranza dei casi, strumenti o procedure di monitoraggio per valutare e quantificare gli effetti che gli interventi camerali hanno sull’efficienza e sull’operatività dei confidi e i benefici che ne derivano per le imprese del territorio </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stono, d’altra parte, Camere di commercio che subordinano la concessione di contributi al raggiungimento, da parte dei singoli confidi, di obiettivi operativi minimi, che garantiscano un livello di efficienza adeguato agli standard qualitativi del sistema provinciale (es. sulla base di un livello minimo del moltiplicatore). </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trolli più stringenti sono, invece, previsti per monitorare la destinazione dei fondi concessi ai singoli confid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Conclusioni (15)</a:t>
            </a:r>
            <a:endParaRPr b="1" i="1" lang="en-US" sz="3000" spc="-1" strike="noStrike">
              <a:solidFill>
                <a:srgbClr val="000000"/>
              </a:solidFill>
              <a:latin typeface="Arial"/>
            </a:endParaRPr>
          </a:p>
        </p:txBody>
      </p:sp>
      <p:sp>
        <p:nvSpPr>
          <p:cNvPr id="320"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21"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bolizione dei contributi ai confidi (2)</a:t>
            </a:r>
            <a:endParaRPr b="0" lang="en-US" sz="1800" spc="-1" strike="noStrike">
              <a:solidFill>
                <a:srgbClr val="000000"/>
              </a:solidFill>
              <a:latin typeface="Arial"/>
            </a:endParaRPr>
          </a:p>
        </p:txBody>
      </p:sp>
      <p:sp>
        <p:nvSpPr>
          <p:cNvPr id="322" name="CasellaDiTesto 6"/>
          <p:cNvSpPr/>
          <p:nvPr/>
        </p:nvSpPr>
        <p:spPr>
          <a:xfrm>
            <a:off x="533520" y="1828800"/>
            <a:ext cx="9574200" cy="4757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assaggio da un contesto di “mutualità” a uno di “mercato” che la nuova normativa favorisce, assecondando politiche che antepongono la remunerazione del capitale al sostegno alle imprese</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Camere di commercio potrebbero decidere di sospendere l’erogazione di contributi a favore dei confidi, destinando tali somme al sostegno diretto del tessuto imprenditoriale</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confidi sarebbero obbligati a perseguire strategie di ottimizzazione delle risorse interne o di avvio di strategie efficaci di marketing o, ancora, di aggregazione / fusione per garantire patrimonializzazione e massa critica </a:t>
            </a: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Camere di commercio potrebbero utilizzare le risorse così “liberate” per politiche di supporto diretto alle imprese, optando per interventi mirati post-Basilea2 (assistenza e check up per la valutazione del livello di patrimonializzazione, per la valorizzazione di assets iscrivibili a patrimonio/capitale, individuazione di punti deboli o squilibri nella struttura finanziaria) oppure diffondendo tali risorse negli ambiti operativi ritenuti strategici per lo sviluppo del territo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Conclusioni (16)</a:t>
            </a:r>
            <a:endParaRPr b="1" i="1" lang="en-US" sz="3000" spc="-1" strike="noStrike">
              <a:solidFill>
                <a:srgbClr val="000000"/>
              </a:solidFill>
              <a:latin typeface="Arial"/>
            </a:endParaRPr>
          </a:p>
        </p:txBody>
      </p:sp>
      <p:sp>
        <p:nvSpPr>
          <p:cNvPr id="324"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25"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chema di ridefinizione delle politiche camerali di sostegno finanziario</a:t>
            </a:r>
            <a:endParaRPr b="0" lang="en-US" sz="1800" spc="-1" strike="noStrike">
              <a:solidFill>
                <a:srgbClr val="000000"/>
              </a:solidFill>
              <a:latin typeface="Arial"/>
            </a:endParaRPr>
          </a:p>
        </p:txBody>
      </p:sp>
      <p:sp>
        <p:nvSpPr>
          <p:cNvPr id="326" name="AutoShape 3"/>
          <p:cNvSpPr/>
          <p:nvPr/>
        </p:nvSpPr>
        <p:spPr>
          <a:xfrm>
            <a:off x="2362320" y="5181480"/>
            <a:ext cx="4495680" cy="1447920"/>
          </a:xfrm>
          <a:prstGeom prst="foldedCorner">
            <a:avLst>
              <a:gd name="adj" fmla="val 12500"/>
            </a:avLst>
          </a:prstGeom>
          <a:solidFill>
            <a:srgbClr val="99ccff">
              <a:alpha val="40000"/>
            </a:srgbClr>
          </a:solidFill>
          <a:ln w="9360">
            <a:solidFill>
              <a:srgbClr val="99cc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alibri"/>
              </a:rPr>
              <a:t>Finanziamento di interventi diretti post-Basilea 2</a:t>
            </a:r>
            <a:endParaRPr b="0" lang="en-US" sz="1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alibri"/>
              </a:rPr>
              <a:t>Servizi di check up della struttura finanziaria delle imprese</a:t>
            </a:r>
            <a:endParaRPr b="0" lang="en-US" sz="1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alibri"/>
              </a:rPr>
              <a:t>Assistenza per la valorizzazione assets immateriali</a:t>
            </a:r>
            <a:endParaRPr b="0" lang="en-US" sz="1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alibri"/>
              </a:rPr>
              <a:t>Altri interventi di interesse strategico</a:t>
            </a:r>
            <a:endParaRPr b="0" lang="en-US" sz="1400" spc="-1" strike="noStrike">
              <a:solidFill>
                <a:srgbClr val="000000"/>
              </a:solidFill>
              <a:latin typeface="Arial"/>
            </a:endParaRPr>
          </a:p>
        </p:txBody>
      </p:sp>
      <p:grpSp>
        <p:nvGrpSpPr>
          <p:cNvPr id="327" name=""/>
          <p:cNvGrpSpPr/>
          <p:nvPr/>
        </p:nvGrpSpPr>
        <p:grpSpPr>
          <a:xfrm>
            <a:off x="789120" y="1859040"/>
            <a:ext cx="8278200" cy="3322080"/>
            <a:chOff x="789120" y="1859040"/>
            <a:chExt cx="8278200" cy="3322080"/>
          </a:xfrm>
        </p:grpSpPr>
        <p:sp>
          <p:nvSpPr>
            <p:cNvPr id="328" name=""/>
            <p:cNvSpPr/>
            <p:nvPr/>
          </p:nvSpPr>
          <p:spPr>
            <a:xfrm>
              <a:off x="789120" y="1955160"/>
              <a:ext cx="984240" cy="1026720"/>
            </a:xfrm>
            <a:custGeom>
              <a:avLst/>
              <a:gdLst>
                <a:gd name="textAreaLeft" fmla="*/ 47880 w 984240"/>
                <a:gd name="textAreaRight" fmla="*/ 936360 w 984240"/>
                <a:gd name="textAreaTop" fmla="*/ 47880 h 1026720"/>
                <a:gd name="textAreaBottom" fmla="*/ 978840 h 1026720"/>
              </a:gdLst>
              <a:ahLst/>
              <a:rect l="textAreaLeft" t="textAreaTop" r="textAreaRight" b="textAreaBottom"/>
              <a:pathLst>
                <a:path w="21600" h="22532">
                  <a:moveTo>
                    <a:pt x="3600" y="0"/>
                  </a:moveTo>
                  <a:arcTo wR="3600" hR="3600" stAng="16200000" swAng="-5400000"/>
                  <a:lnTo>
                    <a:pt x="0" y="18932"/>
                  </a:lnTo>
                  <a:arcTo wR="3600" hR="3600" stAng="10800000" swAng="-5400000"/>
                  <a:lnTo>
                    <a:pt x="18000" y="22532"/>
                  </a:lnTo>
                  <a:arcTo wR="3600" hR="3600" stAng="5400000" swAng="-5400000"/>
                  <a:lnTo>
                    <a:pt x="21600" y="3600"/>
                  </a:lnTo>
                  <a:arcTo wR="3600" hR="3600" stAng="0" swAng="-5400000"/>
                  <a:close/>
                </a:path>
              </a:pathLst>
            </a:cu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CCIAA</a:t>
              </a:r>
              <a:endParaRPr b="0" lang="en-US" sz="1000" spc="-1" strike="noStrike">
                <a:solidFill>
                  <a:srgbClr val="000000"/>
                </a:solidFill>
                <a:latin typeface="Arial"/>
              </a:endParaRPr>
            </a:p>
          </p:txBody>
        </p:sp>
        <p:sp>
          <p:nvSpPr>
            <p:cNvPr id="329" name=""/>
            <p:cNvSpPr/>
            <p:nvPr/>
          </p:nvSpPr>
          <p:spPr>
            <a:xfrm>
              <a:off x="6836400" y="2299320"/>
              <a:ext cx="1874880" cy="880200"/>
            </a:xfrm>
            <a:prstGeom prst="flowChartMultidocument">
              <a:avLst/>
            </a:prstGeom>
            <a:solidFill>
              <a:srgbClr val="ccffcc"/>
            </a:solidFill>
            <a:ln w="936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Imprese</a:t>
              </a:r>
              <a:endParaRPr b="0" lang="en-US" sz="1000" spc="-1" strike="noStrike">
                <a:solidFill>
                  <a:srgbClr val="000000"/>
                </a:solidFill>
                <a:latin typeface="Arial"/>
              </a:endParaRPr>
            </a:p>
          </p:txBody>
        </p:sp>
        <p:sp>
          <p:nvSpPr>
            <p:cNvPr id="330" name=""/>
            <p:cNvSpPr/>
            <p:nvPr/>
          </p:nvSpPr>
          <p:spPr>
            <a:xfrm>
              <a:off x="3461040" y="2387160"/>
              <a:ext cx="1171800" cy="54216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fidi</a:t>
              </a:r>
              <a:endParaRPr b="0" lang="en-US" sz="1200" spc="-1" strike="noStrike">
                <a:solidFill>
                  <a:srgbClr val="000000"/>
                </a:solidFill>
                <a:latin typeface="Arial"/>
              </a:endParaRPr>
            </a:p>
          </p:txBody>
        </p:sp>
        <p:sp>
          <p:nvSpPr>
            <p:cNvPr id="331" name=""/>
            <p:cNvSpPr/>
            <p:nvPr/>
          </p:nvSpPr>
          <p:spPr>
            <a:xfrm rot="16200000">
              <a:off x="4437000" y="-182880"/>
              <a:ext cx="1122840" cy="8137800"/>
            </a:xfrm>
            <a:custGeom>
              <a:avLst/>
              <a:gdLst>
                <a:gd name="textAreaLeft" fmla="*/ 150120 w 1122840"/>
                <a:gd name="textAreaRight" fmla="*/ 972720 w 1122840"/>
                <a:gd name="textAreaTop" fmla="*/ 1596240 h 8137800"/>
                <a:gd name="textAreaBottom" fmla="*/ 5692680 h 8137800"/>
              </a:gdLst>
              <a:ahLst/>
              <a:rect l="textAreaLeft" t="textAreaTop" r="textAreaRight" b="textAreaBottom"/>
              <a:pathLst>
                <a:path w="21600" h="21600">
                  <a:moveTo>
                    <a:pt x="21600" y="0"/>
                  </a:moveTo>
                  <a:arcTo wR="21600" hR="8475" stAng="-5400000" swAng="-5400000"/>
                  <a:lnTo>
                    <a:pt x="0" y="10873"/>
                  </a:lnTo>
                  <a:arcTo wR="21600" hR="8475" stAng="10800000" swAng="-2878594"/>
                  <a:lnTo>
                    <a:pt x="14400" y="21115"/>
                  </a:lnTo>
                  <a:lnTo>
                    <a:pt x="21600" y="18148"/>
                  </a:lnTo>
                  <a:lnTo>
                    <a:pt x="14400" y="14211"/>
                  </a:lnTo>
                  <a:lnTo>
                    <a:pt x="14400" y="16464"/>
                  </a:lnTo>
                  <a:arcTo wR="21600" hR="8475" stAng="7921406" swAng="2686030"/>
                  <a:lnTo>
                    <a:pt x="217" y="9674"/>
                  </a:lnTo>
                  <a:arcTo wR="21600" hR="8475" stAng="-10607436" swAng="5207436"/>
                  <a:close/>
                </a:path>
                <a:path fill="darkenLess" w="21600" h="21600">
                  <a:moveTo>
                    <a:pt x="21600" y="0"/>
                  </a:moveTo>
                  <a:arcTo wR="21600" hR="8475" stAng="-5400000" swAng="-5400000"/>
                  <a:lnTo>
                    <a:pt x="0" y="8475"/>
                  </a:lnTo>
                  <a:arcTo wR="21600" hR="8475" stAng="10800000" swAng="-192564"/>
                  <a:lnTo>
                    <a:pt x="217" y="9674"/>
                  </a:lnTo>
                  <a:arcTo wR="21600" hR="8475" stAng="-10607436" swAng="5207436"/>
                  <a:close/>
                </a:path>
              </a:pathLst>
            </a:custGeom>
            <a:solidFill>
              <a:srgbClr val="00ff00"/>
            </a:solidFill>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
            <p:cNvSpPr/>
            <p:nvPr/>
          </p:nvSpPr>
          <p:spPr>
            <a:xfrm>
              <a:off x="2054520" y="4741200"/>
              <a:ext cx="5485320" cy="439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Utilizzo delle risorse finanziarie per il sostegno diretto alle imprese </a:t>
              </a:r>
              <a:endParaRPr b="0" lang="en-US" sz="1200" spc="-1" strike="noStrike">
                <a:solidFill>
                  <a:srgbClr val="000000"/>
                </a:solidFill>
                <a:latin typeface="Arial"/>
              </a:endParaRPr>
            </a:p>
          </p:txBody>
        </p:sp>
        <p:sp>
          <p:nvSpPr>
            <p:cNvPr id="333" name=""/>
            <p:cNvSpPr/>
            <p:nvPr/>
          </p:nvSpPr>
          <p:spPr>
            <a:xfrm>
              <a:off x="5008320" y="2387160"/>
              <a:ext cx="1625040" cy="623160"/>
            </a:xfrm>
            <a:custGeom>
              <a:avLst/>
              <a:gdLst>
                <a:gd name="textAreaLeft" fmla="*/ 253800 w 1625040"/>
                <a:gd name="textAreaRight" fmla="*/ 1422000 w 1625040"/>
                <a:gd name="textAreaTop" fmla="*/ 155520 h 623160"/>
                <a:gd name="textAreaBottom" fmla="*/ 467640 h 62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
            <p:cNvSpPr/>
            <p:nvPr/>
          </p:nvSpPr>
          <p:spPr>
            <a:xfrm>
              <a:off x="4445640" y="1859040"/>
              <a:ext cx="2250000" cy="528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Arial"/>
                </a:rPr>
                <a:t>Continuano la concessio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Arial"/>
                </a:rPr>
                <a:t>di garanzie</a:t>
              </a:r>
              <a:endParaRPr b="0" lang="en-US" sz="1000" spc="-1" strike="noStrike">
                <a:solidFill>
                  <a:srgbClr val="000000"/>
                </a:solidFill>
                <a:latin typeface="Arial"/>
              </a:endParaRPr>
            </a:p>
          </p:txBody>
        </p:sp>
        <p:sp>
          <p:nvSpPr>
            <p:cNvPr id="335" name=""/>
            <p:cNvSpPr/>
            <p:nvPr/>
          </p:nvSpPr>
          <p:spPr>
            <a:xfrm>
              <a:off x="3320640" y="3041280"/>
              <a:ext cx="3375360" cy="5868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Arial"/>
                </a:rPr>
                <a:t>Provvedono  autonomamente al propri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Arial"/>
                </a:rPr>
                <a:t> </a:t>
              </a:r>
              <a:r>
                <a:rPr b="1" i="1" lang="it-IT" sz="1000" spc="-1" strike="noStrike">
                  <a:solidFill>
                    <a:srgbClr val="000000"/>
                  </a:solidFill>
                  <a:latin typeface="Arial"/>
                </a:rPr>
                <a:t>fabbisogno  finanziario</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600" y="303120"/>
            <a:ext cx="9618840" cy="55080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Conclusioni (17)</a:t>
            </a:r>
            <a:endParaRPr b="1" i="1" lang="en-US" sz="3000" spc="-1" strike="noStrike">
              <a:solidFill>
                <a:srgbClr val="000000"/>
              </a:solidFill>
              <a:latin typeface="Arial"/>
            </a:endParaRPr>
          </a:p>
        </p:txBody>
      </p:sp>
      <p:sp>
        <p:nvSpPr>
          <p:cNvPr id="337" name="CasellaDiTesto 11"/>
          <p:cNvSpPr/>
          <p:nvPr/>
        </p:nvSpPr>
        <p:spPr>
          <a:xfrm>
            <a:off x="628560" y="1852560"/>
            <a:ext cx="9574200" cy="429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it-IT" sz="1200" spc="-1" strike="noStrike">
                <a:solidFill>
                  <a:srgbClr val="000000"/>
                </a:solidFill>
                <a:latin typeface="Arial"/>
              </a:rPr>
              <a:t>(ASCA) - Roma, 8 lug - La Regione Lombardia sta accompagnando il riordino del sistema delle garanzie e dei confidi favorendone il processo di concentrazione, aumentando le linee di intervento che utilizzano le garanzie a favore di confidi e intermediari finanziari e lanciando il progetto Made in Lombardy per la costruzione di un portafoglio di crediti alle PMI. Finlombarda Spa ha lavorato alla proposta di un progetto di 400 milioni di euro da condividere con il sistema del credito per favorire le imprese ''made in lombardy''. La Regione Lombardia con Finlombarda Spa stanno valutando attraverso la loro partecipazione in FFL (Federfidi Lombarda) un importante progetto di fusione con il Confidi di secondo livello dell'Artigianato: Artigiancredit Lombardia. I tempi per l'approvazione del progetto di fusione sono stimati entro la fine del 2008, con decorrenza del nuovo soggetto dal gennaio 2009. Il mio auspicio per il futuro e' - afferma Giampaolo Chirichelli, presidente Finlombarda - che la Lombardia si faccia promotrice del riassetto del settore delle garanzie, accompagnando i confidi presenti sul nostro territorio in questo momento di trasformazione e intervenendo con adeguati strumenti tecnici e finanziari''. ''Con il Fondo Made in Lombardy l'obiettivo propostoci e' stato quello di creare uno strumento finanziario innovativo a supporto delle PMI per il loro sviluppo in settori particolarmente strategici per la competitivita'. La qualificazione degli impieghi e degli strumenti finanziari nonche' i servizi di consulenza e assistenza previsti per le imprese beneficiare ne fanno uno strumento significativamente valido e una risposta concreta alle esigenze delle nostre imprese'', ha dichiarato Marco Nicolai, direttore generale di Finlombarda. Le caratteristiche peculiari di Made in Lombardy consistono nel garantire: l'economicita' delle risorse grazie ad una valutazione del credito basata su una comune classe di rating, all'utilizzo del credit scoring Risk Solutions di S&amp;P's e all'esistenza di una garanzia pubblica a copertura delle perdite sul portafoglio a valere su fondi regionali o comunitari per un importo di 35 milioni di euro, che permettera' all'istituto di credito di abbassare la riserva detenuta sul capitale investito; la qualita' degli impieghi, attraverso la qualificazione degli strumenti finanziari con l'utilizzo di strumenti innovativi quali mezzanine finance e finanziamenti partecipativi nell'erogazione dei finanziamenti e attraverso la qualificazione della tipologia di intervento, in quanto sono finanziati gli investimenti in ricerca, innovazione tecnologica, ammodernamento e sviluppo; la valorizzazione della trasparenza del sistema, grazie alla predisposizione di un format per la redazione dei piani economico-finanziari delle imprese beneficiare, contenente sia elementi qualitativi che quantitativi, e alla istituzione di linee di agevolazione alle imprese tramite voucher per la predisposizione del business</a:t>
            </a:r>
            <a:endParaRPr b="0" lang="en-US" sz="1200" spc="-1" strike="noStrike">
              <a:solidFill>
                <a:srgbClr val="000000"/>
              </a:solidFill>
              <a:latin typeface="Arial"/>
            </a:endParaRPr>
          </a:p>
        </p:txBody>
      </p:sp>
      <p:sp>
        <p:nvSpPr>
          <p:cNvPr id="338" name="Rectangle 2"/>
          <p:cNvSpPr/>
          <p:nvPr/>
        </p:nvSpPr>
        <p:spPr>
          <a:xfrm>
            <a:off x="0" y="0"/>
            <a:ext cx="106887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339" name="CasellaDiTesto 5"/>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inlombarda: Lancia Il Fondo ''Made In Lombardy'' Per Crediti a Pm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Monitoraggio e valutazione dei risultati (2)</a:t>
            </a:r>
            <a:endParaRPr b="1" i="1" lang="en-US" sz="3000" spc="-1" strike="noStrike">
              <a:solidFill>
                <a:srgbClr val="000000"/>
              </a:solidFill>
              <a:latin typeface="Arial"/>
            </a:endParaRPr>
          </a:p>
        </p:txBody>
      </p:sp>
      <p:sp>
        <p:nvSpPr>
          <p:cNvPr id="102" name="CasellaDiTesto 11"/>
          <p:cNvSpPr/>
          <p:nvPr/>
        </p:nvSpPr>
        <p:spPr>
          <a:xfrm>
            <a:off x="557280" y="1424160"/>
            <a:ext cx="9574200" cy="366012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no stati individuati tre principali livelli di controllo:</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partecipazione diretta di rappresentanti camerali negli organi sociali dei confidi che ricevono contributi da parte della Camera</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icorso a ispezioni dirette o a verifiche sui dati di bilancio, anche con il supporto di revisori esterni</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presentazione di una sorta di autocertificazione dei confidi, che presentano alla Camera una relazione sulla destinazione dei fondi e sui risultati conseguiti</a:t>
            </a:r>
            <a:endParaRPr b="0" lang="en-US" sz="1800" spc="-1" strike="noStrike">
              <a:solidFill>
                <a:srgbClr val="000000"/>
              </a:solidFill>
              <a:latin typeface="Arial"/>
            </a:endParaRPr>
          </a:p>
          <a:p>
            <a:pPr lvl="1" marL="820800" indent="-363600">
              <a:lnSpc>
                <a:spcPct val="100000"/>
              </a:lnSpc>
              <a:buClr>
                <a:srgbClr val="000000"/>
              </a:buClr>
              <a:buFont typeface="Arial"/>
              <a:buAutoNum type="arabicPeriod"/>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eneralmente, i contributi camerali entrano direttamente nella disponibilità dei confidi che, comunque, sono chiamati a destinarli al fondo rischi. Tale destinazione viene documentata attraverso il bilancio, dove i fondi ricevuti devono essere iscritti in apposite voci che permettano di verificarne la destinazione d’uso</a:t>
            </a:r>
            <a:endParaRPr b="0" lang="en-US" sz="1800" spc="-1" strike="noStrike">
              <a:solidFill>
                <a:srgbClr val="000000"/>
              </a:solidFill>
              <a:latin typeface="Arial"/>
            </a:endParaRPr>
          </a:p>
          <a:p>
            <a:pPr marL="363600" indent="-363600">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Gli interventi a favore dei Confidi</a:t>
            </a:r>
            <a:endParaRPr b="1" i="1" lang="en-US" sz="3000" spc="-1" strike="noStrike">
              <a:solidFill>
                <a:srgbClr val="000000"/>
              </a:solidFill>
              <a:latin typeface="Arial"/>
            </a:endParaRPr>
          </a:p>
        </p:txBody>
      </p:sp>
      <p:sp>
        <p:nvSpPr>
          <p:cNvPr id="104" name="CasellaDiTesto 11"/>
          <p:cNvSpPr/>
          <p:nvPr/>
        </p:nvSpPr>
        <p:spPr>
          <a:xfrm>
            <a:off x="557280" y="2066760"/>
            <a:ext cx="9574200" cy="503172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obiettivo dell’intervento consiste nel trasformare i debiti a breve o scaduti delle imprese (bancari e non bancari) in finanziamenti a medio termine. </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stato costituito un fondo di garanzia sul quale vengono addebitate le insolvenze registrate dai confidi, attraverso il filtro di Artigiancredit Lombardia</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disponibilità del fondo sono accantonate su un apposito conto, gestito da Unioncamere che ne detiene la piena disponibilità</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misura è stata attivata nel 1997 ma opera, nella veste attuale, dal 2003. </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iù di 7 milioni di euro accantonati negli ultimi 10 anni, a fronte di finanziamenti per più di 450 milioni ed insolvenze coperte dal fondo per ca. 3 milioni</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finanziamento concesso alle imprese ha una durata variabile tra i 36 e i 60 mesi, con una garanzia del 65% rilasciata dai Confidi di I grado. Artigiancredit contro-garantisce il 61,54% del rischio assunto dai Confidi (pari quindi al 40% del finanziamento)</a:t>
            </a:r>
            <a:endParaRPr b="0" lang="en-US" sz="1800" spc="-1" strike="noStrike">
              <a:solidFill>
                <a:srgbClr val="000000"/>
              </a:solidFill>
              <a:latin typeface="Arial"/>
            </a:endParaRPr>
          </a:p>
          <a:p>
            <a:pPr marL="363600" indent="-363600">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CasellaDiTesto 3"/>
          <p:cNvSpPr/>
          <p:nvPr/>
        </p:nvSpPr>
        <p:spPr>
          <a:xfrm>
            <a:off x="557280" y="1424160"/>
            <a:ext cx="9574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oncamere Lombardia: intervento per il riequilibrio finanziario delle imprese artigi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Gli interventi a favore dei Confidi (2)</a:t>
            </a:r>
            <a:endParaRPr b="1" i="1" lang="en-US" sz="3000" spc="-1" strike="noStrike">
              <a:solidFill>
                <a:srgbClr val="000000"/>
              </a:solidFill>
              <a:latin typeface="Arial"/>
            </a:endParaRPr>
          </a:p>
        </p:txBody>
      </p:sp>
      <p:sp>
        <p:nvSpPr>
          <p:cNvPr id="107" name="CasellaDiTesto 11"/>
          <p:cNvSpPr/>
          <p:nvPr/>
        </p:nvSpPr>
        <p:spPr>
          <a:xfrm>
            <a:off x="628560" y="1924200"/>
            <a:ext cx="9574200" cy="4208760"/>
          </a:xfrm>
          <a:prstGeom prst="rect">
            <a:avLst/>
          </a:prstGeom>
          <a:noFill/>
          <a:ln w="0">
            <a:noFill/>
          </a:ln>
        </p:spPr>
        <p:style>
          <a:lnRef idx="0"/>
          <a:fillRef idx="0"/>
          <a:effectRef idx="0"/>
          <a:fontRef idx="minor"/>
        </p:style>
        <p:txBody>
          <a:bodyPr lIns="90000" rIns="90000" tIns="46800" bIns="46800" anchor="t">
            <a:spAutoFit/>
          </a:bodyPr>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corso degli ultimi tre anni, le Camere di commercio lombarde hanno stanziato complessivamente a favore del sistema dei confidi più di 15 milioni di euro</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ali contributi sono stati finalizzati, nella quasi totalità dei casi, ad alimentare il fondo-rischi dei confidi</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no presenti anche però contributi ad hoc per incoraggiare l’introduzione di sistemi per la diagnosi finanziaria e il calcolo del rating</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focus degli interventi si è pero sempre più spostato dai contributi in conto capitale verso interventi di sostegno diretto alle imprese, ad esempio contributi in conto abbattimanento tassi gestiti dai Confidi</a:t>
            </a: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3600" indent="-363600">
              <a:buClr>
                <a:srgbClr val="000000"/>
              </a:buClr>
              <a:buFont typeface="Arial"/>
              <a:buChar char="•"/>
              <a:tabLst>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CasellaDiTesto 3"/>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tributi finanziari a favore dei confid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4600" y="302760"/>
            <a:ext cx="9618840" cy="554040"/>
          </a:xfrm>
          <a:prstGeom prst="rect">
            <a:avLst/>
          </a:prstGeom>
          <a:noFill/>
          <a:ln w="0">
            <a:noFill/>
          </a:ln>
        </p:spPr>
        <p:txBody>
          <a:bodyPr lIns="90000" rIns="90000" tIns="46800" bIns="46800" anchor="t">
            <a:noAutofit/>
          </a:bodyPr>
          <a:p>
            <a:pPr indent="0">
              <a:spcBef>
                <a:spcPts val="18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it-IT" sz="3000" spc="-1" strike="noStrike">
                <a:solidFill>
                  <a:srgbClr val="0066ff"/>
                </a:solidFill>
                <a:latin typeface="Arial"/>
              </a:rPr>
              <a:t>Gli interventi a favore dei Confidi (3)</a:t>
            </a:r>
            <a:endParaRPr b="1" i="1" lang="en-US" sz="3000" spc="-1" strike="noStrike">
              <a:solidFill>
                <a:srgbClr val="000000"/>
              </a:solidFill>
              <a:latin typeface="Arial"/>
            </a:endParaRPr>
          </a:p>
        </p:txBody>
      </p:sp>
      <p:sp>
        <p:nvSpPr>
          <p:cNvPr id="110" name="CasellaDiTesto 3"/>
          <p:cNvSpPr/>
          <p:nvPr/>
        </p:nvSpPr>
        <p:spPr>
          <a:xfrm>
            <a:off x="557280" y="1424160"/>
            <a:ext cx="9574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chema contributi finanziari a favore dei confidi</a:t>
            </a:r>
            <a:endParaRPr b="0" lang="en-US" sz="1800" spc="-1" strike="noStrike">
              <a:solidFill>
                <a:srgbClr val="000000"/>
              </a:solidFill>
              <a:latin typeface="Arial"/>
            </a:endParaRPr>
          </a:p>
        </p:txBody>
      </p:sp>
      <p:graphicFrame>
        <p:nvGraphicFramePr>
          <p:cNvPr id="111" name=""/>
          <p:cNvGraphicFramePr/>
          <p:nvPr/>
        </p:nvGraphicFramePr>
        <p:xfrm>
          <a:off x="557280" y="1800360"/>
          <a:ext cx="9645480" cy="4767120"/>
        </p:xfrm>
        <a:graphic>
          <a:graphicData uri="http://schemas.openxmlformats.org/drawingml/2006/table">
            <a:tbl>
              <a:tblPr/>
              <a:tblGrid>
                <a:gridCol w="1466640"/>
                <a:gridCol w="4337280"/>
                <a:gridCol w="550800"/>
                <a:gridCol w="1712880"/>
                <a:gridCol w="1577880"/>
              </a:tblGrid>
              <a:tr h="6602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Calibri"/>
                          <a:ea typeface="Times New Roman"/>
                        </a:rPr>
                        <a:t>Camera di commercio</a:t>
                      </a:r>
                      <a:endParaRPr b="0" lang="en-US" sz="1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imes New Roman"/>
                          <a:ea typeface="Times New Roman"/>
                        </a:rPr>
                        <a:t>Intervento</a:t>
                      </a:r>
                      <a:endParaRPr b="0"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imes New Roman"/>
                          <a:ea typeface="Times New Roman"/>
                        </a:rPr>
                        <a:t>Anno</a:t>
                      </a:r>
                      <a:endParaRPr b="0"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imes New Roman"/>
                          <a:ea typeface="Times New Roman"/>
                        </a:rPr>
                        <a:t>Ammontare stanziato</a:t>
                      </a:r>
                      <a:endParaRPr b="0"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Calibri"/>
                          <a:ea typeface="Times New Roman"/>
                        </a:rPr>
                        <a:t>Ammontare utilizzato</a:t>
                      </a:r>
                      <a:endParaRPr b="0" lang="en-US" sz="1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Bergamo</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Contributo fondo rischi ai consorzi fidi artigiani</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2005</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imes New Roman"/>
                          <a:ea typeface="Times New Roman"/>
                        </a:rPr>
                        <a:t>100.000</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imes New Roman"/>
                          <a:ea typeface="Times New Roman"/>
                        </a:rPr>
                        <a:t>100.000</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146160">
                <a:tc row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Brescia</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Interventi contributivi per l’incremento dei Fondi rischi o dei Fondi di garanzia</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2006</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imes New Roman"/>
                          <a:ea typeface="Times New Roman"/>
                        </a:rPr>
                        <a:t>1.075.000</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145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2005</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imes New Roman"/>
                          <a:ea typeface="Times New Roman"/>
                        </a:rPr>
                        <a:t>1.075.000</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imes New Roman"/>
                          <a:ea typeface="Times New Roman"/>
                        </a:rPr>
                        <a:t>1.075.000 </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Como</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Incremento fondo rischi</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2005</a:t>
                      </a:r>
                      <a:endParaRPr b="0" lang="en-US" sz="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imes New Roman"/>
                          <a:ea typeface="Times New Roman"/>
                        </a:rPr>
                        <a:t>355.000</a:t>
                      </a:r>
                      <a:endParaRPr b="0" lang="en-US" sz="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imes New Roman"/>
                          <a:ea typeface="Times New Roman"/>
                        </a:rPr>
                        <a:t>350.000</a:t>
                      </a:r>
                      <a:endParaRPr b="0" lang="en-US" sz="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46160">
                <a:tc row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Cremona</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Contributi a fondo rischi e/o in conto interessi</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2006</a:t>
                      </a:r>
                      <a:endParaRPr b="0" lang="en-US" sz="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imes New Roman"/>
                          <a:ea typeface="Times New Roman"/>
                        </a:rPr>
                        <a:t>183.629</a:t>
                      </a:r>
                      <a:endParaRPr b="0" lang="en-US" sz="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imes New Roman"/>
                          <a:ea typeface="Times New Roman"/>
                        </a:rPr>
                        <a:t>183.629</a:t>
                      </a:r>
                      <a:endParaRPr b="0" lang="en-US" sz="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47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2005</a:t>
                      </a:r>
                      <a:endParaRPr b="0" lang="en-US" sz="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imes New Roman"/>
                          <a:ea typeface="Times New Roman"/>
                        </a:rPr>
                        <a:t>178.497</a:t>
                      </a:r>
                      <a:endParaRPr b="0" lang="en-US" sz="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imes New Roman"/>
                          <a:ea typeface="Times New Roman"/>
                        </a:rPr>
                        <a:t>178.497</a:t>
                      </a:r>
                      <a:endParaRPr b="0" lang="en-US" sz="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46160">
                <a:tc row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Lecco</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Contributo per potenziamento fondo rischi</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2005</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imes New Roman"/>
                          <a:ea typeface="Times New Roman"/>
                        </a:rPr>
                        <a:t>300.000</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imes New Roman"/>
                          <a:ea typeface="Times New Roman"/>
                        </a:rPr>
                        <a:t>300.000</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146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2006</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 </a:t>
                      </a:r>
                      <a:r>
                        <a:rPr b="0" lang="it-IT" sz="800" spc="-1" strike="noStrike">
                          <a:solidFill>
                            <a:srgbClr val="000000"/>
                          </a:solidFill>
                          <a:latin typeface="Times New Roman"/>
                          <a:ea typeface="Times New Roman"/>
                        </a:rPr>
                        <a:t>300.000</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Da erogare</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Mantova</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Fondo rischi</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2005</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42.123</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93400">
                <a:tc row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Milano</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Contributo camerale a favore dei fondi rischi </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2005</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5.000.000</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4.300.000</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92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Contributo  camerale a favore dei fondi rischi </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2006</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5.000.000</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Pavia</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Erogazione dei contributi ai consorzi e alle cooperative di garanzia collettiva fidi (Delibera della Giunta Camerale n. 54 del 10.04.2006). Intervento destinato all’incremento dei fondi rischio/garanzia</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2006</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250.000</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250.000 </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1476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Sondrio</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Contributo al fondo rischi</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2005</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11.500</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585720">
                <a:tc row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Varese</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Contributi ai fondi rischi degli organismi di garanzia fidi settore agricoltura (deliberazione Giunta camerale n. 4 del 26.01.2006)</a:t>
                      </a:r>
                      <a:endParaRPr b="0" lang="en-US" sz="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2006</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50.000</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5875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Contributi ai fondi rischi degli organismi di garanzia fidi di industria, commercio, turismo, artigianato (deliberazione Giunta camerale n. 4 del 26.01.2006)</a:t>
                      </a:r>
                      <a:endParaRPr b="0" lang="en-US" sz="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2006</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ea typeface="Times New Roman"/>
                        </a:rPr>
                        <a:t>700.000</a:t>
                      </a:r>
                      <a:endParaRPr b="0" lang="en-US" sz="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0T10:02:53Z</dcterms:created>
  <dc:creator>PwC</dc:creator>
  <dc:description/>
  <dc:language>en-US</dc:language>
  <cp:lastModifiedBy>Marina Bravi</cp:lastModifiedBy>
  <cp:lastPrinted>2002-01-22T16:39:19Z</cp:lastPrinted>
  <dcterms:modified xsi:type="dcterms:W3CDTF">2008-11-12T08:27:45Z</dcterms:modified>
  <cp:revision>1137</cp:revision>
  <dc:subject>A-4 Design Template</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endixText">
    <vt:lpwstr>Appendice</vt:lpwstr>
  </property>
  <property fmtid="{D5CDD505-2E9C-101B-9397-08002B2CF9AE}" pid="3" name="Date completed">
    <vt:lpwstr>22 Gennaio, 2002</vt:lpwstr>
  </property>
  <property fmtid="{D5CDD505-2E9C-101B-9397-08002B2CF9AE}" pid="4" name="DraftStamp">
    <vt:lpwstr>Bozza</vt:lpwstr>
  </property>
  <property fmtid="{D5CDD505-2E9C-101B-9397-08002B2CF9AE}" pid="5" name="ExecSumSlideTitle">
    <vt:lpwstr>Altri Aspetti</vt:lpwstr>
  </property>
  <property fmtid="{D5CDD505-2E9C-101B-9397-08002B2CF9AE}" pid="6" name="Release">
    <vt:lpwstr>2.1 (Italia)</vt:lpwstr>
  </property>
  <property fmtid="{D5CDD505-2E9C-101B-9397-08002B2CF9AE}" pid="7" name="TOCHeadCol1">
    <vt:lpwstr>Sezione</vt:lpwstr>
  </property>
  <property fmtid="{D5CDD505-2E9C-101B-9397-08002B2CF9AE}" pid="8" name="TOCHeadCol2">
    <vt:lpwstr>Pagina</vt:lpwstr>
  </property>
  <property fmtid="{D5CDD505-2E9C-101B-9397-08002B2CF9AE}" pid="9" name="TOCMainTitle">
    <vt:lpwstr>Indice</vt:lpwstr>
  </property>
  <property fmtid="{D5CDD505-2E9C-101B-9397-08002B2CF9AE}" pid="10" name="TemplatePath">
    <vt:lpwstr>c:\TSTemp\</vt:lpwstr>
  </property>
  <property fmtid="{D5CDD505-2E9C-101B-9397-08002B2CF9AE}" pid="11" name="UnnumberedSectionTitle">
    <vt:lpwstr>Deal Issues Business and Financial Review Points Clés pour la Transaction Revue Opérationnelle et Financière Annexe</vt:lpwstr>
  </property>
</Properties>
</file>