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10688638" cy="756285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008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4132080" y="0"/>
            <a:ext cx="31683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12400" y="722160"/>
            <a:ext cx="507996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107280"/>
            <a:ext cx="31687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132080" y="9107280"/>
            <a:ext cx="316836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A838-9CF4-4BB3-A5FF-8EEB7009A5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2DF4-BB99-4A67-B6D2-221573A88A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" spc="-1" strike="noStrike">
              <a:solidFill>
                <a:srgbClr val="000000"/>
              </a:solidFill>
              <a:latin typeface="CG Omega (W1)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" spc="-1" strike="noStrike">
              <a:solidFill>
                <a:srgbClr val="000000"/>
              </a:solidFill>
              <a:latin typeface="CG Omega (W1)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" spc="-1" strike="noStrike">
              <a:solidFill>
                <a:srgbClr val="000000"/>
              </a:solidFill>
              <a:latin typeface="CG Omega (W1)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" spc="-1" strike="noStrike">
              <a:solidFill>
                <a:srgbClr val="000000"/>
              </a:solidFill>
              <a:latin typeface="CG Omega (W1)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81880" y="6838920"/>
            <a:ext cx="228600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457200" y="304920"/>
          <a:ext cx="9907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990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457200" y="1371600"/>
            <a:ext cx="98298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970160" y="7004160"/>
            <a:ext cx="79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15C4-0164-470D-9F37-B3F4BCD1D4A6}" type="slidenum">
              <a:rPr b="1" lang="en-US" sz="10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62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27160">
              <a:spcBef>
                <a:spcPts val="62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7160">
              <a:spcBef>
                <a:spcPts val="62"/>
              </a:spcBef>
              <a:buClr>
                <a:srgbClr val="000000"/>
              </a:buClr>
              <a:buFont typeface="Times New Roman"/>
              <a:buChar char="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3" marL="905040" indent="-217800">
              <a:spcBef>
                <a:spcPts val="62"/>
              </a:spcBef>
              <a:buClr>
                <a:srgbClr val="000000"/>
              </a:buClr>
              <a:buSzPct val="70000"/>
              <a:buFont typeface="Times New Roman"/>
              <a:buChar char="&gt;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507680" y="4403880"/>
            <a:ext cx="70326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it-IT" sz="400" spc="-1" strike="noStrike">
              <a:solidFill>
                <a:srgbClr val="000000"/>
              </a:solidFill>
              <a:latin typeface="CG Omega (W1)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57200" y="2286000"/>
            <a:ext cx="97743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Confidi dopo Basile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1808280" y="1828800"/>
            <a:ext cx="7054560" cy="1676160"/>
            <a:chOff x="1808280" y="1828800"/>
            <a:chExt cx="7054560" cy="1676160"/>
          </a:xfrm>
        </p:grpSpPr>
        <p:sp>
          <p:nvSpPr>
            <p:cNvPr id="89" name="Line 6"/>
            <p:cNvSpPr/>
            <p:nvPr/>
          </p:nvSpPr>
          <p:spPr>
            <a:xfrm>
              <a:off x="1808280" y="1828800"/>
              <a:ext cx="7054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1808280" y="3504960"/>
              <a:ext cx="7054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Text Box 8"/>
          <p:cNvSpPr/>
          <p:nvPr/>
        </p:nvSpPr>
        <p:spPr>
          <a:xfrm>
            <a:off x="1600200" y="5334120"/>
            <a:ext cx="7467480" cy="10688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ianmarco Pagli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onsorzio Camerale per il Credito e la Fin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Bookman Old Style"/>
              </a:rPr>
              <a:t>Milano, 15 Luglio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10"/>
          <p:cNvGraphicFramePr/>
          <p:nvPr/>
        </p:nvGraphicFramePr>
        <p:xfrm>
          <a:off x="4648320" y="3809880"/>
          <a:ext cx="137160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809880"/>
                    <a:ext cx="13716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CasellaDiTesto 5"/>
          <p:cNvSpPr/>
          <p:nvPr/>
        </p:nvSpPr>
        <p:spPr>
          <a:xfrm>
            <a:off x="1905120" y="6858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l sostegno camerale per l’accesso al credito delle 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61880" y="75420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MODELLI ORGANIZZATIVI   1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03120" y="1693800"/>
            <a:ext cx="10101240" cy="5137200"/>
            <a:chOff x="303120" y="1693800"/>
            <a:chExt cx="10101240" cy="5137200"/>
          </a:xfrm>
        </p:grpSpPr>
        <p:grpSp>
          <p:nvGrpSpPr>
            <p:cNvPr id="184" name=""/>
            <p:cNvGrpSpPr/>
            <p:nvPr/>
          </p:nvGrpSpPr>
          <p:grpSpPr>
            <a:xfrm>
              <a:off x="307800" y="1698480"/>
              <a:ext cx="10091880" cy="5127480"/>
              <a:chOff x="307800" y="1698480"/>
              <a:chExt cx="10091880" cy="51274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07800" y="1698480"/>
                <a:ext cx="1577880" cy="1158840"/>
                <a:chOff x="307800" y="1698480"/>
                <a:chExt cx="1577880" cy="11588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76200" y="1698480"/>
                  <a:ext cx="144144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Tipologia confi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800" y="1698480"/>
                  <a:ext cx="157788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885680" y="1698480"/>
                <a:ext cx="1963800" cy="1158840"/>
                <a:chOff x="1885680" y="1698480"/>
                <a:chExt cx="1963800" cy="11588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954080" y="1698480"/>
                  <a:ext cx="182700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Quote partecipazione imprese associ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85680" y="1698480"/>
                  <a:ext cx="196380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849480" y="1698480"/>
                <a:ext cx="3770280" cy="579600"/>
                <a:chOff x="3849480" y="1698480"/>
                <a:chExt cx="3770280" cy="5796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917880" y="1698480"/>
                  <a:ext cx="363384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Requisiti minim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849480" y="1698480"/>
                  <a:ext cx="377028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619760" y="1698480"/>
                <a:ext cx="2779920" cy="1158840"/>
                <a:chOff x="7619760" y="1698480"/>
                <a:chExt cx="2779920" cy="1158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7688160" y="1698480"/>
                  <a:ext cx="2643120" cy="115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ttività permes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619760" y="1698480"/>
                  <a:ext cx="2779920" cy="115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849480" y="2278080"/>
                <a:ext cx="1314360" cy="579240"/>
                <a:chOff x="3849480" y="2278080"/>
                <a:chExt cx="1314360" cy="5792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917880" y="2278080"/>
                  <a:ext cx="11779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Capitale /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fon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849480" y="2278080"/>
                  <a:ext cx="131436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163840" y="2278080"/>
                <a:ext cx="1392480" cy="579240"/>
                <a:chOff x="5163840" y="2278080"/>
                <a:chExt cx="1392480" cy="57924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232240" y="2278080"/>
                  <a:ext cx="125568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Patrimonio net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163840" y="2278080"/>
                  <a:ext cx="139248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6556320" y="2278080"/>
                <a:ext cx="1063440" cy="579240"/>
                <a:chOff x="6556320" y="2278080"/>
                <a:chExt cx="1063440" cy="5792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624360" y="2278080"/>
                  <a:ext cx="9273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Volumi attivit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556320" y="2278080"/>
                  <a:ext cx="1063440" cy="57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07800" y="2857320"/>
                <a:ext cx="1577880" cy="1251000"/>
                <a:chOff x="307800" y="2857320"/>
                <a:chExt cx="1577880" cy="12510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76200" y="2857320"/>
                  <a:ext cx="144144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Confidi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ex art. 10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07800" y="2857320"/>
                  <a:ext cx="157788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885680" y="2857320"/>
                <a:ext cx="1963800" cy="3968640"/>
                <a:chOff x="1885680" y="2857320"/>
                <a:chExt cx="1963800" cy="39686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954080" y="2857320"/>
                  <a:ext cx="1827000" cy="396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Minimo: 250 eu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Massimo: 20% capita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885680" y="2857320"/>
                  <a:ext cx="1963800" cy="396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849480" y="2857320"/>
                <a:ext cx="1314360" cy="3968640"/>
                <a:chOff x="3849480" y="2857320"/>
                <a:chExt cx="1314360" cy="39686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917880" y="2857320"/>
                  <a:ext cx="1177920" cy="396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100.000 euro (120.000 società consortili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49480" y="2857320"/>
                  <a:ext cx="1314360" cy="396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5163840" y="2857320"/>
                <a:ext cx="1392480" cy="1251000"/>
                <a:chOff x="5163840" y="2857320"/>
                <a:chExt cx="1392480" cy="12510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232240" y="2857320"/>
                  <a:ext cx="125568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250.000 eu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163840" y="2857320"/>
                  <a:ext cx="139248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6556320" y="2857320"/>
                <a:ext cx="1063440" cy="1251000"/>
                <a:chOff x="6556320" y="2857320"/>
                <a:chExt cx="1063440" cy="1251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624360" y="2857320"/>
                  <a:ext cx="92736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556320" y="2857320"/>
                  <a:ext cx="106344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7619760" y="2857320"/>
                <a:ext cx="2779920" cy="1251000"/>
                <a:chOff x="7619760" y="2857320"/>
                <a:chExt cx="2779920" cy="1251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688160" y="2857320"/>
                  <a:ext cx="2643120" cy="125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3333cc"/>
                    </a:buClr>
                    <a:buFont typeface="Bookman Old Styl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Garanzia collettiva dei fi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3333cc"/>
                    </a:buClr>
                    <a:buFont typeface="Bookman Old Styl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 </a:t>
                  </a: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Servizi ad essa strumental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619760" y="2857320"/>
                  <a:ext cx="2779920" cy="125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07800" y="4108320"/>
                <a:ext cx="1577880" cy="2717640"/>
                <a:chOff x="307800" y="4108320"/>
                <a:chExt cx="1577880" cy="27176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76200" y="4108320"/>
                  <a:ext cx="1441440" cy="27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Confidi </a:t>
                  </a:r>
                  <a:r>
                    <a:rPr b="1" lang="en-GB" sz="13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intermediario</a:t>
                  </a: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 vigilat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ex art. 1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7800" y="4108320"/>
                  <a:ext cx="1577880" cy="27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163840" y="4108320"/>
                <a:ext cx="1392480" cy="2717640"/>
                <a:chOff x="5163840" y="4108320"/>
                <a:chExt cx="1392480" cy="2717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232240" y="4108320"/>
                  <a:ext cx="1255680" cy="27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Dipen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dai volumi d’affari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e dalla struttura di rischio del portafoglio*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163840" y="4108320"/>
                  <a:ext cx="1392480" cy="27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556320" y="4108320"/>
                <a:ext cx="1063440" cy="2717640"/>
                <a:chOff x="6556320" y="4108320"/>
                <a:chExt cx="1063440" cy="27176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624360" y="4108320"/>
                  <a:ext cx="927360" cy="27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75 milioni di eu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556320" y="4108320"/>
                  <a:ext cx="1063440" cy="27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619760" y="4108320"/>
                <a:ext cx="2779920" cy="2717640"/>
                <a:chOff x="7619760" y="4108320"/>
                <a:chExt cx="2779920" cy="27176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688160" y="4108320"/>
                  <a:ext cx="2643120" cy="27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3333cc"/>
                    </a:buClr>
                    <a:buFont typeface="Bookman Old Styl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Garanzia collettiva dei fid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3333cc"/>
                    </a:buClr>
                    <a:buFont typeface="Bookman Old Style"/>
                    <a:buChar char="-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Prestazione di garanzie nei confronti dell’amm. finanzi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- Gestione di fondi pubblici di agevolazione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- Sottoscrizione di convenzioni con le banche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  </a:t>
                  </a: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ssegnatarie di fondi pubblici di garanz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-Altre attività 10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619760" y="4108320"/>
                  <a:ext cx="2779920" cy="271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303120" y="1693800"/>
              <a:ext cx="10101240" cy="5137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34520" y="754200"/>
            <a:ext cx="55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MODELLI ORGANIZZATIVI 2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28600" y="2133720"/>
            <a:ext cx="10102680" cy="3690360"/>
            <a:chOff x="228600" y="2133720"/>
            <a:chExt cx="10102680" cy="3690360"/>
          </a:xfrm>
        </p:grpSpPr>
        <p:grpSp>
          <p:nvGrpSpPr>
            <p:cNvPr id="239" name=""/>
            <p:cNvGrpSpPr/>
            <p:nvPr/>
          </p:nvGrpSpPr>
          <p:grpSpPr>
            <a:xfrm>
              <a:off x="233280" y="2140920"/>
              <a:ext cx="10093320" cy="3674520"/>
              <a:chOff x="233280" y="2140920"/>
              <a:chExt cx="10093320" cy="36745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233280" y="2140920"/>
                <a:ext cx="1600200" cy="1959840"/>
                <a:chOff x="233280" y="2140920"/>
                <a:chExt cx="1600200" cy="1959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01680" y="2140920"/>
                  <a:ext cx="1463400" cy="19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Tipologia confid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33280" y="2140920"/>
                  <a:ext cx="1600200" cy="19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33480" y="2140920"/>
                <a:ext cx="1990800" cy="1959840"/>
                <a:chOff x="1833480" y="2140920"/>
                <a:chExt cx="1990800" cy="19598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901880" y="2140920"/>
                  <a:ext cx="1854000" cy="19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Quote partecipazione imprese associa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33480" y="2140920"/>
                  <a:ext cx="1990800" cy="19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824280" y="2140920"/>
                <a:ext cx="3682800" cy="979200"/>
                <a:chOff x="3824280" y="2140920"/>
                <a:chExt cx="3682800" cy="979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892320" y="2140920"/>
                  <a:ext cx="3546720" cy="97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Requisiti minim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824280" y="2140920"/>
                  <a:ext cx="3682800" cy="979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507080" y="2140920"/>
                <a:ext cx="2819520" cy="1959840"/>
                <a:chOff x="7507080" y="2140920"/>
                <a:chExt cx="2819520" cy="19598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575480" y="2140920"/>
                  <a:ext cx="2682720" cy="19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Attività permess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507080" y="2140920"/>
                  <a:ext cx="2819520" cy="19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824280" y="3120480"/>
                <a:ext cx="1841400" cy="979920"/>
                <a:chOff x="3824280" y="3120480"/>
                <a:chExt cx="1841400" cy="97992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892320" y="3120480"/>
                  <a:ext cx="1704960" cy="97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apitale/fon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824280" y="3120480"/>
                  <a:ext cx="1841400" cy="97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665680" y="3120480"/>
                <a:ext cx="1841400" cy="979920"/>
                <a:chOff x="5665680" y="3120480"/>
                <a:chExt cx="1841400" cy="979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734080" y="3120480"/>
                  <a:ext cx="1704960" cy="97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Patrimonio net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665680" y="3120480"/>
                  <a:ext cx="1841400" cy="979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33280" y="4101120"/>
                <a:ext cx="1600200" cy="1714320"/>
                <a:chOff x="233280" y="4101120"/>
                <a:chExt cx="1600200" cy="17143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1680" y="4101120"/>
                  <a:ext cx="1463400" cy="17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Banca di garanzia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33280" y="4101120"/>
                  <a:ext cx="1600200" cy="171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1833480" y="4101120"/>
                <a:ext cx="1990800" cy="1714320"/>
                <a:chOff x="1833480" y="4101120"/>
                <a:chExt cx="1990800" cy="17143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901880" y="4101120"/>
                  <a:ext cx="1854000" cy="17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iascun socio non può detenere azioni per un valore nominale superiore a 50.000 euro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833480" y="4101120"/>
                  <a:ext cx="1990800" cy="171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824280" y="4101120"/>
                <a:ext cx="1841400" cy="1714320"/>
                <a:chOff x="3824280" y="4101120"/>
                <a:chExt cx="1841400" cy="17143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892320" y="4101120"/>
                  <a:ext cx="1704960" cy="17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2 milioni di eur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824280" y="4101120"/>
                  <a:ext cx="1841400" cy="171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665680" y="4101120"/>
                <a:ext cx="1841400" cy="1714320"/>
                <a:chOff x="5665680" y="4101120"/>
                <a:chExt cx="1841400" cy="1714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734080" y="4101120"/>
                  <a:ext cx="1704960" cy="17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 requisiti patrimoniali sono riconducibili a quanto previsto per le BC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665680" y="4101120"/>
                  <a:ext cx="1841400" cy="171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507080" y="4101120"/>
                <a:ext cx="2819520" cy="1714320"/>
                <a:chOff x="7507080" y="4101120"/>
                <a:chExt cx="2819520" cy="1714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575480" y="4101120"/>
                  <a:ext cx="2682720" cy="17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Si applica la normativa prevista per le BCC. E’ però necessario che la ragione sociale faccia esplicito riferimento all’attività di prestazione di garanz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07080" y="4101120"/>
                  <a:ext cx="2819520" cy="171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228600" y="2133720"/>
              <a:ext cx="10102680" cy="3690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37320" y="754200"/>
            <a:ext cx="39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GARANZIE E CONF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2200" y="2286000"/>
            <a:ext cx="2566800" cy="61236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CONFIDI 106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86400" y="2286000"/>
            <a:ext cx="4440240" cy="581040"/>
          </a:xfrm>
          <a:prstGeom prst="bevel">
            <a:avLst>
              <a:gd name="adj" fmla="val 125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Garanzie reali (monetar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3276720"/>
            <a:ext cx="4440240" cy="2438280"/>
          </a:xfrm>
          <a:prstGeom prst="bevel">
            <a:avLst>
              <a:gd name="adj" fmla="val 125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Garanzie pers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520" y="5029200"/>
            <a:ext cx="2566800" cy="61236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CONFIDI 107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228600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gradFill rotWithShape="0">
            <a:gsLst>
              <a:gs pos="0">
                <a:srgbClr val="66ff66"/>
              </a:gs>
              <a:gs pos="100000">
                <a:srgbClr val="ecc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895480" y="3200400"/>
            <a:ext cx="2362320" cy="866880"/>
          </a:xfrm>
          <a:custGeom>
            <a:avLst/>
            <a:gdLst>
              <a:gd name="textAreaLeft" fmla="*/ 0 w 2362320"/>
              <a:gd name="textAreaRight" fmla="*/ 2362680 w 236232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521" stAng="10800000" swAng="5400000"/>
                <a:lnTo>
                  <a:pt x="17172" y="3639"/>
                </a:lnTo>
                <a:lnTo>
                  <a:pt x="17172" y="0"/>
                </a:lnTo>
                <a:lnTo>
                  <a:pt x="21600" y="6079"/>
                </a:lnTo>
                <a:lnTo>
                  <a:pt x="17172" y="12158"/>
                </a:lnTo>
                <a:lnTo>
                  <a:pt x="17172" y="8519"/>
                </a:lnTo>
                <a:lnTo>
                  <a:pt x="12427" y="8519"/>
                </a:lnTo>
                <a:arcTo wR="7547" hR="3641" stAng="16200000" swAng="-5400000"/>
                <a:lnTo>
                  <a:pt x="4880" y="21600"/>
                </a:lnTo>
                <a:close/>
              </a:path>
            </a:pathLst>
          </a:custGeom>
          <a:gradFill rotWithShape="0">
            <a:gsLst>
              <a:gs pos="0">
                <a:srgbClr val="66ff66"/>
              </a:gs>
              <a:gs pos="100000">
                <a:srgbClr val="ecc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5029200"/>
            <a:ext cx="1523880" cy="609480"/>
          </a:xfrm>
          <a:prstGeom prst="rightArrow">
            <a:avLst>
              <a:gd name="adj1" fmla="val 50000"/>
              <a:gd name="adj2" fmla="val 62507"/>
            </a:avLst>
          </a:prstGeom>
          <a:gradFill rotWithShape="0">
            <a:gsLst>
              <a:gs pos="0">
                <a:srgbClr val="66ff66"/>
              </a:gs>
              <a:gs pos="100000">
                <a:srgbClr val="ecc2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6720" y="3502080"/>
            <a:ext cx="3096000" cy="649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Se rating = 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59360" y="754200"/>
            <a:ext cx="74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le comunicazioni dei 1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31760" y="1836720"/>
            <a:ext cx="786924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omanda di iscrizione all’elenco ex art. 155, comm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entro 60 giorni dall’iscrizione dell’atto costitutiv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elle sue modifiche nel Registro delle Imp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3800" y="3133800"/>
            <a:ext cx="5553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mpagine sociale composta da P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080" y="3710160"/>
            <a:ext cx="7110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apitale sociale superiore a 100.000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e patrimonio netto non inferiore a 250.000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560" y="4645080"/>
            <a:ext cx="55756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mposizione del patrimonio nett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tipologia di fondi costitui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 fronte del rischio sulle garanz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63640" y="4789440"/>
            <a:ext cx="4052520" cy="16844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Non sono richie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ati di bilan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mpl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26600" y="75420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i requisiti dei 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39960" y="1836720"/>
            <a:ext cx="88750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Obbligo di iscrizione per chi supera il limite dei 75 mil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i attività accertati  in base all’ultimo bilancio 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mantenere per i 6 mesi successivi alla chiusura dell’eserc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91360" y="3276720"/>
            <a:ext cx="71485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Rispetto dei requisiti prudenziali e organizza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8280" y="4068720"/>
            <a:ext cx="767268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12 mesi di tempo per adeguarsi ai requisiti richie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al momento dell’entrata in vig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elle disposizioni della Banca d’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840" y="5365800"/>
            <a:ext cx="740736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18 mesi di tempo per ridurre il volume di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per i confidi che entro i 12 mesi previsti non si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riusciti a rispettare i requisiti richie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74880" y="4492800"/>
            <a:ext cx="2158560" cy="1166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60 gior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 reg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26600" y="754200"/>
            <a:ext cx="61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i requisiti dei 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240" y="1765440"/>
            <a:ext cx="3096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75 milioni di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55160" y="2341440"/>
            <a:ext cx="506196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cietà per 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cietà in Accomandita per 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cietà a Responsabilità Lim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cietà Co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6960" y="3997440"/>
            <a:ext cx="50558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Rispetto dei requisiti patrimon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95240" y="4573440"/>
            <a:ext cx="763920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doneità della struttura organizzativa e contabil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ei controlli interni ai fini di vigi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86120" y="2701800"/>
            <a:ext cx="2511360" cy="1684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120 gior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per neg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l’iscr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217600" y="754200"/>
            <a:ext cx="66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l’operatività dei 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760" y="1909800"/>
            <a:ext cx="574632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ttività prevalente di garanzia dei fi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(oltre 50% dei ricavi e dell’at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16360" y="3060720"/>
            <a:ext cx="71575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ttività residuali non superiori al 20% dell’a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4840" y="3852720"/>
            <a:ext cx="507420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ttività accessor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per sviluppare l’attività princip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2040" y="3852720"/>
            <a:ext cx="2546640" cy="994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Inform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commer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39840" y="5365800"/>
            <a:ext cx="5181480" cy="142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Consulenza alle im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per accesso ai capi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e per gestione finanzi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0920" y="5221440"/>
            <a:ext cx="4894200" cy="142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Studi e anali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economici/finanzia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Gestione immobili i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4040" y="5005440"/>
            <a:ext cx="54507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ttività ausiliarie a quella princip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15800" y="754200"/>
            <a:ext cx="53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i soci dei 1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760" y="1909800"/>
            <a:ext cx="6057360" cy="228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P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mprese artigi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mprese agri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ggetti iscritti in Albi profess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ssociazioni profess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mprese maggiori (non oltre 1/6 dei soc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87680" y="4502160"/>
            <a:ext cx="71881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Enti pubblici e  privati e grandi imprese poss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stenere i Confidi con contributi e garan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NON sono soci ma possono partecipare ag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organi eletti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70440" y="754200"/>
            <a:ext cx="58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Ricapitoland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7520" y="3429000"/>
            <a:ext cx="2566800" cy="61236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CONFIDI 107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240" y="1752480"/>
            <a:ext cx="5134320" cy="116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Intermediario vigil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da Banca d’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43560" y="2359080"/>
            <a:ext cx="3208320" cy="116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Pond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56400" y="3200400"/>
            <a:ext cx="4248720" cy="116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Può pres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garanzie pers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11160" y="4141800"/>
            <a:ext cx="3208320" cy="116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Può gest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ondi pubb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88120" y="4800600"/>
            <a:ext cx="6766200" cy="116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Deve gestire volumi di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non inferiori a 75 mil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160" y="5791320"/>
            <a:ext cx="6802920" cy="116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Deve attivare le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di sorveglianza e segna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184120" y="754200"/>
            <a:ext cx="69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: le Banche di Garanz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2800" y="2125800"/>
            <a:ext cx="711036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no Banche costituite in forma di socie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operative per azioni a responsabilità limit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he esercitano preval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l’attività di garanzia collettiva dei fidi per i s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85960" y="3997440"/>
            <a:ext cx="5879520" cy="1312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l nome deve fare esplicito rifer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ai 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confidi </a:t>
            </a: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o alle 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garanzie</a:t>
            </a: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 e identif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l’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area di rifer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160" y="5573880"/>
            <a:ext cx="3572280" cy="994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Capitale minim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2  Milioni di e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96440" y="5076720"/>
            <a:ext cx="4272840" cy="14263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Almeno 200 soci 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dispongono al mass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di 50.000 euro di 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55960" y="754200"/>
            <a:ext cx="29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A N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58320" y="5029200"/>
            <a:ext cx="901980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Istruzioni di vigilanza per gli intermediari finanziari 107 (febbraio ’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0520" y="4419720"/>
            <a:ext cx="80884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Decreto Ministro dell’Economia e delle Finanze (novembre ’0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7480" y="5532480"/>
            <a:ext cx="824544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Disposizioni di vigilanza per le banche di garanzia (febbraio ’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0920" y="6037200"/>
            <a:ext cx="90622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Documento di consultazione Banca d’Italia sui confidi 106 (giugno ’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60480" y="3886200"/>
            <a:ext cx="791316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Decreto Legge 297/06  e Legge 15/07 (Recepimento diret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8200" y="1828800"/>
            <a:ext cx="134640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Basile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33120" y="2743200"/>
            <a:ext cx="85366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Comunicazione della Commissione sugli aiuti di Stato (giugno ’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1200" y="2286000"/>
            <a:ext cx="757800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Direttive  2006/48 e 2006/49 CE (recepimento dell’Accor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9360" y="3352680"/>
            <a:ext cx="778212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Decreto Legge 269/03, art. 13 e Legge di conversione 326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267640" y="754200"/>
            <a:ext cx="71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CONTROGARANZIA E RIASSICU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63840" y="2022480"/>
            <a:ext cx="36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Un po’ di confusione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2640" y="2666880"/>
            <a:ext cx="5267880" cy="1679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Riassicu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Bookman Old Style"/>
              </a:rPr>
              <a:t>Il riassicuratore assume in toto o in pa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Bookman Old Style"/>
              </a:rPr>
              <a:t>il rischio preso da un Confidi risarcendo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Bookman Old Style"/>
              </a:rPr>
              <a:t>caso di insolvenze delle imprese garan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4800600"/>
            <a:ext cx="5196240" cy="106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Contro-garan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Bookman Old Style"/>
              </a:rPr>
              <a:t>Il contro-garante si fa garante del ga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Bookman Old Style"/>
              </a:rPr>
              <a:t>nel caso di default di quest’ul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4680" y="2209680"/>
            <a:ext cx="5483160" cy="994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Non eleggibile per Basilea 2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se non è soggetto pub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4480" y="3048120"/>
            <a:ext cx="4091040" cy="9946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Utile per confidi 1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ai fini del risch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140200" y="754200"/>
            <a:ext cx="384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E RIASSICUR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57160" y="1828800"/>
            <a:ext cx="6057720" cy="342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Le riassicurazioni sono eleggibili ai f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di Basilea 2 se sono rilasciate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GOVER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ENTI PUBB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BANCHE MULTILATE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3360" y="4876920"/>
            <a:ext cx="6522840" cy="1684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La riassicurazione of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da un confidi di II live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non è eleggibile per Basil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45360" y="4648320"/>
            <a:ext cx="2874600" cy="914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Attenua il 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di un 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316960" y="754200"/>
            <a:ext cx="78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GARANZIE PERSONALI E CONTROGARAN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040" y="2057400"/>
            <a:ext cx="3020040" cy="64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Garanzia 1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29520" y="1979640"/>
            <a:ext cx="3048480" cy="9946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Riassicu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4800" y="2133720"/>
            <a:ext cx="2389320" cy="520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Non elegg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800" y="3124080"/>
            <a:ext cx="3020040" cy="64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Garanzia 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98800" y="4343400"/>
            <a:ext cx="3020040" cy="64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Garanzia 1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778920" y="2971800"/>
            <a:ext cx="3048480" cy="9946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Riassicu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34880" y="4114800"/>
            <a:ext cx="2388600" cy="9946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Co-garan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42160" y="3048120"/>
            <a:ext cx="2663640" cy="9349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Attenua 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a fini interni 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86360" y="4191120"/>
            <a:ext cx="2036880" cy="9349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Elegg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la quota 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1080" y="5562720"/>
            <a:ext cx="3020040" cy="64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Garanzia 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4880" y="5334120"/>
            <a:ext cx="2388600" cy="99468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Co-garan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lang="it-IT" sz="2000" spc="-1" strike="noStrike">
                <a:solidFill>
                  <a:srgbClr val="800000"/>
                </a:solidFill>
                <a:latin typeface="Bookman Old Style"/>
              </a:rPr>
              <a:t>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78440" y="5486400"/>
            <a:ext cx="1667160" cy="520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Utile s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217600" y="754200"/>
            <a:ext cx="57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GARANZIE E CONTROGARAN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8280" y="2206800"/>
            <a:ext cx="80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Riassicurazione pubblica su garanzie personali 10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26360" y="3276720"/>
            <a:ext cx="2252880" cy="50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Moral ha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67920" y="3962520"/>
            <a:ext cx="3744720" cy="50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Quantificazione 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1320" y="4648320"/>
            <a:ext cx="3319560" cy="50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Stabilità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03120" y="5334120"/>
            <a:ext cx="3368160" cy="50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Bookman Old Style"/>
              </a:rPr>
              <a:t>Efficienza gest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02760" y="754200"/>
            <a:ext cx="289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AIUTI DI S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01600" y="2206800"/>
            <a:ext cx="86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Comunicazione della Commissione Europea del 20/06/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72080" y="2895480"/>
            <a:ext cx="775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Bookman Old Style"/>
              </a:rPr>
              <a:t>Principio dell’investitore operante sul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Bookman Old Style"/>
              </a:rPr>
              <a:t>Il premio richiesto dipende dal rating del prendi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Bookman Old Style"/>
              </a:rPr>
              <a:t>E’ possibile applicare un premio unico general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Bookman Old Style"/>
              </a:rPr>
              <a:t>se l’importo garantito è inferiore a 2,5 milioni di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Bookman Old Style"/>
              </a:rPr>
              <a:t>Premio esente: è il premio conforme al merc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Bookman Old Style"/>
              </a:rPr>
              <a:t>Per le start up è fissato al 3,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162160" y="75420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r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84520" y="21463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36 società di garan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11840" y="3852720"/>
            <a:ext cx="3257640" cy="10940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SOC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9120" y="2917800"/>
            <a:ext cx="351936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Oseo gara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64200" y="2629080"/>
            <a:ext cx="325728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SIA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14480" y="4881600"/>
            <a:ext cx="2099880" cy="1349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no tu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ntermedi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Vigil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01040" y="5294160"/>
            <a:ext cx="53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Prestano solo garanzia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Godono della riassicurazione del F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62160" y="75420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r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00920" y="3494160"/>
            <a:ext cx="351468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Oseo gara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0920" y="1571760"/>
            <a:ext cx="495072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GRUPPO OS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Maggioranza pubblica con parteci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di intermediari 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Nato nel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Holding che raggrup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un soggetto credi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un ga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un facilitatore di inno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53280" y="4933800"/>
            <a:ext cx="4119480" cy="1094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Oseo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48200" y="1836720"/>
            <a:ext cx="4248360" cy="10936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Oseo fin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0553000">
            <a:off x="3976200" y="3493800"/>
            <a:ext cx="4537080" cy="792000"/>
          </a:xfrm>
          <a:custGeom>
            <a:avLst/>
            <a:gdLst>
              <a:gd name="textAreaLeft" fmla="*/ 929880 w 4537080"/>
              <a:gd name="textAreaRight" fmla="*/ 2843640 w 453708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55" hR="21600" stAng="10800000" swAng="-5400000"/>
                <a:lnTo>
                  <a:pt x="9111" y="21600"/>
                </a:lnTo>
                <a:arcTo wR="8855" hR="21600" stAng="5400000" swAng="-3115885"/>
                <a:lnTo>
                  <a:pt x="21176" y="6603"/>
                </a:lnTo>
                <a:lnTo>
                  <a:pt x="17837" y="0"/>
                </a:lnTo>
                <a:lnTo>
                  <a:pt x="13650" y="6603"/>
                </a:lnTo>
                <a:lnTo>
                  <a:pt x="17285" y="6603"/>
                </a:lnTo>
                <a:arcTo wR="8855" hR="21600" stAng="2284115" swAng="3095511"/>
                <a:lnTo>
                  <a:pt x="8983" y="21598"/>
                </a:lnTo>
                <a:arcTo wR="8855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855" hR="21600" stAng="10800000" swAng="-5400000"/>
                <a:lnTo>
                  <a:pt x="9111" y="21600"/>
                </a:lnTo>
                <a:arcTo wR="8855" hR="21600" stAng="5400000" swAng="20374"/>
                <a:lnTo>
                  <a:pt x="8983" y="21598"/>
                </a:lnTo>
                <a:arcTo wR="8855" hR="21600" stAng="5420374" swAng="537962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1201000">
            <a:off x="2247840" y="4644720"/>
            <a:ext cx="6553440" cy="792000"/>
          </a:xfrm>
          <a:custGeom>
            <a:avLst/>
            <a:gdLst>
              <a:gd name="textAreaLeft" fmla="*/ 1343160 w 6553440"/>
              <a:gd name="textAreaRight" fmla="*/ 4107240 w 655344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55" hR="21600" stAng="10800000" swAng="-5400000"/>
                <a:lnTo>
                  <a:pt x="9111" y="21600"/>
                </a:lnTo>
                <a:arcTo wR="8855" hR="21600" stAng="5400000" swAng="-3115885"/>
                <a:lnTo>
                  <a:pt x="21176" y="6603"/>
                </a:lnTo>
                <a:lnTo>
                  <a:pt x="17837" y="0"/>
                </a:lnTo>
                <a:lnTo>
                  <a:pt x="13650" y="6603"/>
                </a:lnTo>
                <a:lnTo>
                  <a:pt x="17285" y="6603"/>
                </a:lnTo>
                <a:arcTo wR="8855" hR="21600" stAng="2284115" swAng="3095511"/>
                <a:lnTo>
                  <a:pt x="8983" y="21598"/>
                </a:lnTo>
                <a:arcTo wR="8855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855" hR="21600" stAng="10800000" swAng="-5400000"/>
                <a:lnTo>
                  <a:pt x="9111" y="21600"/>
                </a:lnTo>
                <a:arcTo wR="8855" hR="21600" stAng="5400000" swAng="20374"/>
                <a:lnTo>
                  <a:pt x="8983" y="21598"/>
                </a:lnTo>
                <a:arcTo wR="8855" hR="21600" stAng="5420374" swAng="537962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08560" y="5797440"/>
            <a:ext cx="4537080" cy="792360"/>
          </a:xfrm>
          <a:custGeom>
            <a:avLst/>
            <a:gdLst>
              <a:gd name="textAreaLeft" fmla="*/ 929880 w 4537080"/>
              <a:gd name="textAreaRight" fmla="*/ 2843640 w 4537080"/>
              <a:gd name="textAreaTop" fmla="*/ 106200 h 792360"/>
              <a:gd name="textAreaBottom" fmla="*/ 6861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55" hR="21600" stAng="10800000" swAng="-5400000"/>
                <a:lnTo>
                  <a:pt x="9111" y="21600"/>
                </a:lnTo>
                <a:arcTo wR="8855" hR="21600" stAng="5400000" swAng="-3115885"/>
                <a:lnTo>
                  <a:pt x="21176" y="6603"/>
                </a:lnTo>
                <a:lnTo>
                  <a:pt x="17837" y="0"/>
                </a:lnTo>
                <a:lnTo>
                  <a:pt x="13650" y="6603"/>
                </a:lnTo>
                <a:lnTo>
                  <a:pt x="17285" y="6603"/>
                </a:lnTo>
                <a:arcTo wR="8855" hR="21600" stAng="2284115" swAng="3095511"/>
                <a:lnTo>
                  <a:pt x="8983" y="21598"/>
                </a:lnTo>
                <a:arcTo wR="8855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855" hR="21600" stAng="10800000" swAng="-5400000"/>
                <a:lnTo>
                  <a:pt x="9111" y="21600"/>
                </a:lnTo>
                <a:arcTo wR="8855" hR="21600" stAng="5400000" swAng="20374"/>
                <a:lnTo>
                  <a:pt x="8983" y="21598"/>
                </a:lnTo>
                <a:arcTo wR="8855" hR="21600" stAng="5420374" swAng="5379626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162160" y="75420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r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9120" y="2197080"/>
            <a:ext cx="361800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OSEO Gara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3120" y="3494160"/>
            <a:ext cx="5113440" cy="64260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Maggioranza pubblica con partecip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di intermediari 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32560" y="1909800"/>
            <a:ext cx="4700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230 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Opera su scala n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MI con meno di 250 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e fatturato inferiore a 50 mil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estisce 8 fondi specializz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reazione di 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assaggio gener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trasferimento tecnolo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atrimonial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artecipazioni a PMI tradi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sostegno a imprese high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sostegno a imprese bio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(sostegno a finanziamenti a bre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73760" y="44290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La sede centrale gestis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le pratiche più compl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mentre le sedi region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si occupano delle al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6200" y="58690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Quote garanzia tra 40 e 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Da 1 a 15 an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Finanziamenti senza limiti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mmont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62160" y="75420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r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7840" y="1765440"/>
            <a:ext cx="325728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SIA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4760" y="1719360"/>
            <a:ext cx="276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cc"/>
                </a:solidFill>
                <a:latin typeface="Bookman Old Style"/>
              </a:rPr>
              <a:t>Société Interprofessio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cc"/>
                </a:solidFill>
                <a:latin typeface="Bookman Old Style"/>
              </a:rPr>
              <a:t>Artisanale de Garant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cc"/>
                </a:solidFill>
                <a:latin typeface="Bookman Old Style"/>
              </a:rPr>
              <a:t>d’Investis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240" y="3060720"/>
            <a:ext cx="4301640" cy="91692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amere dei Mestieri e dell’Artigian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Intermediari finanzi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Oseo 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000" y="4092480"/>
            <a:ext cx="28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Opera su scala n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on la formula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mutualità indi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120" y="5389560"/>
            <a:ext cx="322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La sede centrale gestis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le pratiche più compl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mentre le 6 sedi decent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si occupano delle al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64200" y="1909800"/>
            <a:ext cx="426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90 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rtigi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MI con meno di 10 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e fatturato inferiore a 5 mil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ommerci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Liberi professioni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19840" y="414180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reazione di nuove impr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cquisizione di azi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Sviluppo di attiv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6560" y="52214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Quote garanzia tra 20 e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Da 2 a 12 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Finanziamenti inferiori a 1 mil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aranzia media pari a 30.000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169360" y="754200"/>
            <a:ext cx="55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Fr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6200" y="1765440"/>
            <a:ext cx="325764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SOC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47040" y="19810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cc"/>
                </a:solidFill>
                <a:latin typeface="Bookman Old Style"/>
              </a:rPr>
              <a:t>Société de Ca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cc"/>
                </a:solidFill>
                <a:latin typeface="Bookman Old Style"/>
              </a:rPr>
              <a:t>Mutuelle Artisa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1120" y="4429080"/>
            <a:ext cx="4408560" cy="10386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E’ un sistema composto da 34 strut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operanti a livello region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on mutualità di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9560" y="3084480"/>
            <a:ext cx="4153680" cy="91692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ossono aderirvi gli artigia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iscritti presso le Camere dei Mesti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ontano 300.000 so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2560" y="2557440"/>
            <a:ext cx="47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rtigi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(Commercian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(Liberi professionis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Quote garanzia pari a cir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80-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Da 1 a 5 anni (o 12 mesi se bre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aranzia media pari a 26.000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cquisto di impianti, attrezzatur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macchina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Investimenti trans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4286160"/>
            <a:ext cx="705636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79000" y="7542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BASILE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46400" y="1981080"/>
            <a:ext cx="5857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Obietti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Dare stabilità 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Premiare il me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Garantire uniformità di giud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Definire gli strumenti di mitigazione del ris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2600" y="5653080"/>
            <a:ext cx="42296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Bookman Old Style"/>
              </a:rPr>
              <a:t>Regolamentazione delle garan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44560" y="5294160"/>
            <a:ext cx="2448000" cy="866880"/>
          </a:xfrm>
          <a:custGeom>
            <a:avLst/>
            <a:gdLst>
              <a:gd name="textAreaLeft" fmla="*/ 0 w 2448000"/>
              <a:gd name="textAreaRight" fmla="*/ 2448360 w 244800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c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35880" y="75420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Spa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0840" y="226836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23 SGR (Sociedades de Garantia Reciproc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6200" y="2844720"/>
            <a:ext cx="4392720" cy="10940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20 SGR reg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intersetto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39840" y="4861080"/>
            <a:ext cx="390528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3 SGR n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760" y="3852720"/>
            <a:ext cx="2099880" cy="1349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no tu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ntermedi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Vigil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2560" y="5078520"/>
            <a:ext cx="2952720" cy="372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Trans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57640" y="5581800"/>
            <a:ext cx="4896000" cy="431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Finanza y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200560" y="6157800"/>
            <a:ext cx="2952720" cy="4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Audiovi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48560" y="1981080"/>
            <a:ext cx="2736720" cy="10940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C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(2’ gr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135880" y="75420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Spa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3120" y="1909800"/>
            <a:ext cx="3905280" cy="10936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SG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9120" y="3852720"/>
            <a:ext cx="871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Due tipi di garanz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aranzie finanziarie  (ammontare medio pari a 140.000 e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vales tecnicos che non comportano obblighi finanziari 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arantiscono il buon fine di investimenti e opere pubbli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Viene garantito il 100% del prest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79840" y="1765440"/>
            <a:ext cx="58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Società a responsabilità limi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apitale m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Due tipi di so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rotettori (enti locali, banche, camere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 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commercio, associazio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partecipanti (almeno 150 imprese garant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45960" y="754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Ger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6040" y="2268360"/>
            <a:ext cx="84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23 Buergschaftsbanken (Banche regionali di garanzi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52480" y="3494160"/>
            <a:ext cx="2099880" cy="134928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no tu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ntermedi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Vigil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60920" y="4502160"/>
            <a:ext cx="2736720" cy="10936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BK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28520" y="4861080"/>
            <a:ext cx="293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ocietà di garan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nazionale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l’Artigia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145960" y="754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CONFIDI IN EUROPA: Ger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1840" y="1913040"/>
            <a:ext cx="4753080" cy="64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Bookman Old Style"/>
              </a:rPr>
              <a:t>Buergschaftsba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6560" y="3060720"/>
            <a:ext cx="324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Banche di garanzia a capitale priv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Assumono la forma della società a responsabilità limi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27480" y="1693800"/>
            <a:ext cx="535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Operano a livello region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Quota garanzia: non superiore all’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Valore medio delle garanzie: 200.000 e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11840" y="3494160"/>
            <a:ext cx="53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Riassicurazio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overno federale: 39% delle garanz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Governo regionale: 26% delle garanz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31840" y="536580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Non vi sono limiti alla concorren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cc"/>
                </a:solidFill>
                <a:latin typeface="Bookman Old Style"/>
              </a:rPr>
              <a:t>ma la riassicurazione pubblica è vincolata all’operatività su specifici terr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79000" y="7542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BASILE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120" y="1716120"/>
            <a:ext cx="30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Rischio di cred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50640" y="414036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3 approc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360" y="2989440"/>
            <a:ext cx="1612440" cy="108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63120" y="3925800"/>
            <a:ext cx="1543680" cy="108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RB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03440" y="4861080"/>
            <a:ext cx="2195280" cy="108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RB Avan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1840" y="2557440"/>
            <a:ext cx="4321080" cy="165564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00"/>
                </a:solidFill>
                <a:latin typeface="Bookman Old Style"/>
              </a:rPr>
              <a:t>Capitale di riser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00"/>
                </a:solidFill>
                <a:latin typeface="Bookman Old Style"/>
              </a:rPr>
              <a:t>8% ponderato in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00"/>
                </a:solidFill>
                <a:latin typeface="Bookman Old Style"/>
              </a:rPr>
              <a:t>al rischio rappresen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00"/>
                </a:solidFill>
                <a:latin typeface="Bookman Old Style"/>
              </a:rPr>
              <a:t>dai prend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0920" y="2197080"/>
            <a:ext cx="4321440" cy="5763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me si calcola il risch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5365800"/>
            <a:ext cx="4321080" cy="5763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Il rischio può essere miti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dalle </a:t>
            </a:r>
            <a:r>
              <a:rPr b="1" i="1" lang="it-IT" sz="2800" spc="-1" strike="noStrike" u="sng">
                <a:solidFill>
                  <a:srgbClr val="3333cc"/>
                </a:solidFill>
                <a:uFillTx/>
                <a:latin typeface="Bookman Old Style"/>
              </a:rPr>
              <a:t>garan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65840" y="754200"/>
            <a:ext cx="59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E GARANZIE REALI AMMISS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1752480"/>
            <a:ext cx="9448200" cy="4724280"/>
            <a:chOff x="762120" y="1752480"/>
            <a:chExt cx="9448200" cy="4724280"/>
          </a:xfrm>
        </p:grpSpPr>
        <p:grpSp>
          <p:nvGrpSpPr>
            <p:cNvPr id="121" name=""/>
            <p:cNvGrpSpPr/>
            <p:nvPr/>
          </p:nvGrpSpPr>
          <p:grpSpPr>
            <a:xfrm>
              <a:off x="769320" y="1759320"/>
              <a:ext cx="9432000" cy="4708800"/>
              <a:chOff x="769320" y="1759320"/>
              <a:chExt cx="9432000" cy="47088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769320" y="1759320"/>
                <a:ext cx="3142800" cy="932040"/>
                <a:chOff x="769320" y="1759320"/>
                <a:chExt cx="3142800" cy="9320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878400" y="1759320"/>
                  <a:ext cx="2924640" cy="9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pproccio standar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9320" y="1759320"/>
                  <a:ext cx="3142800" cy="93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912480" y="1759320"/>
                <a:ext cx="3142800" cy="932040"/>
                <a:chOff x="3912480" y="1759320"/>
                <a:chExt cx="3142800" cy="932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021560" y="1759320"/>
                  <a:ext cx="2924640" cy="9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IRB Bas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12480" y="1759320"/>
                  <a:ext cx="3142800" cy="93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055640" y="1759320"/>
                <a:ext cx="3145680" cy="932040"/>
                <a:chOff x="7055640" y="1759320"/>
                <a:chExt cx="3145680" cy="932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164720" y="1759320"/>
                  <a:ext cx="2927520" cy="9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IRB Avanzat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55640" y="1759320"/>
                  <a:ext cx="3145680" cy="93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69320" y="2691720"/>
                <a:ext cx="3142800" cy="3776400"/>
                <a:chOff x="769320" y="2691720"/>
                <a:chExt cx="3142800" cy="37764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878400" y="2691720"/>
                  <a:ext cx="2924640" cy="37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Depositi in contant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Or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Titoli di debito con rating o senza rating ma qualificat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zioni quota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Obbligazioni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convertibil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69320" y="2691720"/>
                  <a:ext cx="3142800" cy="377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912480" y="2691720"/>
                <a:ext cx="3142800" cy="3776400"/>
                <a:chOff x="3912480" y="2691720"/>
                <a:chExt cx="3142800" cy="37764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021560" y="2691720"/>
                  <a:ext cx="2924640" cy="37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Stessi strumenti ammessi per l’approccio stand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Proprietà immobiliari commerciali o residenzial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Crediti var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12480" y="2691720"/>
                  <a:ext cx="3142800" cy="377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055640" y="2691720"/>
                <a:ext cx="3145680" cy="3776400"/>
                <a:chOff x="7055640" y="2691720"/>
                <a:chExt cx="3145680" cy="37764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7164720" y="2691720"/>
                  <a:ext cx="2927520" cy="377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L’istituto di credito può definire autonomamente le garanzie eleggibili per la mitigazione del rischi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055640" y="2691720"/>
                  <a:ext cx="3145680" cy="377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" name=""/>
            <p:cNvSpPr/>
            <p:nvPr/>
          </p:nvSpPr>
          <p:spPr>
            <a:xfrm>
              <a:off x="762120" y="1752480"/>
              <a:ext cx="944820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4160" y="762120"/>
            <a:ext cx="77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E GARANZIE PERSONALI: </a:t>
            </a: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SOGGETTI AMMISS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676520"/>
            <a:ext cx="9753120" cy="4952520"/>
            <a:chOff x="533520" y="1676520"/>
            <a:chExt cx="9753120" cy="4952520"/>
          </a:xfrm>
        </p:grpSpPr>
        <p:grpSp>
          <p:nvGrpSpPr>
            <p:cNvPr id="143" name=""/>
            <p:cNvGrpSpPr/>
            <p:nvPr/>
          </p:nvGrpSpPr>
          <p:grpSpPr>
            <a:xfrm>
              <a:off x="541080" y="1683720"/>
              <a:ext cx="9736560" cy="4935960"/>
              <a:chOff x="541080" y="1683720"/>
              <a:chExt cx="9736560" cy="49359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41080" y="1683720"/>
                <a:ext cx="3244320" cy="977040"/>
                <a:chOff x="541080" y="1683720"/>
                <a:chExt cx="3244320" cy="977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53760" y="1683720"/>
                  <a:ext cx="3018960" cy="9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pproccio standar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1080" y="1683720"/>
                  <a:ext cx="3244320" cy="97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785760" y="1683720"/>
                <a:ext cx="3244320" cy="977040"/>
                <a:chOff x="3785760" y="1683720"/>
                <a:chExt cx="3244320" cy="9770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898440" y="1683720"/>
                  <a:ext cx="3018960" cy="9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IRB Bas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785760" y="1683720"/>
                  <a:ext cx="3244320" cy="97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030440" y="1683720"/>
                <a:ext cx="3247200" cy="977040"/>
                <a:chOff x="7030440" y="1683720"/>
                <a:chExt cx="3247200" cy="9770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143120" y="1683720"/>
                  <a:ext cx="3021840" cy="9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IRB Avanzat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0440" y="1683720"/>
                  <a:ext cx="3247200" cy="977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541080" y="2661120"/>
                <a:ext cx="3244320" cy="3958560"/>
                <a:chOff x="541080" y="2661120"/>
                <a:chExt cx="3244320" cy="39585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653760" y="2661120"/>
                  <a:ext cx="3018960" cy="395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Governi e Region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Banche multilaterali di svilup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Banche e intermediari finanziari vigilati con merito di credito superiore al garanti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ltri soggetti con rating pari almeno ad A- e merito del credito superiore al garanti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41080" y="2661120"/>
                  <a:ext cx="3244320" cy="395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785760" y="2661120"/>
                <a:ext cx="3244320" cy="3958560"/>
                <a:chOff x="3785760" y="2661120"/>
                <a:chExt cx="3244320" cy="39585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898440" y="2661120"/>
                  <a:ext cx="3018960" cy="395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Governi e Region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Banche multilaterali di svilup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Banche e intermediari finanziari vigilati con merito di credito superiore al garanti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Altri soggetti con rating pari almeno ad A- e merito del credito superiore al garanti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785760" y="2661120"/>
                  <a:ext cx="3244320" cy="395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030440" y="2661120"/>
                <a:ext cx="3247200" cy="3958560"/>
                <a:chOff x="7030440" y="2661120"/>
                <a:chExt cx="3247200" cy="3958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143120" y="2661120"/>
                  <a:ext cx="3021840" cy="395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L’istituto di credito può definire autonomamente l’eleggibilità dei soggetti garanti ai fini della mitigazione del risch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3333cc"/>
                      </a:solidFill>
                      <a:latin typeface="Bookman Old Style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030440" y="2661120"/>
                  <a:ext cx="3247200" cy="3958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533520" y="1676520"/>
              <a:ext cx="9753120" cy="4952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24160" y="75420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LE GARANZIE: ELEGGIBILI S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8760" y="1828800"/>
            <a:ext cx="549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COPERTURA DIRETTA  E INCONDIZIO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ESCUSSIONE A PRIMA RICHI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RIFERIMENTO A SPECIFICHE ESPOS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809880"/>
            <a:ext cx="8094960" cy="2460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La normativa europea riconosce la validità delle garanzie prestate verso </a:t>
            </a:r>
            <a:r>
              <a:rPr b="1" lang="it-IT" sz="2400" spc="-1" strike="noStrike" u="sng">
                <a:solidFill>
                  <a:srgbClr val="3333cc"/>
                </a:solidFill>
                <a:uFillTx/>
                <a:latin typeface="Bookman Old Style"/>
              </a:rPr>
              <a:t>pool</a:t>
            </a:r>
            <a:r>
              <a:rPr b="1" lang="it-IT" sz="2000" spc="-1" strike="noStrike" u="sng">
                <a:solidFill>
                  <a:srgbClr val="3333cc"/>
                </a:solidFill>
                <a:uFillTx/>
                <a:latin typeface="Bookman Old Style"/>
              </a:rPr>
              <a:t> </a:t>
            </a:r>
            <a:r>
              <a:rPr b="1" lang="it-IT" sz="2400" spc="-1" strike="noStrike" u="sng">
                <a:solidFill>
                  <a:srgbClr val="3333cc"/>
                </a:solidFill>
                <a:uFillTx/>
                <a:latin typeface="Bookman Old Style"/>
              </a:rPr>
              <a:t>di esposizioni</a:t>
            </a:r>
            <a:r>
              <a:rPr b="1" lang="it-IT" sz="2000" spc="-1" strike="noStrike">
                <a:solidFill>
                  <a:srgbClr val="3333cc"/>
                </a:solidFill>
                <a:latin typeface="Bookman Old Style"/>
              </a:rPr>
              <a:t>, purché chiaramente identificato, anche senza copertura esplicita delle singole espos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45040" y="754200"/>
            <a:ext cx="526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GLI EFFETTI DELLE GARAN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0440" y="3133800"/>
            <a:ext cx="1935720" cy="10184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Bookman Old Style"/>
              </a:rPr>
              <a:t>GARANZ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Bookman Old Style"/>
              </a:rPr>
              <a:t>     </a:t>
            </a:r>
            <a:r>
              <a:rPr b="1" lang="it-IT" sz="2200" spc="-1" strike="noStrike">
                <a:solidFill>
                  <a:srgbClr val="800000"/>
                </a:solidFill>
                <a:latin typeface="Bookman Old Style"/>
              </a:rPr>
              <a:t>REALI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1586160"/>
            <a:ext cx="2044800" cy="1098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Bookman Old Style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1586160"/>
            <a:ext cx="2044440" cy="1098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Bookman Old Style"/>
              </a:rPr>
              <a:t>IRB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53280" y="1586160"/>
            <a:ext cx="2175120" cy="1098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Bookman Old Style"/>
              </a:rPr>
              <a:t>IRB AVANZ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5076720"/>
            <a:ext cx="2222640" cy="101844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Bookman Old Style"/>
              </a:rPr>
              <a:t>GARANZ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800000"/>
                </a:solidFill>
                <a:latin typeface="Bookman Old Style"/>
              </a:rPr>
              <a:t>PERSON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1840" y="2819520"/>
            <a:ext cx="1750680" cy="1659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Sostit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pond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esposi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45520" y="2819520"/>
            <a:ext cx="1805760" cy="1659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Adegu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L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17880" y="2819520"/>
            <a:ext cx="1604520" cy="16599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Riduzione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L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4800600"/>
            <a:ext cx="1795320" cy="16304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Sostit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ponder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4800600"/>
            <a:ext cx="1795680" cy="16304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Sostit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L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05920" y="4800600"/>
            <a:ext cx="1795320" cy="16304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Ridu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Bookman Old Style"/>
              </a:rPr>
              <a:t>L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54960" y="754200"/>
            <a:ext cx="49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 MODELLI ORGANIZZ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19200" y="2084400"/>
            <a:ext cx="5594040" cy="612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nfidi non vigilato (ex art. 106 T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12080" y="3262320"/>
            <a:ext cx="7037280" cy="612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Confidi intermediario vigilato (ex art. 107 T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62600" y="4440240"/>
            <a:ext cx="2943720" cy="61236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Bookman Old Style"/>
              </a:rPr>
              <a:t>Banca di Garan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0:02:53Z</dcterms:created>
  <dc:creator>PwC</dc:creator>
  <dc:description/>
  <dc:language>en-US</dc:language>
  <cp:lastModifiedBy>Marina Bravi</cp:lastModifiedBy>
  <cp:lastPrinted>2002-01-22T16:39:19Z</cp:lastPrinted>
  <dcterms:modified xsi:type="dcterms:W3CDTF">2008-11-12T08:25:42Z</dcterms:modified>
  <cp:revision>1010</cp:revision>
  <dc:subject>A-4 Design Template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endixText">
    <vt:lpwstr>Appendice</vt:lpwstr>
  </property>
  <property fmtid="{D5CDD505-2E9C-101B-9397-08002B2CF9AE}" pid="3" name="Date completed">
    <vt:lpwstr>22 Gennaio, 2002</vt:lpwstr>
  </property>
  <property fmtid="{D5CDD505-2E9C-101B-9397-08002B2CF9AE}" pid="4" name="DraftStamp">
    <vt:lpwstr>Bozza</vt:lpwstr>
  </property>
  <property fmtid="{D5CDD505-2E9C-101B-9397-08002B2CF9AE}" pid="5" name="ExecSumSlideTitle">
    <vt:lpwstr>Altri Aspetti</vt:lpwstr>
  </property>
  <property fmtid="{D5CDD505-2E9C-101B-9397-08002B2CF9AE}" pid="6" name="Release">
    <vt:lpwstr>2.1 (Italia)</vt:lpwstr>
  </property>
  <property fmtid="{D5CDD505-2E9C-101B-9397-08002B2CF9AE}" pid="7" name="TOCHeadCol1">
    <vt:lpwstr>Sezione</vt:lpwstr>
  </property>
  <property fmtid="{D5CDD505-2E9C-101B-9397-08002B2CF9AE}" pid="8" name="TOCHeadCol2">
    <vt:lpwstr>Pagina</vt:lpwstr>
  </property>
  <property fmtid="{D5CDD505-2E9C-101B-9397-08002B2CF9AE}" pid="9" name="TOCMainTitle">
    <vt:lpwstr>Indice</vt:lpwstr>
  </property>
  <property fmtid="{D5CDD505-2E9C-101B-9397-08002B2CF9AE}" pid="10" name="TemplatePath">
    <vt:lpwstr>c:\TSTemp\</vt:lpwstr>
  </property>
  <property fmtid="{D5CDD505-2E9C-101B-9397-08002B2CF9AE}" pid="11" name="UnnumberedSectionTitle">
    <vt:lpwstr>Deal Issues Business and Financial Review Points Clés pour la Transaction Revue Opérationnelle et Financière Annexe</vt:lpwstr>
  </property>
</Properties>
</file>