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10688638" cy="756285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3008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4132080" y="0"/>
            <a:ext cx="31683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12400" y="722160"/>
            <a:ext cx="5079960" cy="359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6872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6"/>
          </p:nvPr>
        </p:nvSpPr>
        <p:spPr>
          <a:xfrm>
            <a:off x="4132080" y="9107280"/>
            <a:ext cx="316836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5C9E-553A-4A3D-B86E-57B73179C4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3D53-CBEC-48CD-AA52-842C74A228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76E4-267B-4C2D-9892-15FE26B528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CB34-E8DC-49E4-B322-BAFA99F044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4E23-F443-4B6B-BCFC-4725CF1CAFB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1AE9-61F9-40B8-8FD1-50F927EC531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8953-A791-4F4D-94C9-469867FD5D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544F-BB26-491A-B5F3-35E8531302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A577-40A7-442E-A17B-DF46F57FA3E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AF3C-8ED5-4A75-B3A1-FD93983DC9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CF96-4F12-496D-8E6D-B65F246B96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5F29-02D2-4288-A31E-DC35BB8C0A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97FF-17C2-4B7D-B31D-BCF2D2134F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11320" y="719280"/>
            <a:ext cx="5081400" cy="3595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76320" y="4554360"/>
            <a:ext cx="5348160" cy="432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774C-C6D2-41F5-A156-6FB6D2D725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51BE-01A3-4541-ABDE-826D9D64B3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72B0-A672-4690-A775-3F26E5EDA28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8003-2DE4-452E-8629-17FDD0BDA2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EE59-DA9B-47E5-BE9E-A0B93F831AF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025C-1660-41DB-95CE-D11B64020B1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2C24-C388-47DD-A71C-99E2991C518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140F-DFC0-4DF0-AD15-046C727D0FD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22FB-5E54-4453-8229-C65A1938625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9AD2-62C9-40C5-82BF-E0C7A46703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0CD5-02E5-4E4B-A477-76D92C367B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C516-E6EF-4007-942A-EAE76D6ED2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DF5F-636D-4095-B59C-A789A6684C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A12-7D5C-4695-8EAF-C0450ABC7F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5F6-BA73-4444-9043-B0AC51E7BF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380A-0D7E-4ACE-A985-3AA18FD340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7F7-22F2-4AD8-845B-7509A58B4D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1EDE-FC31-4E06-88B6-99C67E26A4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1548-B114-46C7-BD04-4FD5399BB73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A381-F2BB-4E02-A183-A023284DCEE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C4BF-3D05-4028-9B4D-37572AEF84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C813-608F-4E73-9F32-2E47B460FC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77FA-D446-471C-B7FE-446ACDBA71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A65E-9518-44F4-BC77-45A5CAE0BF9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425B-A2BC-415F-92FF-51E7D9ED709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9C2-02AB-4BC5-9AF0-070D8A81FDD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32AD-E53F-4718-9284-5D362F250F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9CEA-39E3-4559-BF38-5C93F51153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EFEF-37FB-41FF-A685-8BF51CC82B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61CC-5CE5-49D4-A7D8-0F2B2A46D0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833-0C7A-4D2D-B7A6-C6359C869B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3893-2668-4760-ACBE-59E5419249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54B6-988E-43FC-9AE0-3D6A5BC248C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0622-9050-4988-9007-AB56E5DAB0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8505-A22C-44E0-9268-63767FF5F16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132440" y="9107640"/>
            <a:ext cx="31683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01DB-90D6-402D-9992-17B87E29BC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12760" y="722160"/>
            <a:ext cx="5079960" cy="3594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74520" y="4556160"/>
            <a:ext cx="535140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849-269C-4187-80C7-C7F7334A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0F6-0338-4185-B301-C4E85368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163-FDCD-48F5-B657-485BC657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CF7-F267-44E3-8317-3617F0D6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EA8-8EF6-4BB5-AF40-5B63854D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D74-4DAB-4255-A0F2-81E47F55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DE2-7E75-4DF1-91C2-00601F7A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336-CFEB-43E3-B28D-8030FDE3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ACC-F16B-4491-B592-8F842EFA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50B-B610-4280-8F02-FAF74389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125-FD1E-4140-8353-6BAB51BE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648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38720" y="176976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424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648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38720" y="4060800"/>
            <a:ext cx="309708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876-A747-460B-B871-59E9AAE5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240" y="301680"/>
            <a:ext cx="961920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06080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240" y="301680"/>
            <a:ext cx="961920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24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769760"/>
            <a:ext cx="469404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240" y="4060800"/>
            <a:ext cx="9619200" cy="20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1" descr="LOGO CONSORZIO CREDITO E FINANZA"/>
          <p:cNvPicPr/>
          <p:nvPr/>
        </p:nvPicPr>
        <p:blipFill>
          <a:blip r:embed="rId2"/>
          <a:stretch/>
        </p:blipFill>
        <p:spPr>
          <a:xfrm>
            <a:off x="8381880" y="6838920"/>
            <a:ext cx="228600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Object 87"/>
          <p:cNvGraphicFramePr/>
          <p:nvPr/>
        </p:nvGraphicFramePr>
        <p:xfrm>
          <a:off x="914400" y="2286000"/>
          <a:ext cx="4267080" cy="410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Object 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286000"/>
                    <a:ext cx="426708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Rectangle 88"/>
          <p:cNvSpPr/>
          <p:nvPr/>
        </p:nvSpPr>
        <p:spPr>
          <a:xfrm>
            <a:off x="457200" y="1066680"/>
            <a:ext cx="98298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9"/>
          <p:cNvSpPr/>
          <p:nvPr/>
        </p:nvSpPr>
        <p:spPr>
          <a:xfrm>
            <a:off x="4970160" y="7004160"/>
            <a:ext cx="794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64F4-4ABD-43B0-AF14-3EE3FC9FA2FD}" type="slidenum">
              <a:rPr b="1" lang="en-US" sz="10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5"/>
          <p:cNvSpPr/>
          <p:nvPr/>
        </p:nvSpPr>
        <p:spPr>
          <a:xfrm>
            <a:off x="1771560" y="5666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ostegno camerale per l’accesso al credito delle P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15 e 16 luglio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1" descr="LOGO CONSORZIO CREDITO E FINANZA"/>
          <p:cNvPicPr/>
          <p:nvPr/>
        </p:nvPicPr>
        <p:blipFill>
          <a:blip r:embed="rId2"/>
          <a:stretch/>
        </p:blipFill>
        <p:spPr>
          <a:xfrm>
            <a:off x="8381880" y="6838920"/>
            <a:ext cx="228600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87"/>
          <p:cNvGraphicFramePr/>
          <p:nvPr/>
        </p:nvGraphicFramePr>
        <p:xfrm>
          <a:off x="914400" y="2286000"/>
          <a:ext cx="4267080" cy="410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8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286000"/>
                    <a:ext cx="426708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88"/>
          <p:cNvSpPr/>
          <p:nvPr/>
        </p:nvSpPr>
        <p:spPr>
          <a:xfrm>
            <a:off x="457200" y="1066680"/>
            <a:ext cx="9829800" cy="7632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9"/>
          <p:cNvSpPr/>
          <p:nvPr/>
        </p:nvSpPr>
        <p:spPr>
          <a:xfrm>
            <a:off x="4970160" y="7004160"/>
            <a:ext cx="7948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6BE-2528-4FEE-BB02-BC2B3EB49711}" type="slidenum">
              <a:rPr b="1" lang="en-US" sz="10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408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2"/>
          </p:nvPr>
        </p:nvSpPr>
        <p:spPr>
          <a:xfrm>
            <a:off x="3651120" y="6891120"/>
            <a:ext cx="3386160" cy="502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7659720" y="6885000"/>
            <a:ext cx="2494080" cy="504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591-7B32-494B-BF86-2B06CF3E48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507680" y="4403880"/>
            <a:ext cx="7032600" cy="19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2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it-IT" sz="200" spc="-1" strike="noStrike">
              <a:solidFill>
                <a:srgbClr val="000000"/>
              </a:solidFill>
              <a:latin typeface="CG Omega (W1)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36680" y="1981080"/>
            <a:ext cx="977400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 bilanci dei Confidi: struttura, rat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d elementi di 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1808280" y="1828800"/>
            <a:ext cx="7054560" cy="1676160"/>
            <a:chOff x="1808280" y="1828800"/>
            <a:chExt cx="7054560" cy="1676160"/>
          </a:xfrm>
        </p:grpSpPr>
        <p:sp>
          <p:nvSpPr>
            <p:cNvPr id="132" name="Line 6"/>
            <p:cNvSpPr/>
            <p:nvPr/>
          </p:nvSpPr>
          <p:spPr>
            <a:xfrm>
              <a:off x="1808280" y="1828800"/>
              <a:ext cx="7054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1808280" y="3504960"/>
              <a:ext cx="7054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1600200" y="5791320"/>
            <a:ext cx="7467480" cy="10688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ssimiliano Gilar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nsorzio Camerale per il Credito e la Fin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Milano, 16 Lugli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0"/>
          <p:cNvGraphicFramePr/>
          <p:nvPr/>
        </p:nvGraphicFramePr>
        <p:xfrm>
          <a:off x="4648320" y="3809880"/>
          <a:ext cx="1371600" cy="13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809880"/>
                    <a:ext cx="137160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metodologi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4600" y="1240920"/>
            <a:ext cx="961884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upposto dell’analisi è la riclassificazione di Stato Patrimoniale e di Conto Econo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lassificazione: riesposizione delle poste di bilancio, eventualmente corrette, al fine di mettere in luce fatti significativi del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situazione aziendale e diversa e quindi l’analisi deve tenerne c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avvale, oltre alla riclassificazione delle poste di bilancio anche della costruzione di indici / quozienti di bilan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dicatori di bilancio non devono essere letti in isolamento ma vanno visti congiuntamente e devono essere identificate le relazioni tra 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si costituiscono lo strumento volto a comprendere le cause delle forze che hanno determinato i valori storici e determineranno quelli prospet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possibili due tipi di 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fronto nello spaz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fronto nel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metodologia (2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319040"/>
            <a:ext cx="961884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fronto spazi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su di un’insieme di bilanci di aziende comparabili tra loro al fine di evidenziare analogie e differ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nalisi della gestione si apprezza in relazione all’andamento mostrato da altre aziende comparabili ed in relazione anche all’andamento medio di s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ssono essere utilizzati indici standard, paramentri di riferimento, oppure indici medi del s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fronto tempor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riguarda una serie temporale di bilanci della stessa azienda / aziende comparabili fra loro al fine di evidenziare l’andamento della gestione nel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focalizza in primis sull’andamento passato della gestione evidenziandone i trends significativ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inalità è quella di apprezzare il passato per formarsi un’opinione sul fut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 limiti dell’analisi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4600" y="1240920"/>
            <a:ext cx="961884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nalisi di bilancio soffre degli stessi limiti del documento contabile su cui si basa: il bilancio civili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100000"/>
              </a:lnSpc>
              <a:buNone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 è incertezza riguardo ai valori di bilancio, a causa dei valori stim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100000"/>
              </a:lnSpc>
              <a:buNone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bilancio, in quanto fotografia istantanea dell’evoluzione aziendale in un preciso momento, interrompe una realtà per sua natura dina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100000"/>
              </a:lnSpc>
              <a:buNone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cune poste di bilancio che incidono significativamente da questo punto di v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636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man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636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ote ammor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636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antona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lte poste sfuggono ad una rappresentazione monetaria prec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mpia presenza di valori stimati e congettur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enza di valutazioni soggettive basate su ipotesi per certi versi arbitr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o ciò comporta la necessità di un esame critico dei dati di bilancio da parte dell’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600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l processo di riclassificazione 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47200" y="1281240"/>
            <a:ext cx="9620280" cy="53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bilancio civilistico costituisce lo strumento con cui l’imprenditore rende conto a terzi riguardo all’andamento del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nalisi di bilancio ha finalità più est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 è quindi la necessità di operare una riclassificare del bilancio, predisponendo i dati di bilancio in modo utile per le successive fasi di 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processo di riclassificazione è cosi articolat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isi dei documenti di bilan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olta altri documenti utili a comprendere le dinamiche aziendali rispetto ai fini dell’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aborazione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0"/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aborazione dei dati procede nel seguente mo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ostamento (riclassificazione) delle poste di bilancio in aree omogenee dal bilancio originario a quello di 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aborazione dei valori raccolti in aree omogenee e calcolo degli ind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riclassificazione dello Stato Patrimonia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4600" y="1352520"/>
            <a:ext cx="9618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classi di valori sono ordinate secondo il grado di liquidità-esigib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i primarie lato Impiegh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Corr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ività Immobilizz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i primarie lato Fo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ività Corr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ssività Consol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pitale N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Aspetti particolari riclassificazione dello SP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281240"/>
            <a:ext cx="961884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crediti verso azionisti per decimi da vers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oste rettificative dell’attivo vanno a diretta detrazione delle poste attive corrispon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anticipi da clienti sono inclusi nelle Passività Corr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giacenze di magazzino sono incluse nelle Attività corr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scoperti di conto corrente sono inclusi nelle Passività Correnti a meno che non si protraggano per periodi più lung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ebiti entro un anno sono inclusi nelle passività correnti, oltre un anno nelle passività consoli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fondo Trattamento di Fine Rapporto è una Passività Consoli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fondo imposte e gli altri fondi di accanto per oneri e rischi costituiscono per una parte una passività corrente per un’altra una passività consoli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Aspetti particolari riclassificazione dello SP (2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4600" y="1281240"/>
            <a:ext cx="9618840" cy="20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azioni proprie in portafoglio vanno in detrazione delle riserve accantonate per il loro acqu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perdite di esercizio riportate a nuovo sono poste negative del capitale n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utile netto d’esercizio: la parte destinata ad incrementare le riserve è una componente del capitale proprio, i dividendi costituiscono passività corr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566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o stato patrimoniale riclassificato 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85640" y="1298520"/>
          <a:ext cx="9704520" cy="4340160"/>
        </p:xfrm>
        <a:graphic>
          <a:graphicData uri="http://schemas.openxmlformats.org/drawingml/2006/table">
            <a:tbl>
              <a:tblPr/>
              <a:tblGrid>
                <a:gridCol w="4894560"/>
                <a:gridCol w="4809960"/>
              </a:tblGrid>
              <a:tr h="40608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ità e Capitale N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08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ttività corr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Liquidità immediate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tà presso ban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oli realizzabili a 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Liquidità differ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i a breve termin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i e cambiali attive commerci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c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oli realizzabili a breve ter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 e risconti atti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Rimanen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e prime e scorte di consu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lavorati e prodotti in lavor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otti finiti e mer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i su fornitori per il magazz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920" rIns="106920" tIns="50400" bIns="504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assività corr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che conti passi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iti a breve termin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nitori e cambiali passive commerci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e ed enti v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 corrente dei debiti a medio e lungo ter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deb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o imposte corr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i da cli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ei e risconti passiv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566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o stato patrimoniale riclassificato (2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85640" y="1278000"/>
          <a:ext cx="9620280" cy="4638600"/>
        </p:xfrm>
        <a:graphic>
          <a:graphicData uri="http://schemas.openxmlformats.org/drawingml/2006/table">
            <a:tbl>
              <a:tblPr/>
              <a:tblGrid>
                <a:gridCol w="4810320"/>
                <a:gridCol w="4809960"/>
              </a:tblGrid>
              <a:tr h="40608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ità e Capitale N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92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ttività immobilizz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immobilizzazioni materi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obili civ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obili industriali e commerci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ianti, macchinari e attrezz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, arredi e macchine d’uffic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ezz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: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i ammor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i su forniture di immobiliz.materi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Immobilizzazioni immateri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ssioni, brevetti, licenze e mar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se di impianto e di ampli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se per studi e ricerche ad utilità plurie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oneri plurien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Immobilizzazioni finanzi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siti cauzi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i a medio e lungo ter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cip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titoli non disponibi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assività consoli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titi obbligazionari (al netto parte corrent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i bancari a medio e l. termine (come sop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debiti a medio e lungo termine (come sopr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o trattamento di fine rappor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o imposte differ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fondi durevoli per oneri e risc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apitale net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e soc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do sovrapprezzo 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rva 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rva straordin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di attivi di rivalutazione monet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e riser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: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ite d’esercizio riportate a nuo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e d’esercizio destinato ad accanto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o stato patrimoniale riclassificato (3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4600" y="1765440"/>
            <a:ext cx="961884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228600" indent="0">
              <a:lnSpc>
                <a:spcPct val="100000"/>
              </a:lnSpc>
              <a:spcBef>
                <a:spcPts val="62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3156120" y="1479600"/>
            <a:ext cx="0" cy="50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5345280" y="1479600"/>
            <a:ext cx="0" cy="50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787320" y="2003400"/>
            <a:ext cx="96188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marL="390600" indent="-39060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039680" y="2241720"/>
            <a:ext cx="96188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marL="390600" indent="-39060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7448400" y="1479600"/>
            <a:ext cx="0" cy="508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3156120" y="1479600"/>
            <a:ext cx="42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3156120" y="6561000"/>
            <a:ext cx="429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3156120" y="3701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3156120" y="3224160"/>
            <a:ext cx="218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3156120" y="4654440"/>
            <a:ext cx="218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5345280" y="2908440"/>
            <a:ext cx="210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5345280" y="4338720"/>
            <a:ext cx="210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3324240" y="1636560"/>
            <a:ext cx="18511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Liquidità immediate e differi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324240" y="3543480"/>
            <a:ext cx="1936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Rimanen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3129120" y="4971960"/>
            <a:ext cx="221616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ività immobilizz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5595840" y="1795320"/>
            <a:ext cx="16002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Passività corren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427720" y="3463920"/>
            <a:ext cx="19368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Passività consolid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5427720" y="4815000"/>
            <a:ext cx="1768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Capitale Net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9"/>
          <p:cNvSpPr/>
          <p:nvPr/>
        </p:nvSpPr>
        <p:spPr>
          <a:xfrm flipH="1">
            <a:off x="492264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0"/>
          <p:cNvSpPr/>
          <p:nvPr/>
        </p:nvSpPr>
        <p:spPr>
          <a:xfrm flipH="1">
            <a:off x="433512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1"/>
          <p:cNvSpPr/>
          <p:nvPr/>
        </p:nvSpPr>
        <p:spPr>
          <a:xfrm flipH="1">
            <a:off x="374472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2"/>
          <p:cNvSpPr/>
          <p:nvPr/>
        </p:nvSpPr>
        <p:spPr>
          <a:xfrm flipH="1">
            <a:off x="323964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3"/>
          <p:cNvSpPr/>
          <p:nvPr/>
        </p:nvSpPr>
        <p:spPr>
          <a:xfrm flipH="1">
            <a:off x="281916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4"/>
          <p:cNvSpPr/>
          <p:nvPr/>
        </p:nvSpPr>
        <p:spPr>
          <a:xfrm flipH="1">
            <a:off x="239688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5"/>
          <p:cNvSpPr/>
          <p:nvPr/>
        </p:nvSpPr>
        <p:spPr>
          <a:xfrm flipH="1">
            <a:off x="197784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6"/>
          <p:cNvSpPr/>
          <p:nvPr/>
        </p:nvSpPr>
        <p:spPr>
          <a:xfrm flipH="1">
            <a:off x="281916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7"/>
          <p:cNvSpPr/>
          <p:nvPr/>
        </p:nvSpPr>
        <p:spPr>
          <a:xfrm flipH="1">
            <a:off x="239688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8"/>
          <p:cNvSpPr/>
          <p:nvPr/>
        </p:nvSpPr>
        <p:spPr>
          <a:xfrm flipH="1">
            <a:off x="197784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 flipH="1">
            <a:off x="155700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0"/>
          <p:cNvSpPr/>
          <p:nvPr/>
        </p:nvSpPr>
        <p:spPr>
          <a:xfrm flipH="1">
            <a:off x="113472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1"/>
          <p:cNvSpPr/>
          <p:nvPr/>
        </p:nvSpPr>
        <p:spPr>
          <a:xfrm flipH="1">
            <a:off x="714240" y="465444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2"/>
          <p:cNvSpPr/>
          <p:nvPr/>
        </p:nvSpPr>
        <p:spPr>
          <a:xfrm flipH="1">
            <a:off x="281916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3"/>
          <p:cNvSpPr/>
          <p:nvPr/>
        </p:nvSpPr>
        <p:spPr>
          <a:xfrm flipH="1">
            <a:off x="239688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 flipH="1">
            <a:off x="197784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5"/>
          <p:cNvSpPr/>
          <p:nvPr/>
        </p:nvSpPr>
        <p:spPr>
          <a:xfrm flipH="1">
            <a:off x="155700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13472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714240" y="65610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4"/>
          <p:cNvSpPr/>
          <p:nvPr/>
        </p:nvSpPr>
        <p:spPr>
          <a:xfrm flipV="1">
            <a:off x="2651040" y="298620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5"/>
          <p:cNvSpPr/>
          <p:nvPr/>
        </p:nvSpPr>
        <p:spPr>
          <a:xfrm>
            <a:off x="2651040" y="401940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6"/>
          <p:cNvSpPr/>
          <p:nvPr/>
        </p:nvSpPr>
        <p:spPr>
          <a:xfrm>
            <a:off x="1986120" y="3543480"/>
            <a:ext cx="10857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7"/>
          <p:cNvSpPr/>
          <p:nvPr/>
        </p:nvSpPr>
        <p:spPr>
          <a:xfrm flipH="1">
            <a:off x="273492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8"/>
          <p:cNvSpPr/>
          <p:nvPr/>
        </p:nvSpPr>
        <p:spPr>
          <a:xfrm flipH="1">
            <a:off x="2314440" y="1479600"/>
            <a:ext cx="2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9"/>
          <p:cNvSpPr/>
          <p:nvPr/>
        </p:nvSpPr>
        <p:spPr>
          <a:xfrm flipH="1">
            <a:off x="197784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0"/>
          <p:cNvSpPr/>
          <p:nvPr/>
        </p:nvSpPr>
        <p:spPr>
          <a:xfrm flipH="1">
            <a:off x="163944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1"/>
          <p:cNvSpPr/>
          <p:nvPr/>
        </p:nvSpPr>
        <p:spPr>
          <a:xfrm flipH="1">
            <a:off x="130464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2"/>
          <p:cNvSpPr/>
          <p:nvPr/>
        </p:nvSpPr>
        <p:spPr>
          <a:xfrm flipH="1">
            <a:off x="96660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3"/>
          <p:cNvSpPr/>
          <p:nvPr/>
        </p:nvSpPr>
        <p:spPr>
          <a:xfrm flipH="1">
            <a:off x="63000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4"/>
          <p:cNvSpPr/>
          <p:nvPr/>
        </p:nvSpPr>
        <p:spPr>
          <a:xfrm flipV="1">
            <a:off x="1135080" y="473400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5"/>
          <p:cNvSpPr/>
          <p:nvPr/>
        </p:nvSpPr>
        <p:spPr>
          <a:xfrm>
            <a:off x="1135080" y="592596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6"/>
          <p:cNvSpPr/>
          <p:nvPr/>
        </p:nvSpPr>
        <p:spPr>
          <a:xfrm>
            <a:off x="0" y="5369040"/>
            <a:ext cx="244152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ITALE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9"/>
          <p:cNvSpPr/>
          <p:nvPr/>
        </p:nvSpPr>
        <p:spPr>
          <a:xfrm flipV="1">
            <a:off x="1052640" y="1636200"/>
            <a:ext cx="0" cy="127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0"/>
          <p:cNvSpPr/>
          <p:nvPr/>
        </p:nvSpPr>
        <p:spPr>
          <a:xfrm>
            <a:off x="1052640" y="3622680"/>
            <a:ext cx="0" cy="95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1"/>
          <p:cNvSpPr/>
          <p:nvPr/>
        </p:nvSpPr>
        <p:spPr>
          <a:xfrm>
            <a:off x="0" y="2908440"/>
            <a:ext cx="1809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2"/>
          <p:cNvSpPr/>
          <p:nvPr/>
        </p:nvSpPr>
        <p:spPr>
          <a:xfrm>
            <a:off x="0" y="2986200"/>
            <a:ext cx="1809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3"/>
          <p:cNvSpPr/>
          <p:nvPr/>
        </p:nvSpPr>
        <p:spPr>
          <a:xfrm>
            <a:off x="378000" y="3067200"/>
            <a:ext cx="1557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8"/>
          <p:cNvSpPr/>
          <p:nvPr/>
        </p:nvSpPr>
        <p:spPr>
          <a:xfrm>
            <a:off x="209520" y="2986200"/>
            <a:ext cx="17686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9"/>
          <p:cNvSpPr/>
          <p:nvPr/>
        </p:nvSpPr>
        <p:spPr>
          <a:xfrm>
            <a:off x="714240" y="2986200"/>
            <a:ext cx="843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0"/>
          <p:cNvSpPr/>
          <p:nvPr/>
        </p:nvSpPr>
        <p:spPr>
          <a:xfrm flipH="1">
            <a:off x="753228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1"/>
          <p:cNvSpPr/>
          <p:nvPr/>
        </p:nvSpPr>
        <p:spPr>
          <a:xfrm flipH="1">
            <a:off x="803880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2"/>
          <p:cNvSpPr/>
          <p:nvPr/>
        </p:nvSpPr>
        <p:spPr>
          <a:xfrm flipH="1">
            <a:off x="854352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3"/>
          <p:cNvSpPr/>
          <p:nvPr/>
        </p:nvSpPr>
        <p:spPr>
          <a:xfrm flipH="1">
            <a:off x="896256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4"/>
          <p:cNvSpPr/>
          <p:nvPr/>
        </p:nvSpPr>
        <p:spPr>
          <a:xfrm flipH="1">
            <a:off x="9383400" y="14796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5"/>
          <p:cNvSpPr/>
          <p:nvPr/>
        </p:nvSpPr>
        <p:spPr>
          <a:xfrm flipH="1">
            <a:off x="753228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6"/>
          <p:cNvSpPr/>
          <p:nvPr/>
        </p:nvSpPr>
        <p:spPr>
          <a:xfrm flipH="1">
            <a:off x="786888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7"/>
          <p:cNvSpPr/>
          <p:nvPr/>
        </p:nvSpPr>
        <p:spPr>
          <a:xfrm flipH="1">
            <a:off x="8205480" y="2908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8"/>
          <p:cNvSpPr/>
          <p:nvPr/>
        </p:nvSpPr>
        <p:spPr>
          <a:xfrm flipH="1">
            <a:off x="7532280" y="43387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9"/>
          <p:cNvSpPr/>
          <p:nvPr/>
        </p:nvSpPr>
        <p:spPr>
          <a:xfrm flipH="1">
            <a:off x="7868880" y="43387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0"/>
          <p:cNvSpPr/>
          <p:nvPr/>
        </p:nvSpPr>
        <p:spPr>
          <a:xfrm flipH="1">
            <a:off x="8205480" y="43387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1"/>
          <p:cNvSpPr/>
          <p:nvPr/>
        </p:nvSpPr>
        <p:spPr>
          <a:xfrm flipH="1">
            <a:off x="542736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92"/>
          <p:cNvSpPr/>
          <p:nvPr/>
        </p:nvSpPr>
        <p:spPr>
          <a:xfrm flipH="1">
            <a:off x="576540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3"/>
          <p:cNvSpPr/>
          <p:nvPr/>
        </p:nvSpPr>
        <p:spPr>
          <a:xfrm flipH="1">
            <a:off x="610056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4"/>
          <p:cNvSpPr/>
          <p:nvPr/>
        </p:nvSpPr>
        <p:spPr>
          <a:xfrm flipH="1">
            <a:off x="643860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5"/>
          <p:cNvSpPr/>
          <p:nvPr/>
        </p:nvSpPr>
        <p:spPr>
          <a:xfrm flipH="1">
            <a:off x="677520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6"/>
          <p:cNvSpPr/>
          <p:nvPr/>
        </p:nvSpPr>
        <p:spPr>
          <a:xfrm flipH="1">
            <a:off x="711180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97"/>
          <p:cNvSpPr/>
          <p:nvPr/>
        </p:nvSpPr>
        <p:spPr>
          <a:xfrm flipH="1">
            <a:off x="753228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8"/>
          <p:cNvSpPr/>
          <p:nvPr/>
        </p:nvSpPr>
        <p:spPr>
          <a:xfrm flipH="1">
            <a:off x="786888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9"/>
          <p:cNvSpPr/>
          <p:nvPr/>
        </p:nvSpPr>
        <p:spPr>
          <a:xfrm flipH="1">
            <a:off x="8205480" y="322416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1"/>
          <p:cNvSpPr/>
          <p:nvPr/>
        </p:nvSpPr>
        <p:spPr>
          <a:xfrm>
            <a:off x="8373960" y="2908440"/>
            <a:ext cx="0" cy="31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3"/>
          <p:cNvSpPr/>
          <p:nvPr/>
        </p:nvSpPr>
        <p:spPr>
          <a:xfrm>
            <a:off x="8373960" y="2828880"/>
            <a:ext cx="7574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04"/>
          <p:cNvSpPr/>
          <p:nvPr/>
        </p:nvSpPr>
        <p:spPr>
          <a:xfrm flipH="1">
            <a:off x="542736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5"/>
          <p:cNvSpPr/>
          <p:nvPr/>
        </p:nvSpPr>
        <p:spPr>
          <a:xfrm flipH="1">
            <a:off x="576540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6"/>
          <p:cNvSpPr/>
          <p:nvPr/>
        </p:nvSpPr>
        <p:spPr>
          <a:xfrm flipH="1">
            <a:off x="610056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7"/>
          <p:cNvSpPr/>
          <p:nvPr/>
        </p:nvSpPr>
        <p:spPr>
          <a:xfrm flipH="1">
            <a:off x="643860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8"/>
          <p:cNvSpPr/>
          <p:nvPr/>
        </p:nvSpPr>
        <p:spPr>
          <a:xfrm flipH="1">
            <a:off x="677520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9"/>
          <p:cNvSpPr/>
          <p:nvPr/>
        </p:nvSpPr>
        <p:spPr>
          <a:xfrm flipH="1">
            <a:off x="711180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0"/>
          <p:cNvSpPr/>
          <p:nvPr/>
        </p:nvSpPr>
        <p:spPr>
          <a:xfrm flipH="1">
            <a:off x="753228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1"/>
          <p:cNvSpPr/>
          <p:nvPr/>
        </p:nvSpPr>
        <p:spPr>
          <a:xfrm flipH="1">
            <a:off x="786888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2"/>
          <p:cNvSpPr/>
          <p:nvPr/>
        </p:nvSpPr>
        <p:spPr>
          <a:xfrm flipH="1">
            <a:off x="8205480" y="46544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4"/>
          <p:cNvSpPr/>
          <p:nvPr/>
        </p:nvSpPr>
        <p:spPr>
          <a:xfrm>
            <a:off x="8291520" y="4338720"/>
            <a:ext cx="0" cy="31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5"/>
          <p:cNvSpPr/>
          <p:nvPr/>
        </p:nvSpPr>
        <p:spPr>
          <a:xfrm>
            <a:off x="8543880" y="4338720"/>
            <a:ext cx="673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6"/>
          <p:cNvSpPr/>
          <p:nvPr/>
        </p:nvSpPr>
        <p:spPr>
          <a:xfrm flipH="1">
            <a:off x="753228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7"/>
          <p:cNvSpPr/>
          <p:nvPr/>
        </p:nvSpPr>
        <p:spPr>
          <a:xfrm flipH="1">
            <a:off x="786888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8"/>
          <p:cNvSpPr/>
          <p:nvPr/>
        </p:nvSpPr>
        <p:spPr>
          <a:xfrm flipH="1">
            <a:off x="820548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9"/>
          <p:cNvSpPr/>
          <p:nvPr/>
        </p:nvSpPr>
        <p:spPr>
          <a:xfrm flipH="1">
            <a:off x="854352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0"/>
          <p:cNvSpPr/>
          <p:nvPr/>
        </p:nvSpPr>
        <p:spPr>
          <a:xfrm flipH="1">
            <a:off x="887868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21"/>
          <p:cNvSpPr/>
          <p:nvPr/>
        </p:nvSpPr>
        <p:spPr>
          <a:xfrm flipH="1">
            <a:off x="921672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22"/>
          <p:cNvSpPr/>
          <p:nvPr/>
        </p:nvSpPr>
        <p:spPr>
          <a:xfrm flipH="1">
            <a:off x="9553320" y="656100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23"/>
          <p:cNvSpPr/>
          <p:nvPr/>
        </p:nvSpPr>
        <p:spPr>
          <a:xfrm flipH="1">
            <a:off x="8543520" y="43387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24"/>
          <p:cNvSpPr/>
          <p:nvPr/>
        </p:nvSpPr>
        <p:spPr>
          <a:xfrm flipH="1">
            <a:off x="8878680" y="43387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25"/>
          <p:cNvSpPr/>
          <p:nvPr/>
        </p:nvSpPr>
        <p:spPr>
          <a:xfrm flipH="1">
            <a:off x="9216720" y="43387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6"/>
          <p:cNvSpPr/>
          <p:nvPr/>
        </p:nvSpPr>
        <p:spPr>
          <a:xfrm flipH="1">
            <a:off x="9553320" y="433872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27"/>
          <p:cNvSpPr/>
          <p:nvPr/>
        </p:nvSpPr>
        <p:spPr>
          <a:xfrm flipV="1">
            <a:off x="9383760" y="4416480"/>
            <a:ext cx="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28"/>
          <p:cNvSpPr/>
          <p:nvPr/>
        </p:nvSpPr>
        <p:spPr>
          <a:xfrm>
            <a:off x="9383760" y="5845320"/>
            <a:ext cx="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9"/>
          <p:cNvSpPr/>
          <p:nvPr/>
        </p:nvSpPr>
        <p:spPr>
          <a:xfrm>
            <a:off x="8121600" y="5130720"/>
            <a:ext cx="185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0"/>
          <p:cNvSpPr/>
          <p:nvPr/>
        </p:nvSpPr>
        <p:spPr>
          <a:xfrm>
            <a:off x="8710560" y="5130720"/>
            <a:ext cx="177804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ITALE PROP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32"/>
          <p:cNvSpPr/>
          <p:nvPr/>
        </p:nvSpPr>
        <p:spPr>
          <a:xfrm flipV="1">
            <a:off x="9553680" y="1557000"/>
            <a:ext cx="0" cy="10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4"/>
          <p:cNvSpPr/>
          <p:nvPr/>
        </p:nvSpPr>
        <p:spPr>
          <a:xfrm>
            <a:off x="9553680" y="3384720"/>
            <a:ext cx="0" cy="79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5"/>
          <p:cNvSpPr/>
          <p:nvPr/>
        </p:nvSpPr>
        <p:spPr>
          <a:xfrm>
            <a:off x="8962920" y="2670120"/>
            <a:ext cx="172584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PITALE DI TER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Premessa</a:t>
            </a:r>
            <a:br>
              <a:rPr sz="3000"/>
            </a:b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1"/>
          <p:cNvSpPr/>
          <p:nvPr/>
        </p:nvSpPr>
        <p:spPr>
          <a:xfrm>
            <a:off x="557280" y="1424160"/>
            <a:ext cx="957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opo del presente seminario è quello di fornire alcuni elementi di analisi in generale riguardo al tema dell’analisi di bilancio e, in particolare, con riguardo ai Conf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è cercato di condensare in poco tempo i concetti e gli elementi fondamentali per la comprensione dei fondamenti dell’analisi di bilan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è cercato poi di vedere i bilanci dei Confidi alla luce degli strumenti forn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tema è molto vasto e meriterebbe un corso a se stante molto più artico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a presentaziona ha lo scopo di fornire alcuni elementi introduttivi riguardo all’analisi di bilancio in generale; per quanto riguarda le peculiarità dei Confidi si rimanda al materiale presentato separatamente nel corso del sem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riclassificazione del Conto Economico 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5280" y="1352160"/>
            <a:ext cx="961884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quattro le aree di gestione individu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nto Economico è riclassificato per margini, mostrando come si forma il risultato ed il contributo delle varie aree del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organizzato per i seguent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ultato lordo indust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ultato operativo caratteri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ultato operativo comples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ultato ordi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ultato prima delle imp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sultato n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Aspetti applicativi della riclassificazione del C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4600" y="1352520"/>
            <a:ext cx="9618840" cy="36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onori finanziari impliciti andrebbero aggiunti a quelli esplici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resi su vendite, gli sconti, gli abbuoni vanno a diretta detrazione del costo o ricavo a cui si riferisc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teressi attivi per dilazioni vanno indicati a parte perché espressione della politica di vendita, gli interessi attivi da depositi bancari, titoli e prestiti vari vanno nella gestione access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 e perdite derivanti da operazioni speculative vanno inseriti nella gestione access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osto industriale del venduto può essere disaggre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566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Conto economico riclassificato 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4720" y="1341360"/>
          <a:ext cx="5554800" cy="5297400"/>
        </p:xfrm>
        <a:graphic>
          <a:graphicData uri="http://schemas.openxmlformats.org/drawingml/2006/table">
            <a:tbl>
              <a:tblPr/>
              <a:tblGrid>
                <a:gridCol w="5554800"/>
              </a:tblGrid>
              <a:tr h="43812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avi netti di vendi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sto industriale del vendu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lordo industri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sti commercial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sti amministrativ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operativo caratteristi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netti da investimenti accesso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operativo complessi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neri finanzia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ltri one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106920" rIns="10692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net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566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Conto economico riclassificato 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85640" y="1352520"/>
          <a:ext cx="7840800" cy="4853160"/>
        </p:xfrm>
        <a:graphic>
          <a:graphicData uri="http://schemas.openxmlformats.org/drawingml/2006/table">
            <a:tbl>
              <a:tblPr/>
              <a:tblGrid>
                <a:gridCol w="7840800"/>
              </a:tblGrid>
              <a:tr h="4853160">
                <a:tc>
                  <a:txBody>
                    <a:bodyPr lIns="106920" rIns="106920" tIns="50400" bIns="504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avi lordi di vend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 su vendite e altre detrazioni specific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avi netti di vendita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-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manenze iniziali di materie, semilavorati e prodot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sti di mate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buzioni industriali e oneri relati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i industriali per lavori, forniture e servizi v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ortamento industri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costi industri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zioni interne capitalizz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manenze finali di materie, semilavorati e prodot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industriale del venduto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4+5+6+7+8+9+-10-11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lordo industriale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-1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i commerci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i amministrati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tipici v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operativo caratteristico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-14-15+/-1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566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Conto economico riclassificato A (2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352520"/>
          <a:ext cx="6662880" cy="3097080"/>
        </p:xfrm>
        <a:graphic>
          <a:graphicData uri="http://schemas.openxmlformats.org/drawingml/2006/table">
            <a:tbl>
              <a:tblPr/>
              <a:tblGrid>
                <a:gridCol w="6662880"/>
              </a:tblGrid>
              <a:tr h="3097080">
                <a:tc>
                  <a:txBody>
                    <a:bodyPr lIns="106920" rIns="106920" tIns="50400" bIns="504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da investimento in immobili civi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da investimento in partecipazo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da investimenti accessori v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operativo globale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7+/-18+/-19+/-2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ri finanzi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ordinario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1-2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straordin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prima delle imposte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3+/-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ste sul reddi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netto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5-26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566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Conto economico riclassificato B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57280" y="1319040"/>
          <a:ext cx="7840440" cy="4685040"/>
        </p:xfrm>
        <a:graphic>
          <a:graphicData uri="http://schemas.openxmlformats.org/drawingml/2006/table">
            <a:tbl>
              <a:tblPr/>
              <a:tblGrid>
                <a:gridCol w="7840440"/>
              </a:tblGrid>
              <a:tr h="4685040">
                <a:tc>
                  <a:txBody>
                    <a:bodyPr lIns="106920" rIns="106920" tIns="50400" bIns="504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avi lordi di vend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 su vendite ed altre detrazioni specific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avi netti di vendita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-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zione nelle rimanenze di semilavorati e prodot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zioni interne capitalizz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proventi tip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zione tipica complessa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+/-4+5+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sti di mate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zioni delle rimanenze di mate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i di materi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buzione e oneri relati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i per lavori, forniture e servizi v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mortamen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i oneri tip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complessivo della produzione tipica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+11+12+13+1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operativo caratteristico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-1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566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Conto economico riclassificato B (2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39640" y="1352520"/>
          <a:ext cx="6662880" cy="3097080"/>
        </p:xfrm>
        <a:graphic>
          <a:graphicData uri="http://schemas.openxmlformats.org/drawingml/2006/table">
            <a:tbl>
              <a:tblPr/>
              <a:tblGrid>
                <a:gridCol w="6662880"/>
              </a:tblGrid>
              <a:tr h="3097080">
                <a:tc>
                  <a:txBody>
                    <a:bodyPr lIns="106920" rIns="106920" tIns="50400" bIns="504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da investimento in immobili civi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da investimento in partecipazo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da investimenti accessori v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operativo globale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7+/-18+/-19+/-2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ri finanzi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ordinario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1-2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nti e oneri straordin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prima delle imposte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3+/-2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ste sul reddi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1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o netto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5-26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6920" marR="1069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Gli indici di bilanci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4600" y="1240920"/>
            <a:ext cx="9618840" cy="36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macro classificazione degli indici fa riferimento all’analisi del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dditività n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dditività o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lidità patrimon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tuazione di liquid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dici non vanno considerati in isolamento ma occorre tener conto della correlazione tra 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 è quindi la necessità di un’analisi sistem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ndici per l’analisi della redditività </a:t>
            </a:r>
            <a:br>
              <a:rPr sz="3000"/>
            </a:b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85280" y="1300320"/>
            <a:ext cx="961884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dditività netta è la capacità del capitale proprio di produrre red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necessario un indicatore che metta a confronto il reddito  derivante dalla gestione con il capitale proprio immesso nella ste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una parte si considera il reddito netto d’esercizio, dall’altra il capitale di risc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indice che ne deriva è il tasso di redditività del capitale investito, Return on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4600" y="306360"/>
            <a:ext cx="9618840" cy="566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ROE (Return on equity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4600" y="1398600"/>
            <a:ext cx="961884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rmula:   ROE =  Rn / C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rmula esprime quanto rende, in percentuale, il capitale investito nella gestione a titolo di risc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 di variabilità molto esteso, da zero in poi in caso di risultato positivo, ha segno negativo in caso di perd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usato come indicatore sintetico della redditività del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indicazioni, dunque, sull’operato dell’alta direzione che ha il compito di promuovere e coordinare l’azione delle diverse aree di gestion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Analisi di bilanci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479600"/>
            <a:ext cx="961884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’è l’analisi di bilancio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l’elaborazione dei valori di bilancio al fine del suo apprezz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essa si mira a comprendere il contenuto della gestione attraverso l’esame critico del sistema dei valori espresso dal bilancio di eserc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tituisce uno strumento storico e prospettico per la conoscenza e l’interpretazione dei fatti gest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rende ed interpreta la gestione passata e formula ipotesi per quella fu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scomposizione del RO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4600" y="1281240"/>
            <a:ext cx="9618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ò essere scomposto in tre indic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dditività del capitale investito (ROI – Return on Invest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pporto di indebi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incidenza del risultato netto sul risultato o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78000" y="286920"/>
            <a:ext cx="961992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ROI (Return on Investment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5280" y="1280880"/>
            <a:ext cx="9618840" cy="38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dditività del capitale investito è data dal rapporto tra Risultato operativo globale e il capitale complessivamente investito nel periodo di rifer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rmula: ROI = Ro / 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indicato in termini percen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scilla da zero in poi in caso di risultati positivi dell’area operativa, ha valori negativi in caso di perdita nell’area oper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rime il rendimento economico dell’intero capitale impiegato nel periodo a prescindere dalla provenienza (capitale proprio e di terz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un buon indicatore per valutare l’efficienza economica della gestione caratteristica e di quella accessor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l rapporto di indebitament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4600" y="1266480"/>
            <a:ext cx="9618840" cy="38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dato dal rapporto tra il capitale di terzi e il capitale prop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tte in evidenza la proporzione esistente tra finanziamenti attinti a prestito e quelli attinti con vincolo di capitale prop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un punto di vista finanziario riflette la dipendenza della gestione dall’indebitamento (l’autonom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rmula:       CT / C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di solito indicato intermini unitari, il capo di variabilità va da zero (assenza di cap. di terzi) a uno (parità tra cap. di terzi e proprio) e da uno in poi (cap. terzi via via più elevato di quello propri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 = CT + 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’incidenza del risultato netto su quello operativ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5280" y="1280880"/>
            <a:ext cx="96188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rmula: Rn / 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rime il peso esercitato dagli oneri finanziari, dai proventi e oneri straordinari e dalle imposte sul reddito sulla redditività n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ene indicato in termini unitari, in caso di perdita netta (e risultato operativo globale positivo) assume segno negativo; “tipicamente” va da uno (risultato netto pari al risultato operativo globale, ciò significa assenza dei componenti non operativi o loro piena compensazione) a zero (risultato netto nullo, ciò significa risultato operativo globale interamente assorbito dai componenti non operativi). In questo intervallo quanto più basso è il quoziente più elevato è il peso dei componenti non opera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e determinanti del RO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4600" y="2709720"/>
            <a:ext cx="96188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 algn="ctr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 algn="ctr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 algn="ctr">
              <a:lnSpc>
                <a:spcPct val="90000"/>
              </a:lnSpc>
              <a:buNone/>
              <a:tabLst>
                <a:tab algn="l" pos="0"/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Rn  =  Ro  x   CI x   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 algn="ctr">
              <a:lnSpc>
                <a:spcPct val="90000"/>
              </a:lnSpc>
              <a:buNone/>
              <a:tabLst>
                <a:tab algn="l" pos="0"/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N     CI        CN     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Connettore 1 4"/>
          <p:cNvSpPr/>
          <p:nvPr/>
        </p:nvSpPr>
        <p:spPr>
          <a:xfrm>
            <a:off x="2843280" y="4352760"/>
            <a:ext cx="85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nettore 1 5"/>
          <p:cNvSpPr/>
          <p:nvPr/>
        </p:nvSpPr>
        <p:spPr>
          <a:xfrm>
            <a:off x="4272120" y="4352760"/>
            <a:ext cx="85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nettore 1 6"/>
          <p:cNvSpPr/>
          <p:nvPr/>
        </p:nvSpPr>
        <p:spPr>
          <a:xfrm>
            <a:off x="5987880" y="4351320"/>
            <a:ext cx="857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nettore 1 7"/>
          <p:cNvSpPr/>
          <p:nvPr/>
        </p:nvSpPr>
        <p:spPr>
          <a:xfrm>
            <a:off x="7273800" y="4352760"/>
            <a:ext cx="857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534960" y="1281240"/>
            <a:ext cx="961884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dditività del capitale proprio può essere vista come il prodotto dell’azione congiunta di tre fatto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dditività operativa, espressa dal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truttura finanziaria, espressa dal rapporto di indebi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peso dei componenti non operativi, espresso dal tasso di incidenza del risultato netto sul risultato oper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eva finanziari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4600" y="1300320"/>
            <a:ext cx="9618840" cy="38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rapporto di indebitamento assume valore valori superiori ad uno e crescenti all’aumentare dell’indebitamento rispetto alle altre fonti del capita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le rapporto ha, dunque, un effetto amplificativo del ROE. Da qui il termine leva finanzi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alcune circostanze, dunque, l’azienda può migliorare la sua redditività netta facendo leva sul capitale di ter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genere il tasso di incidenza del risultato netto sul risultato operativo ha un valore inferiore ad uno e decrescente all’aumentare dei componenti non operativi. Tale tasso ha un effetto riduttivo sul RO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ffetto moltiplicativo e quello riduttivo tendono a compensa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redditività operativ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4360" y="1281240"/>
            <a:ext cx="961848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dditività operativa è la capacità di produrre reddito della produzione tipica e degli investimenti access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735280" y="3449520"/>
            <a:ext cx="10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651040" y="4495680"/>
            <a:ext cx="1262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735280" y="3290760"/>
            <a:ext cx="151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2843280" y="2575080"/>
            <a:ext cx="1009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1111320" y="4913280"/>
            <a:ext cx="21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840" bIns="518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2651040" y="313200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903400" y="3211560"/>
            <a:ext cx="675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12640" y="4067280"/>
            <a:ext cx="9618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ò essere scomposta nella redditività delle aree in cui si investe il capitale, in particolare la redditività del capitale investito nella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ttangolo 13"/>
          <p:cNvSpPr/>
          <p:nvPr/>
        </p:nvSpPr>
        <p:spPr>
          <a:xfrm>
            <a:off x="911880" y="2921040"/>
            <a:ext cx="1970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9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OI  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e determinanti del ROI e l’efficienza della gestion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85280" y="1352160"/>
            <a:ext cx="9618840" cy="23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due fattori costituiscono due aspetti fondamentali dell’efficienza economica della produzione tip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lazione tra prezzi di vendita e relativi costi opera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 grado di utilizzo delle risorse impiegate in detta prod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li fattori hanno pesi diversi a seconda delle specificità aziend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solidità patrimonia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85280" y="1280880"/>
            <a:ext cx="9620280" cy="13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truttura degli impieghi e delle fonti di cap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do di autonomia finanzi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pertura finanziaria delle immobilizzazioni e del magazz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struttura degli impieghi e delle fonti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47200" y="1241280"/>
            <a:ext cx="962028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ezioni dello Stato Patrimoniale è suddiviso in classi tipi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dici indicano l’incidenza delle singole classi sul totale della sezione d’apparten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do di elasticità degli impiegh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0">
              <a:lnSpc>
                <a:spcPct val="90000"/>
              </a:lnSpc>
              <a:buNone/>
              <a:tabLst>
                <a:tab algn="l" pos="0"/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978200" y="3273480"/>
            <a:ext cx="10094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892160" y="5450040"/>
            <a:ext cx="1179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2062080" y="3433680"/>
            <a:ext cx="1094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2062080" y="2638440"/>
            <a:ext cx="7574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892160" y="3195720"/>
            <a:ext cx="8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986120" y="3273480"/>
            <a:ext cx="714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3324240" y="4892760"/>
            <a:ext cx="6481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3129120" y="2995560"/>
            <a:ext cx="57229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ve C è l’attivo corr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547560" y="5688000"/>
            <a:ext cx="900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630360" y="5607000"/>
            <a:ext cx="934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800280" y="5845320"/>
            <a:ext cx="9342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5"/>
          <p:cNvSpPr/>
          <p:nvPr/>
        </p:nvSpPr>
        <p:spPr>
          <a:xfrm>
            <a:off x="557280" y="3852720"/>
            <a:ext cx="925812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do di rigidità delle fonti di capit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6"/>
          <p:cNvSpPr/>
          <p:nvPr/>
        </p:nvSpPr>
        <p:spPr>
          <a:xfrm>
            <a:off x="1857240" y="505152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689120" y="5130720"/>
            <a:ext cx="109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1486080" y="4495680"/>
            <a:ext cx="1633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F+C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1986120" y="5067360"/>
            <a:ext cx="757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3486240" y="4827600"/>
            <a:ext cx="66452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ve CN è il Capitale Netto e PF sono le passività conso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Analisi di bilancio (2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4600" y="1479600"/>
            <a:ext cx="961884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ende dalla prospettiva di osservazione dell’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organizza nelle due direttrici  della dimensione spaziale (una situazione di bilancio confrontata con altre) e temporale (più situazioni di bilancio nel te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informazioni sono per lo più di natura quantit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levano comunque le informazioni di natura qualititiva per le finalità dell’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l grado di autonomia finanziari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4600" y="1398600"/>
            <a:ext cx="96188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quozienti di autonomia finanziar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2144880" y="2322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1052640" y="2560680"/>
            <a:ext cx="12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128600" y="1924200"/>
            <a:ext cx="8575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305000" y="2719440"/>
            <a:ext cx="587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2567160" y="2352600"/>
            <a:ext cx="774360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ve T sono le passività in senso str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219320" y="4229280"/>
            <a:ext cx="588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1057320" y="3433680"/>
            <a:ext cx="857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714240" y="4545000"/>
            <a:ext cx="1516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966960" y="4068720"/>
            <a:ext cx="109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135080" y="4229280"/>
            <a:ext cx="841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4"/>
          <p:cNvSpPr/>
          <p:nvPr/>
        </p:nvSpPr>
        <p:spPr>
          <a:xfrm>
            <a:off x="2397240" y="3710160"/>
            <a:ext cx="774360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rime il peso assunto dai mezzi propri sul totale della provvista di capit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2482920" y="5450040"/>
            <a:ext cx="7912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57280" y="5321160"/>
            <a:ext cx="9645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rimono la capacità dell’azienda di operare in relativa indipendenza dai creditori e, per certi versi, indicano la capacità di indebit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4600" y="30600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Copertura delle immobilizzazioni e del magazzin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14360" y="1280880"/>
            <a:ext cx="9618480" cy="13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a equilibrata correlazione strutturale tra fonti e impieghi è indispensabile per non incorrere in stati di tensione finanzi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importante coprire con il Capitale Netto ed il Passivo Fisso l’Attivo Fisso e quella parte dell’Attivo Corrente che si rinnova per ro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Gli indicatori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4600" y="1352520"/>
            <a:ext cx="96188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capitale circolante n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3913200" y="2638440"/>
            <a:ext cx="67755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 sono le attività correnti e PC le passività cor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700200" y="3352680"/>
            <a:ext cx="9426600" cy="11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C + AF = CN + PC+ PF;   AC – PC = CN + PF - A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CN = CN + PF -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630360" y="5122800"/>
            <a:ext cx="968040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condizioni funzionali assume segno positivo e rappresenta la quota di impieghi in attività correnti che può ritenersi coperta da fonti conso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ttangolo 6"/>
          <p:cNvSpPr/>
          <p:nvPr/>
        </p:nvSpPr>
        <p:spPr>
          <a:xfrm>
            <a:off x="415800" y="2567160"/>
            <a:ext cx="375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363600" indent="-363600">
              <a:lnSpc>
                <a:spcPct val="9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CN = AC – PC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l quoziente di copertura delle immobilizzazioni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"/>
          <p:cNvSpPr/>
          <p:nvPr/>
        </p:nvSpPr>
        <p:spPr>
          <a:xfrm>
            <a:off x="1639800" y="2590920"/>
            <a:ext cx="13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809720" y="1955880"/>
            <a:ext cx="4208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343160" y="1955880"/>
            <a:ext cx="18572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N + 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978200" y="2747880"/>
            <a:ext cx="7585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914640" y="2066760"/>
            <a:ext cx="555336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rime l’esistenza o meno di un certo equilibrio strutturale fra fonti consolidate e impieghi in attività immobilizzate da cui promana la porzione più cospicua del fabbisogno durevole di capi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700200" y="3638520"/>
            <a:ext cx="95122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iché anche una parte di attivo corrente va coperta con capitale netto o passivo consolidato l’indice, in condizioni funzionali, deve assumere valori maggiori di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4600" y="303120"/>
            <a:ext cx="96188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l quoziente di copertura delle immobilizzazioni (2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"/>
          <p:cNvSpPr/>
          <p:nvPr/>
        </p:nvSpPr>
        <p:spPr>
          <a:xfrm>
            <a:off x="1639800" y="2590920"/>
            <a:ext cx="13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809720" y="1955880"/>
            <a:ext cx="4208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43200" y="1874880"/>
            <a:ext cx="10000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1978200" y="2747880"/>
            <a:ext cx="7585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240000" y="2193840"/>
            <a:ext cx="744876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oziente di autocopertura delle immobilizzazioni indica il grado di copertura degli impieghi in attività immobilizzate mediante finanziamenti a titolo di capitale prop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882720" y="5607000"/>
            <a:ext cx="875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43080" y="3852720"/>
            <a:ext cx="993132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significato analogo c’è il margine di struttura: MS = CN – A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strettamente legato al capitale circolante n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tabLst>
                <a:tab algn="l" pos="0"/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CN = CN + PF – AF; MS = CN – AF; MS = CCN – P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situazione di liquidità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4360" y="1280880"/>
            <a:ext cx="9618480" cy="28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oziente di liquidità gene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quoziente di liquidità prim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argine di tesor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periodo medio di copertura del magazz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urata media dei crediti commerc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urata media dei debiti commerci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l quoziente di liquidità medi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281240"/>
            <a:ext cx="9618840" cy="6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formula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1057320" y="2968560"/>
            <a:ext cx="12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225440" y="2333520"/>
            <a:ext cx="100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233360" y="2333520"/>
            <a:ext cx="9288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1162080" y="2968560"/>
            <a:ext cx="857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843280" y="2495520"/>
            <a:ext cx="572436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rime la capacità dell’azienda a far fronte alle uscite future dell’esercizio successivo con i mezzi liquidi a disposizione e con le entrate future provenienti dal realizzo delle attività corr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a procedura di analisi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639800" y="2422440"/>
            <a:ext cx="10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485640" y="1281240"/>
            <a:ext cx="8921880" cy="38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ferimento alla situazione economica generale e dello specifico settore di 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hiamo alla dimensione spazio tempo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processo di riclass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lta del sistema degli indic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dicatori della situazione econo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dicatori della situazione fianz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ndicatori della situazione patrimon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3636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menti ed ipo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Il commento finale: elementi di sintesi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1639800" y="2422440"/>
            <a:ext cx="109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985680" y="2852640"/>
            <a:ext cx="892188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dditività netta e caratteristica: situazione, evoluzione, din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tuazione finanziaria: Autonomia, CCN, durata, liquid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tuazione patrimoniale: Capitale n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’analisi di bilancio: obiettivo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4600" y="1398600"/>
            <a:ext cx="9618840" cy="33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analisi di bilancio è volta a controllare l’equilibrio economico del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getto dell’analisi è, in primis, l’andamento economico della gestione: la capacità, attraverso i ricavi, di remunerare tutti i costi lasciando un margine di profi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secondo luogo sono indagate anche le condizioni di equilibrio finanziario e patrimoniale: nel primo caso, equilibrio tra entrate e uscite e, nel secondo, tra impieghi e fonti di capi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isi economica, finanziaria e patrimoniale sono strettamente interrelate per l’apprezzamento dell’equilibrio e delle prospettive dell’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parla quindi di analisi economico / finanziaria / patrimon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Diversi livelli di analisi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4600" y="1318680"/>
            <a:ext cx="961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hi effettua l’anali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rezione aziendale per apprezzamento interno del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ista esterno per l’apprezzamento della gestione, es. per la concessione del cre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i utilizz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distingue quindi t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isi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20800" indent="-3636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alisi es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’analisi intern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4600" y="1352160"/>
            <a:ext cx="9618840" cy="28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tratta di un’analisi complessiva di tutti gli aspetti della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 affidamento su tutti i dati aziendali e quindi può essere anche molto artico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finalizzata all’apprezzamento della gestione da parte degli amministratori per il governo dell’i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upposto fondamentale è la presenza in azienda di un sistema più o meno evoluto ed affidabile di contabilità e in particolare di controllo di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’analisi esterna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4600" y="1352160"/>
            <a:ext cx="961884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’ effettuata dall’analista es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ede ai soli dati di bilancio pubblicati e disponibili e non ai dati di contab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utilizzano principalmente quindi i dati di bilancio e, se disponibili, i dati extra-bilancio che l’analista riesce ad ottenere eventualmente dai contatti con la società e/o altrimenti disponibi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ò essere posta in essere dall’imprenditore sui bilanci di altri aziende (ad esempio sulle aziende concorrenti) per analisi di posizionamento 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96188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it-IT" sz="3000" spc="-1" strike="noStrike">
                <a:solidFill>
                  <a:srgbClr val="0066ff"/>
                </a:solidFill>
                <a:latin typeface="Arial"/>
              </a:rPr>
              <a:t>L’analisi esterna (2)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4600" y="1376280"/>
            <a:ext cx="961884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impossibilità di accedere ai dati gestionali interni limita l’analisi es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tratta di un’analisi parz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condizionata dai limiti della capacità segnaletica dei soli dati di bilan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 condizionata dalle capacità professionali, dall’intuito e dalla sensibilità dell’an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6360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arzialità del quadro conoscitivo comporta dei rischi nell’anali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0:02:53Z</dcterms:created>
  <dc:creator>PwC</dc:creator>
  <dc:description/>
  <dc:language>en-US</dc:language>
  <cp:lastModifiedBy>rossi</cp:lastModifiedBy>
  <cp:lastPrinted>2002-01-22T16:39:19Z</cp:lastPrinted>
  <dcterms:modified xsi:type="dcterms:W3CDTF">2008-07-21T15:23:12Z</dcterms:modified>
  <cp:revision>1244</cp:revision>
  <dc:subject>A-4 Design Template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endixText">
    <vt:lpwstr>Appendice</vt:lpwstr>
  </property>
  <property fmtid="{D5CDD505-2E9C-101B-9397-08002B2CF9AE}" pid="3" name="Date completed">
    <vt:lpwstr>22 Gennaio, 2002</vt:lpwstr>
  </property>
  <property fmtid="{D5CDD505-2E9C-101B-9397-08002B2CF9AE}" pid="4" name="DraftStamp">
    <vt:lpwstr>Bozza</vt:lpwstr>
  </property>
  <property fmtid="{D5CDD505-2E9C-101B-9397-08002B2CF9AE}" pid="5" name="ExecSumSlideTitle">
    <vt:lpwstr>Altri Aspetti</vt:lpwstr>
  </property>
  <property fmtid="{D5CDD505-2E9C-101B-9397-08002B2CF9AE}" pid="6" name="Release">
    <vt:lpwstr>2.1 (Italia)</vt:lpwstr>
  </property>
  <property fmtid="{D5CDD505-2E9C-101B-9397-08002B2CF9AE}" pid="7" name="TOCHeadCol1">
    <vt:lpwstr>Sezione</vt:lpwstr>
  </property>
  <property fmtid="{D5CDD505-2E9C-101B-9397-08002B2CF9AE}" pid="8" name="TOCHeadCol2">
    <vt:lpwstr>Pagina</vt:lpwstr>
  </property>
  <property fmtid="{D5CDD505-2E9C-101B-9397-08002B2CF9AE}" pid="9" name="TOCMainTitle">
    <vt:lpwstr>Indice</vt:lpwstr>
  </property>
  <property fmtid="{D5CDD505-2E9C-101B-9397-08002B2CF9AE}" pid="10" name="TemplatePath">
    <vt:lpwstr>c:\TSTemp\</vt:lpwstr>
  </property>
  <property fmtid="{D5CDD505-2E9C-101B-9397-08002B2CF9AE}" pid="11" name="UnnumberedSectionTitle">
    <vt:lpwstr>Deal Issues Business and Financial Review Points Clés pour la Transaction Revue Opérationnelle et Financière Annexe</vt:lpwstr>
  </property>
</Properties>
</file>